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C9C-5CFB-4BE6-9CDB-B3FD86AD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3D9B-CCA6-4829-BF11-5916F06B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07CE-EB79-40D2-A9BC-C82E9E8B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A237-AF1D-4178-92C7-036BA554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00A9-6FCE-4969-B3AD-DAE326DF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E32-EE2A-4D4D-A80E-852B080B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13C8-64C6-40A2-A4B4-0A9F7FD7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EA7-54CA-4479-A3A1-B8A54F1A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4C61-6BB0-4822-BA92-2F60D343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CDD-A52F-4F8D-A278-586EB0AC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E9A-841A-414E-885A-43C61EA2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08A-860D-4E58-8C8E-FD267E6A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E510-BD2A-451F-91BA-B477CF68B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42920" y="549360"/>
            <a:ext cx="77058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How to Disciple (Discipline) Your Childr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Ephesians 6:4; Colossian 3: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549360"/>
            <a:ext cx="835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athers do not provoke or irritate or fret your children – do not be hard on them; lest they become discouraged and sullen and morose and feel inferior and frustrated and do not break their spirit.” (Colossians 3:21 Amplifi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0"/>
            <a:ext cx="835200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1. Discipline implies 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L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a. How to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 Black"/>
                <a:ea typeface="Arial Unicode MS"/>
              </a:rPr>
              <a:t>EMBITTE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 your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i.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 Black"/>
                <a:ea typeface="Arial Unicode MS"/>
              </a:rPr>
              <a:t>CRITIC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ii. Over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 Black"/>
                <a:ea typeface="Arial Unicode MS"/>
              </a:rPr>
              <a:t>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iii. No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 Black"/>
                <a:ea typeface="Arial Unicode MS"/>
              </a:rPr>
              <a:t>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vi.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 Black"/>
                <a:ea typeface="Arial Unicode MS"/>
              </a:rPr>
              <a:t>UN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vii.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 Black"/>
                <a:ea typeface="Arial Unicode MS"/>
              </a:rPr>
              <a:t>COMP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viii. Don’t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ADMIT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 you own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0"/>
            <a:ext cx="83520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. How to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 Black"/>
              </a:rPr>
              <a:t>LOV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your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a. Give them opportunity to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 Black"/>
                <a:ea typeface="Arial"/>
              </a:rPr>
              <a:t>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b. Do what they want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 Black"/>
                <a:ea typeface="Arial"/>
              </a:rPr>
              <a:t>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 Black"/>
                <a:ea typeface="Arial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d. Creativ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 Black"/>
                <a:ea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e. Let them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 Black"/>
                <a:ea typeface="Arial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adul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f. Family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 Black"/>
                <a:ea typeface="Arial"/>
              </a:rPr>
              <a:t>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g. Family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 Black"/>
                <a:ea typeface="Arial"/>
              </a:rPr>
              <a:t>HOL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2. Disciplines implie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 Black"/>
              </a:rPr>
              <a:t>COR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.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 Black"/>
              </a:rPr>
              <a:t>HOW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f cor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t the time, discipline isn't much fun. It always feels like it's going against the grain. Later, of course, it pays off handsomely, for it's the well-trained who find themselves mature in their relationship with God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(Hebrews 12:11 MS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oever refuses to spank his son hates him, but whoever loves his son disciplines him from early 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(Proverbs 13:24 G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e also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Proverbs 22:15; 23:13, 14; 29: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. Th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 Black"/>
              </a:rPr>
              <a:t>WHERE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of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verbs 10:13; 19:29; 26: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. Th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 Black"/>
              </a:rPr>
              <a:t>WHY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of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3. Discipline implie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 Black"/>
              </a:rPr>
              <a:t>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a.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 Black"/>
              </a:rPr>
              <a:t>TEACH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by the Scrip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Deuteronomy 11:18,19; Proverbs 22:6; 2 Timothy 3:14,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b.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 Black"/>
              </a:rPr>
              <a:t>TEACH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by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nclus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arenthood is the process of making disciples of your children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Dr Henry Bran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04:27:52Z</dcterms:created>
  <dc:creator>RogLang</dc:creator>
  <dc:description/>
  <dc:language>en-US</dc:language>
  <cp:lastModifiedBy>RogLang</cp:lastModifiedBy>
  <dcterms:modified xsi:type="dcterms:W3CDTF">2010-09-06T05:28:30Z</dcterms:modified>
  <cp:revision>3</cp:revision>
  <dc:subject/>
  <dc:title>Slide 1</dc:title>
</cp:coreProperties>
</file>