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0C4D18-3604-45A0-BEFA-C5FD7912F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8BE672-3B82-4903-9B24-253541C65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7C7E67-5E9F-409D-94CA-7589C8F73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5FDFA5-F8CA-40EE-A346-C0E4B5498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F58CA-40C7-49BE-BAF5-CDAC138B7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3AB06-71CE-4991-9FA5-A88097A9F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94954-79E2-40EC-ACA4-A8AE44244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D24D6-5E83-47B6-8C22-4C88181A2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4F13D-5A05-4A2A-8CA2-7895589A1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6FD8A-B072-43BF-BDAF-84EED98C3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4C1DA-56B0-4436-B91B-2EA5FC57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A514CF-887F-4DF6-A4EB-284A9020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85A68-9AA0-4298-AFD4-7E27961DC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474F1-BDF4-45EB-87C2-FB7098AF3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9A09E-8198-47CB-BBD0-D5598D875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10744-6210-4F79-A8DB-7DDD1C739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00EDD-52A4-4508-9560-AD9EBAE16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6F0C30-08DF-4223-BEB2-E3A32F920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2DBD09-0B83-4748-AEB2-13DF064C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C02FFB-D3F3-447C-878D-5FBFE4BC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0F5C1B-F3F5-4F7D-A3E3-49EB43D1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DE70FB-154A-44D5-84E3-D267A11A4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67300C-11C5-40CF-95CA-0244B4CD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E07D55-0541-4ACD-9879-A9FE44126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5BAE-8CFC-4B5E-8C92-BD6804144296}" type="slidenum">
              <a:rPr b="0" lang="en-AU"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BE28-92D7-4350-8F9E-57F20C759AFB}" type="slidenum">
              <a:rPr b="0" lang="en-A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826920" y="765000"/>
            <a:ext cx="72741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ea typeface="Arial Unicode MS"/>
              </a:rPr>
              <a:t>Marks of Discipleship – Creative Burden Bearing</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Arial Unicode MS"/>
              </a:rPr>
              <a:t>Galatians 6: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826920" y="765000"/>
            <a:ext cx="727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Introductio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Bear ye one another's burdens, and so fulfil the law of Chris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Galatians 6: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For every man shall bear his own burd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Galatians 6:5</a:t>
            </a:r>
            <a:r>
              <a:rPr b="0" lang="en-US" sz="2400" spc="-1" strike="noStrike">
                <a:solidFill>
                  <a:srgbClr val="ffff00"/>
                </a:solidFill>
                <a:latin typeface="Arial Black"/>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0" y="0"/>
            <a:ext cx="9144000" cy="57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Brethren, if a man be overtaken in a fault, you who are spiritual, restore such a one in the spirit of meekness; considering your-self, in case you also are tempted. Bear one another's burdens, and so fulfil the law of Christ. For, if a man thinks himself to be something when he is nothing, he deceives himself.  But let every man prove his own work, and then shall he have rejoicing in himself alone, and not in another. For every man shall bear his own burden.</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alatians 6: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0" y="0"/>
            <a:ext cx="914400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1. Bear </a:t>
            </a:r>
            <a:r>
              <a:rPr b="1" lang="en-US" sz="3600" spc="-1" strike="noStrike" u="sng">
                <a:solidFill>
                  <a:srgbClr val="ffff00"/>
                </a:solidFill>
                <a:uFillTx/>
                <a:latin typeface="Arial Black"/>
              </a:rPr>
              <a:t>ONE</a:t>
            </a:r>
            <a:r>
              <a:rPr b="1" lang="en-US" sz="3600" spc="-1" strike="noStrike">
                <a:solidFill>
                  <a:srgbClr val="ffffff"/>
                </a:solidFill>
                <a:latin typeface="Arial Black"/>
              </a:rPr>
              <a:t> </a:t>
            </a:r>
            <a:r>
              <a:rPr b="1" lang="en-US" sz="3600" spc="-1" strike="noStrike" u="sng">
                <a:solidFill>
                  <a:srgbClr val="ffff00"/>
                </a:solidFill>
                <a:uFillTx/>
                <a:latin typeface="Arial Black"/>
              </a:rPr>
              <a:t>ANOTHER’S</a:t>
            </a:r>
            <a:r>
              <a:rPr b="1" lang="en-US" sz="3600" spc="-1" strike="noStrike">
                <a:solidFill>
                  <a:srgbClr val="ffffff"/>
                </a:solidFill>
                <a:latin typeface="Arial Black"/>
              </a:rPr>
              <a:t> burdens (verse 2)</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se last men have worked only one hour, and you have made them equal to us who have borne the </a:t>
            </a:r>
            <a:r>
              <a:rPr b="1" lang="en-US" sz="2400" spc="-1" strike="noStrike">
                <a:solidFill>
                  <a:srgbClr val="ffffff"/>
                </a:solidFill>
                <a:latin typeface="Arial Black"/>
              </a:rPr>
              <a:t>burden (baros)</a:t>
            </a:r>
            <a:r>
              <a:rPr b="0" lang="en-US" sz="2400" spc="-1" strike="noStrike">
                <a:solidFill>
                  <a:srgbClr val="ffffff"/>
                </a:solidFill>
                <a:latin typeface="Arial Black"/>
              </a:rPr>
              <a:t> and the scorching heat of the day.'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atthew 20:12 NASB</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ive creatively, friends. If someone falls into sin, forgivingly restore him, saving your critical comments for yourself. You might be needing forgiveness before the day's ou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Galatians 6:1 MS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2">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0"/>
            <a:ext cx="9144000" cy="640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2. Every man shall bear his </a:t>
            </a:r>
            <a:r>
              <a:rPr b="1" lang="en-US" sz="3600" spc="-1" strike="noStrike" u="sng">
                <a:solidFill>
                  <a:srgbClr val="ffff00"/>
                </a:solidFill>
                <a:uFillTx/>
                <a:latin typeface="Arial Black"/>
              </a:rPr>
              <a:t>OWN</a:t>
            </a:r>
            <a:r>
              <a:rPr b="1" lang="en-US" sz="3600" spc="-1" strike="noStrike">
                <a:solidFill>
                  <a:srgbClr val="ffffff"/>
                </a:solidFill>
                <a:latin typeface="Arial Black"/>
              </a:rPr>
              <a:t> burden (verse 5)</a:t>
            </a:r>
            <a:r>
              <a:rPr b="1"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or every man must 'shoulder his own pack.'" </a:t>
            </a:r>
            <a:r>
              <a:rPr b="0" lang="en-US" sz="1800" spc="-1" strike="noStrike">
                <a:solidFill>
                  <a:srgbClr val="ffff00"/>
                </a:solidFill>
                <a:latin typeface="Arial Black"/>
              </a:rPr>
              <a:t>Galatians 6:5</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or we must all appear before the judgment seat of Christ, so that each one may be recompensed for his deeds in the body, according to what he has done, whether good or bad.”</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2 Corinthians 5:10 NASB</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o then every one of us shall give account of himself to God"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Romans 14:12</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
            </a:r>
            <a:r>
              <a:rPr b="0" lang="en-US" sz="1800" spc="-1" strike="noStrike">
                <a:solidFill>
                  <a:srgbClr val="ffffff"/>
                </a:solidFill>
                <a:latin typeface="Arial Black"/>
              </a:rPr>
              <a:t>Each of you must take responsibility for doing the creative best you can with your own life.” </a:t>
            </a:r>
            <a:r>
              <a:rPr b="0" lang="en-US" sz="1800" spc="-1" strike="noStrike">
                <a:solidFill>
                  <a:srgbClr val="ffff00"/>
                </a:solidFill>
                <a:latin typeface="Arial Black"/>
              </a:rPr>
              <a:t>Galatians 6:5 MSG</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y guilt has overwhelmed me. Like a heavy load, it is more than I can bear.” </a:t>
            </a:r>
            <a:r>
              <a:rPr b="0" lang="en-US" sz="1800" spc="-1" strike="noStrike">
                <a:solidFill>
                  <a:srgbClr val="ffff00"/>
                </a:solidFill>
                <a:latin typeface="Arial Black"/>
              </a:rPr>
              <a:t>Psalm 38: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f you are tired from carrying heavy burdens, come to me and I will give you rest.” </a:t>
            </a:r>
            <a:r>
              <a:rPr b="0" lang="en-US" sz="1800" spc="-1" strike="noStrike">
                <a:solidFill>
                  <a:srgbClr val="ffff00"/>
                </a:solidFill>
                <a:latin typeface="Arial Black"/>
              </a:rPr>
              <a:t>Matthew 11:2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
                                            <p:txEl>
                                              <p:pRg st="7" end="7"/>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3">
                                            <p:txEl>
                                              <p:pRg st="10" end="1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3">
                                            <p:txEl>
                                              <p:pRg st="12" end="1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Response</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900000" y="3141720"/>
            <a:ext cx="7201080" cy="93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4500720" y="404280"/>
            <a:ext cx="0" cy="2737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635280" y="1125360"/>
            <a:ext cx="1728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900000" y="1557000"/>
            <a:ext cx="0" cy="20876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24000" y="2133720"/>
            <a:ext cx="12236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8101080" y="1484280"/>
            <a:ext cx="0" cy="21607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451640" y="1916280"/>
            <a:ext cx="12970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11280" y="3933720"/>
            <a:ext cx="0" cy="935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8748720" y="260280"/>
            <a:ext cx="0" cy="1224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826920" y="436572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LOST</a:t>
            </a:r>
            <a:endParaRPr b="0" lang="en-US" sz="1800" spc="-1" strike="noStrike">
              <a:solidFill>
                <a:srgbClr val="ffffff"/>
              </a:solidFill>
              <a:latin typeface="Arial"/>
            </a:endParaRPr>
          </a:p>
        </p:txBody>
      </p:sp>
      <p:sp>
        <p:nvSpPr>
          <p:cNvPr id="115" name=""/>
          <p:cNvSpPr/>
          <p:nvPr/>
        </p:nvSpPr>
        <p:spPr>
          <a:xfrm>
            <a:off x="2556000" y="54936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N NOT IN</a:t>
            </a:r>
            <a:endParaRPr b="0" lang="en-US" sz="1800" spc="-1" strike="noStrike">
              <a:solidFill>
                <a:srgbClr val="ffffff"/>
              </a:solidFill>
              <a:latin typeface="Arial"/>
            </a:endParaRPr>
          </a:p>
        </p:txBody>
      </p:sp>
      <p:sp>
        <p:nvSpPr>
          <p:cNvPr id="116" name=""/>
          <p:cNvSpPr/>
          <p:nvPr/>
        </p:nvSpPr>
        <p:spPr>
          <a:xfrm>
            <a:off x="1042920" y="162864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N AND IN</a:t>
            </a:r>
            <a:endParaRPr b="0" lang="en-US" sz="1800" spc="-1" strike="noStrike">
              <a:solidFill>
                <a:srgbClr val="ffffff"/>
              </a:solidFill>
              <a:latin typeface="Arial"/>
            </a:endParaRPr>
          </a:p>
        </p:txBody>
      </p:sp>
      <p:sp>
        <p:nvSpPr>
          <p:cNvPr id="117" name=""/>
          <p:cNvSpPr/>
          <p:nvPr/>
        </p:nvSpPr>
        <p:spPr>
          <a:xfrm>
            <a:off x="6300720" y="1413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 NOT ON</a:t>
            </a:r>
            <a:endParaRPr b="0" lang="en-US" sz="1800" spc="-1" strike="noStrike">
              <a:solidFill>
                <a:srgbClr val="ffffff"/>
              </a:solidFill>
              <a:latin typeface="Arial"/>
            </a:endParaRPr>
          </a:p>
        </p:txBody>
      </p:sp>
      <p:sp>
        <p:nvSpPr>
          <p:cNvPr id="118" name=""/>
          <p:cNvSpPr/>
          <p:nvPr/>
        </p:nvSpPr>
        <p:spPr>
          <a:xfrm>
            <a:off x="7451640" y="2602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VED</a:t>
            </a:r>
            <a:endParaRPr b="0" lang="en-US" sz="1800" spc="-1" strike="noStrike">
              <a:solidFill>
                <a:srgbClr val="ffffff"/>
              </a:solidFill>
              <a:latin typeface="Arial"/>
            </a:endParaRPr>
          </a:p>
        </p:txBody>
      </p:sp>
      <p:sp>
        <p:nvSpPr>
          <p:cNvPr id="119" name=""/>
          <p:cNvSpPr/>
          <p:nvPr/>
        </p:nvSpPr>
        <p:spPr>
          <a:xfrm>
            <a:off x="4788000" y="4221000"/>
            <a:ext cx="41400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e have all strayed like sheep. Each one of us has turned to go his own way, and the LORD has laid all our sins on hi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saiah 53:6 GW)</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179280" y="5013360"/>
            <a:ext cx="4608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
            </a:r>
            <a:r>
              <a:rPr b="0" lang="en-US" sz="1800" spc="-1" strike="noStrike">
                <a:solidFill>
                  <a:srgbClr val="ffffff"/>
                </a:solidFill>
                <a:latin typeface="Arial Black"/>
              </a:rPr>
              <a:t>Christ carried the burden of our sins. He was nailed to the cross, so that we would stop sinning and start living right. By his cuts and bruises you are h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1 Peter 2:24 CE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06:20:28Z</dcterms:created>
  <dc:creator>RogLang</dc:creator>
  <dc:description/>
  <dc:language>en-US</dc:language>
  <cp:lastModifiedBy>RogLang</cp:lastModifiedBy>
  <dcterms:modified xsi:type="dcterms:W3CDTF">2010-10-21T10:08:24Z</dcterms:modified>
  <cp:revision>3</cp:revision>
  <dc:subject/>
  <dc:title>Slide 1</dc:title>
</cp:coreProperties>
</file>