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91028-E355-43BE-8DBB-3F476F0F8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D77F6-3F15-4E53-ABC8-21107AF82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0EA31-1381-4D6E-85F4-B7E5EDADD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4FEC0-DD32-4BA4-9982-387C32992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F1D04-C821-4156-B9B1-D4F6979D3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7DB3B-D3EA-4EA2-BD43-142035CE4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2E3CD-7290-482D-98AE-6F08727DC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E9870-8091-4E1B-9E2D-C7C799B1B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9C48B-D33E-48BB-BDC7-512E8C1BC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F7BFC-B77D-4172-8CAF-0B3EDB1AE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5907A-1121-4D8C-9128-0A5856862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867A6-EFC1-459C-A7C1-097252DEB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8B97-CD37-4E61-BF85-8A288A4B0DC3}"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1258920" y="620640"/>
            <a:ext cx="6408720" cy="308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8000"/>
                </a:solidFill>
                <a:latin typeface="Arial Black"/>
                <a:ea typeface="Arial Unicode MS"/>
              </a:rPr>
              <a:t>Gone Fishin'</a:t>
            </a:r>
            <a:br>
              <a:rPr sz="8000"/>
            </a:br>
            <a:br>
              <a:rPr sz="8000"/>
            </a:br>
            <a:r>
              <a:rPr b="1" lang="en-US" sz="3600" spc="-1" strike="noStrike">
                <a:solidFill>
                  <a:srgbClr val="008000"/>
                </a:solidFill>
                <a:latin typeface="Arial Black"/>
                <a:ea typeface="Arial Unicode MS"/>
              </a:rPr>
              <a:t>John 21:1–18</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287280" y="0"/>
            <a:ext cx="88567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8000"/>
                </a:solidFill>
                <a:latin typeface="Arial Black"/>
                <a:ea typeface="新細明體"/>
              </a:rPr>
              <a:t>After this, Jesus appeared again to the disciples, this time at the Tiberias Sea (the Sea of Galilee). This is how he did it: Simon Peter, Thomas (nicknamed "Twin"), Nathanael from Cana in Galilee, the brothers Zebedee, and two other disciples were together. Simon Peter announced, "I'm going fishing." The rest of them replied, "We're going with you." They went out and got in the boat. They caught nothing that night.</a:t>
            </a:r>
            <a:r>
              <a:rPr b="0" lang="en-AU" sz="3200" spc="-1" strike="noStrike">
                <a:solidFill>
                  <a:srgbClr val="000000"/>
                </a:solidFill>
                <a:latin typeface="Arial Black"/>
                <a:ea typeface="新細明體"/>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287280" y="0"/>
            <a:ext cx="88567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8000"/>
                </a:solidFill>
                <a:latin typeface="Arial Black"/>
                <a:ea typeface="新細明體"/>
              </a:rPr>
              <a:t>When the sun came up, Jesus was standing on the beach, but they didn't recognize him. Jesus spoke to them: "Good morning! Did you catch anything for breakfast?" They answered, "No." He said, "Throw the net off the right side of the boat and see what happens." They did what he said. All of a sudden there were so many fish in it, they weren't strong enough to pull it in. Then the disciple Jesus loved said to Peter, "It's the Mast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287280" y="0"/>
            <a:ext cx="88567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8000"/>
                </a:solidFill>
                <a:latin typeface="Arial Black"/>
                <a:ea typeface="新細明體"/>
              </a:rPr>
              <a:t>When Simon Peter realized that it was the Master, he threw on some clothes, for he was stripped for work, and dove into the sea. The other disciples came in by boat for they weren't far from land, a hundred yards or so, pulling along the net full of fish. When they got out of the boat, they saw a fire laid, with fish and bread cooking on it. Jesus said, "Bring some of the fish you've just caught." Simon Peter joined them and pulled the net to shore--153 big fis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287280" y="0"/>
            <a:ext cx="88567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8000"/>
                </a:solidFill>
                <a:latin typeface="Arial Black"/>
                <a:ea typeface="新細明體"/>
              </a:rPr>
              <a:t>And even with all those fish, the net didn't rip. Jesus said, "Breakfast is ready." Not one of the disciples dared ask, "Who are you?" They knew it was the Master. Jesus then took the bread and gave it to them. He did the same with the fish. This was now the third time Jesus had shown himself alive to the disciples since being raised from the dead. After breakfast, Jesus said to Simon Peter, "Simon, son of John, do you love me more than these?"</a:t>
            </a:r>
            <a:r>
              <a:rPr b="0" lang="en-AU" sz="1800" spc="-1" strike="noStrike">
                <a:solidFill>
                  <a:srgbClr val="000000"/>
                </a:solidFill>
                <a:latin typeface="Arial"/>
                <a:ea typeface="新細明體"/>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287280" y="0"/>
            <a:ext cx="88567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Black"/>
              </a:rPr>
              <a:t>"Yes, Master, you know I love you." Jesus said, "Feed my lambs." He then asked a second time, "Simon, son of John, do you love me?" "Yes, Master, you know I love you." Jesus said, "Shepherd my sheep." Then he said it a third time: "Simon, son of John, do you love me?" Peter was upset that he asked for the third time, "Do you love me?" so he answered, "Master, you know everything there is to know. You've got to know that I love you." Jesus said, "Feed my sheep.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Black"/>
              </a:rPr>
              <a:t>(John 21:1-17 MS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287280" y="0"/>
            <a:ext cx="8856720" cy="643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Black"/>
              </a:rPr>
              <a:t>1. If we love Christ, we will </a:t>
            </a:r>
            <a:r>
              <a:rPr b="1" lang="en-US" sz="3200" spc="-1" strike="noStrike" u="sng">
                <a:solidFill>
                  <a:srgbClr val="009999"/>
                </a:solidFill>
                <a:uFillTx/>
                <a:latin typeface="Arial Black"/>
              </a:rPr>
              <a:t>CARE </a:t>
            </a:r>
            <a:r>
              <a:rPr b="1" lang="en-US" sz="3200" spc="-1" strike="noStrike">
                <a:solidFill>
                  <a:srgbClr val="008000"/>
                </a:solidFill>
                <a:latin typeface="Arial Black"/>
              </a:rPr>
              <a:t>about what he </a:t>
            </a:r>
            <a:r>
              <a:rPr b="1" lang="en-US" sz="3200" spc="-1" strike="noStrike" u="sng">
                <a:solidFill>
                  <a:srgbClr val="009999"/>
                </a:solidFill>
                <a:uFillTx/>
                <a:latin typeface="Arial Black"/>
              </a:rPr>
              <a:t>CARES</a:t>
            </a:r>
            <a:r>
              <a:rPr b="1" lang="en-US" sz="3200" spc="-1" strike="noStrike">
                <a:solidFill>
                  <a:srgbClr val="008000"/>
                </a:solidFill>
                <a:latin typeface="Arial Black"/>
              </a:rPr>
              <a:t> about</a:t>
            </a:r>
            <a:r>
              <a:rPr b="0" lang="en-US" sz="3200" spc="-1" strike="noStrike">
                <a:solidFill>
                  <a:srgbClr val="008000"/>
                </a:solidFill>
                <a:latin typeface="Arial Black"/>
              </a:rPr>
              <a:t>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Black"/>
              </a:rPr>
              <a:t>2. If we love Christ, we will </a:t>
            </a:r>
            <a:r>
              <a:rPr b="1" lang="en-US" sz="3200" spc="-1" strike="noStrike" u="sng">
                <a:solidFill>
                  <a:srgbClr val="009999"/>
                </a:solidFill>
                <a:uFillTx/>
                <a:latin typeface="Arial Black"/>
              </a:rPr>
              <a:t>STAY</a:t>
            </a:r>
            <a:r>
              <a:rPr b="1" lang="en-US" sz="3200" spc="-1" strike="noStrike">
                <a:solidFill>
                  <a:srgbClr val="008000"/>
                </a:solidFill>
                <a:latin typeface="Arial Black"/>
              </a:rPr>
              <a:t> on </a:t>
            </a:r>
            <a:r>
              <a:rPr b="1" lang="en-US" sz="3200" spc="-1" strike="noStrike" u="sng">
                <a:solidFill>
                  <a:srgbClr val="009999"/>
                </a:solidFill>
                <a:uFillTx/>
                <a:latin typeface="Arial Black"/>
              </a:rPr>
              <a:t>MISSION</a:t>
            </a:r>
            <a:r>
              <a:rPr b="1" lang="en-US" sz="3200" spc="-1" strike="noStrike">
                <a:solidFill>
                  <a:srgbClr val="008000"/>
                </a:solidFill>
                <a:latin typeface="Arial Black"/>
              </a:rPr>
              <a:t>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Black"/>
              </a:rPr>
              <a:t>“</a:t>
            </a:r>
            <a:r>
              <a:rPr b="0" lang="en-US" sz="2400" spc="-1" strike="noStrike">
                <a:solidFill>
                  <a:srgbClr val="008000"/>
                </a:solidFill>
                <a:latin typeface="Arial Black"/>
              </a:rPr>
              <a:t>Simon Peter announced, "I'm going fishing." The rest of them replied, "We're going with you." They went out and got in the boat. They caught nothing that nigh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Black"/>
              </a:rPr>
              <a:t>John 21:3</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Black"/>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Black"/>
              </a:rPr>
              <a:t>"There is nothing to fear. From now on you'll be fishing for men and women."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Black"/>
              </a:rPr>
              <a:t>Luke 5: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287280" y="0"/>
            <a:ext cx="8856720" cy="4500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Black"/>
              </a:rPr>
              <a:t>Response</a:t>
            </a:r>
            <a:endParaRPr b="0" lang="en-US" sz="4800" spc="-1" strike="noStrike">
              <a:solidFill>
                <a:srgbClr val="000000"/>
              </a:solidFill>
              <a:latin typeface="Arial"/>
            </a:endParaRPr>
          </a:p>
          <a:p>
            <a:pPr marL="343080" indent="-343080">
              <a:lnSpc>
                <a:spcPct val="100000"/>
              </a:lnSpc>
              <a:buClr>
                <a:srgbClr val="0099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99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99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Black"/>
              </a:rPr>
              <a:t>What are the fish in your life? </a:t>
            </a:r>
            <a:endParaRPr b="0" lang="en-US" sz="3200" spc="-1" strike="noStrike">
              <a:solidFill>
                <a:srgbClr val="000000"/>
              </a:solidFill>
              <a:latin typeface="Arial"/>
            </a:endParaRPr>
          </a:p>
          <a:p>
            <a:pPr marL="343080" indent="-343080">
              <a:lnSpc>
                <a:spcPct val="100000"/>
              </a:lnSpc>
              <a:buClr>
                <a:srgbClr val="0099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99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99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Black"/>
              </a:rPr>
              <a:t>I want you to hear Jesus say: Do you love me more than those fish?</a:t>
            </a:r>
            <a:r>
              <a:rPr b="0" lang="en-US" sz="1800" spc="-1" strike="noStrike">
                <a:solidFill>
                  <a:srgbClr val="0099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00:35:26Z</dcterms:created>
  <dc:creator>RogLang</dc:creator>
  <dc:description/>
  <dc:language>en-US</dc:language>
  <cp:lastModifiedBy>RogLang</cp:lastModifiedBy>
  <dcterms:modified xsi:type="dcterms:W3CDTF">2010-11-05T22:50:58Z</dcterms:modified>
  <cp:revision>3</cp:revision>
  <dc:subject/>
  <dc:title>Slide 1</dc:title>
</cp:coreProperties>
</file>