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914-66DE-40CF-8270-7BE74A33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EF8-C4D8-4E38-8EDC-2EE32E59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2C8-C86C-452D-AE96-2ABAAAFF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D2E-0EC5-4B98-B1CD-64CC059A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371-3D0E-4A80-8F06-0F68C437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DD4-5E91-422F-B46B-0F1A9635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6A0-45AA-4B3E-924A-31F556BC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75E-B422-4108-94B7-A3B7B721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FB0-4CAA-4B3A-B16B-6A439A1F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82B-4177-4BE4-A222-29BE5EDE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B77-7A53-4631-9885-8FDBC476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0BC-0C6C-4594-A692-FE8CCD11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459B-7BDF-4015-AF27-D70F4B496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Verdana"/>
              </a:rPr>
              <a:t>Blessed in Strange Plac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404640"/>
            <a:ext cx="842472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Verdana"/>
              </a:rPr>
              <a:t>Psalm 2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6600"/>
                </a:solidFill>
                <a:latin typeface="Arial"/>
              </a:rPr>
              <a:t>The LORD is my shepherd; I shall not want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6600"/>
                </a:solidFill>
                <a:latin typeface="Arial"/>
              </a:rPr>
              <a:t>He maketh me to lie down in green pas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Verdana"/>
              </a:rPr>
              <a:t>Psalm 2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6600"/>
                </a:solidFill>
                <a:latin typeface="Arial"/>
              </a:rPr>
              <a:t>He leadeth me in the paths of righteousness for His name's sak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6600"/>
                </a:solidFill>
                <a:latin typeface="Arial"/>
              </a:rPr>
              <a:t>Yea, though I walk through the valley of the shadow of death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Psalm 2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6600"/>
                </a:solidFill>
                <a:latin typeface="Arial"/>
              </a:rPr>
              <a:t>Thou preparest a table before me in the presence of mine enemi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Verdana"/>
              </a:rPr>
              <a:t>Psalm 2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Surely goodness and mercy shall follow me all the days of my lif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and I will dwell in the house of the LORD for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1:21:47Z</dcterms:created>
  <dc:creator>Belinda Koshy</dc:creator>
  <dc:description/>
  <dc:language>en-US</dc:language>
  <cp:lastModifiedBy>Vinay Koshy</cp:lastModifiedBy>
  <dcterms:modified xsi:type="dcterms:W3CDTF">2010-11-20T11:07:05Z</dcterms:modified>
  <cp:revision>3</cp:revision>
  <dc:subject/>
  <dc:title>Blessings in Strange Places</dc:title>
</cp:coreProperties>
</file>