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DB97-A065-4060-9907-E75FA090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65B-802F-496B-89CB-E212D3F9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6BA-D103-4C70-B7EE-1592228A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6430-AB89-42CD-B4C1-94D3547D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664AA-02D1-416F-87DB-6502245F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6F5E1-1BC8-4CD6-87ED-B029C4CF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DF4087-8E4B-4DD0-9106-D8B64BE2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665DD-9256-4B8A-B502-D66B0A9B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47F70-D068-44D8-8FD6-3FDC3FD8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C508D-EE7E-4EAA-9175-D38F1918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D06E6-1804-4276-A764-E58CC5D1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4B30-FDAF-43B2-9869-C3C46BF3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72E91-05FA-448F-9604-F8D72405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57046-E509-4F55-B55D-59725B2C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1F431-9FF0-46DF-B4FA-C9ECBB0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A419C-6AD4-42B1-9967-7EF9DF71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EBE18-49DD-4120-9E76-E9C6A1D2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8A0-6E5F-4F83-A99C-D9D88447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30BC-A1A3-4E74-96AA-094A579E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07AA-90DA-4BEE-98DC-3DDDE279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600"/>
            <a:ext cx="8228160" cy="64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E04-BAC4-4D88-BA25-824FBBA5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B84E-9E26-4A55-8DC3-C05A4EC6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F549-4342-46DB-93C0-EF1C2D33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FA0A-52FB-4B5D-955D-D02485F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816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A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81D492-CC24-42D2-A92B-04E9F7F90586}" type="slidenum"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F204FB-A2A7-4444-A70D-04ABDF831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228924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Tahoma"/>
              </a:rPr>
              <a:t>DREAMS FOR THE FUTUR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189000"/>
            <a:ext cx="662472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Hold fast to d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For if dreams d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Life is a broken-winged bi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That cannot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Hold fast to dre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For when dreams 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Life is a barren fi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Frozen with snow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Langston Hughes, “Dreams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42920" y="189000"/>
            <a:ext cx="6624720" cy="55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He is able to accomplish </a:t>
            </a:r>
            <a:r>
              <a:rPr b="0" lang="en-AU" sz="2800" spc="-1" strike="noStrike" u="sng">
                <a:solidFill>
                  <a:srgbClr val="ffffff"/>
                </a:solidFill>
                <a:uFillTx/>
                <a:latin typeface="Arial Black"/>
              </a:rPr>
              <a:t>more</a:t>
            </a: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 than we ask, imagine or dream.” </a:t>
            </a:r>
            <a:r>
              <a:rPr b="1" lang="en-AU" sz="1800" spc="-1" strike="noStrike">
                <a:solidFill>
                  <a:srgbClr val="ffff00"/>
                </a:solidFill>
                <a:latin typeface="Tahoma"/>
              </a:rPr>
              <a:t>Ephesians 3:20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..stir one another up to love and good works.”</a:t>
            </a:r>
            <a:r>
              <a:rPr b="0" lang="en-A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Tahoma"/>
              </a:rPr>
              <a:t>Hebrews 10: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 Black"/>
              </a:rPr>
              <a:t>“…</a:t>
            </a:r>
            <a:r>
              <a:rPr b="1" lang="en-AU" sz="2800" spc="-1" strike="noStrike">
                <a:solidFill>
                  <a:srgbClr val="ffffff"/>
                </a:solidFill>
                <a:latin typeface="Arial Black"/>
              </a:rPr>
              <a:t>we are God’s workmanship, created in Christ Jesus to do good works, which God prepared in advance for us to do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AU" sz="1800" spc="-1" strike="noStrike">
                <a:solidFill>
                  <a:srgbClr val="ffff00"/>
                </a:solidFill>
                <a:latin typeface="Tahoma"/>
              </a:rPr>
              <a:t>Ephesians 2: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042920" y="189000"/>
            <a:ext cx="662472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Definition of D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A God-given idea, plan, or goal that leads to God honouring results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Fantasy – it can’t really hap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 Black"/>
              </a:rPr>
              <a:t>Dream – it is within the realms of poss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133720"/>
            <a:ext cx="7201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 Black"/>
              </a:rPr>
              <a:t>During the Christmas/New Year brea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AU" sz="4800" spc="-1" strike="noStrike">
                <a:solidFill>
                  <a:srgbClr val="ffffff"/>
                </a:solidFill>
                <a:latin typeface="Arial Black"/>
              </a:rPr>
              <a:t>write more dreams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6:11:25Z</dcterms:created>
  <dc:creator>RogLang</dc:creator>
  <dc:description/>
  <dc:language>en-US</dc:language>
  <cp:lastModifiedBy>N Jarrrott</cp:lastModifiedBy>
  <dcterms:modified xsi:type="dcterms:W3CDTF">2010-12-26T10:03:39Z</dcterms:modified>
  <cp:revision>5</cp:revision>
  <dc:subject/>
  <dc:title>DREAMS FOR THE FUTURE</dc:title>
</cp:coreProperties>
</file>