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D27-BBCC-4240-88EF-4053D632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992-CE36-4F00-A7D1-DE7F1952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93B-EFAF-4EF0-9E41-0A17FA1F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713-7C59-4318-A86C-40D0B8BF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4CB-7EF8-4CB9-B7A0-52EE1D37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55A-2909-4DEA-8D32-49F2812B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DDD-82A6-4697-9757-2E78E015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BC3-47CE-4945-9E1A-9D0F596F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F5F-29D2-4BC6-A968-9D971100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4CF-FF8F-41B3-B5D3-D6A598C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A49-0E3C-4122-B423-1EA4512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BF2-3DD6-4597-A2B4-8D6D5D8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FFCD-884C-4A47-B20B-F3366BFAE357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197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OUR IDENTITY IN CHRI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197000"/>
            <a:ext cx="7920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WHAT OBSTACLES COULD KEEP US FROM ACHIEVING GOD’S DREA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EXTER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INTER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9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WHAT DOES GOD SAY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For as a man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thinks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within himself, so is h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Proverbs 23: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“…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be renewed in the spirit of your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mind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Ephesians 4:22-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Whatever is …true, honest, right, pure, lovely, of good report….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think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on these things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Philippians 4: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..take every thought captiv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2 Corinthians 10:3-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..your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minds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must be clear and ready for action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1 Peter 1: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`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70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IN WHAT WAYS CAN WE FULFILL THIS COMMAND TO RENEW OUR MIND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BY BELIEVING WHAT GOD SAYS ABOUT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NEED TO ACCEPT OUR IDENTITY IN CHRI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`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9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WHAT EFFECT DO THESE STATEMENTS HAVE ON OUR L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Help me to be who God wants me 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Overcome the lies of Sa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Overcome negative attitu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Overcome the internal obstacle that prevent me realising God’s dreams for my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HOW CAN WE REMIND OURSEL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Card in B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Hang on bathroom mi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3:01:20Z</dcterms:created>
  <dc:creator>RogLang</dc:creator>
  <dc:description/>
  <dc:language>en-US</dc:language>
  <cp:lastModifiedBy>RogLang</cp:lastModifiedBy>
  <dcterms:modified xsi:type="dcterms:W3CDTF">2010-12-31T05:55:36Z</dcterms:modified>
  <cp:revision>3</cp:revision>
  <dc:subject/>
  <dc:title>Slide 1</dc:title>
</cp:coreProperties>
</file>