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3A784-8F7A-4EAD-B49F-C6BA80135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93B49-D78B-4C89-ACAA-916EB8C34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DE46F-5A55-4702-9816-38603BA3D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D8C94-83B6-4F14-9CAC-901F84371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76ADC-1107-47D0-AA20-23FAC78A5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D8BBB-21A9-44D9-8B2A-DD3A49616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DECED-35D2-4E2F-B863-37F9C4B3E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9509B-277B-49DD-9521-3594385A5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594F0-BED6-495B-B941-894319C9F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C50C7-CFC0-4D6F-80EC-EDE68280F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0EC32-0887-470B-8E44-8921978D4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4B07A-9FFA-43F6-852D-1BBB58B02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86C63-4610-4755-AF5B-D99CDCCD6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02A20-E498-4DB1-A195-D3FCB8520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8A238-65B3-4A8B-9422-5A8B47D7C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D5471-853B-4DC8-920E-C1FB00CAB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456E8-BDFE-4EDC-830D-3342A8B8D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8E0CC-49C6-4B64-A557-113A9F19F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206E0-B215-4FDF-9608-3766E55FE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7082C-CF80-4157-85DA-5CC8C2A67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7C507-C134-4D7E-A359-C357879A5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A783E-7B2A-4DF1-8535-C4EE35A53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D7158-62E6-46BA-940E-ECA8096A3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691E1-F4AE-4D46-B3B6-8A07EEEAA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FDB1C-1B19-44EF-BB23-EDE47D0CCD8A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AC947-9CB3-48AA-B356-A6CA7A06E646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826920" y="1052640"/>
            <a:ext cx="72010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ahoma"/>
                <a:ea typeface="Arial Unicode MS"/>
              </a:rPr>
              <a:t>CORE VALUES # 1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ahoma"/>
                <a:ea typeface="Arial Unicode MS"/>
              </a:rPr>
              <a:t>“</a:t>
            </a:r>
            <a:r>
              <a:rPr b="1" lang="en-US" sz="6000" spc="-1" strike="noStrike">
                <a:solidFill>
                  <a:srgbClr val="ffffff"/>
                </a:solidFill>
                <a:latin typeface="Tahoma"/>
                <a:ea typeface="Arial Unicode MS"/>
              </a:rPr>
              <a:t>OUTWARD FOCUS”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0" y="0"/>
            <a:ext cx="8964720" cy="61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A. THE OLD TESTAMENT- FOUNDATION FOR  “OUTWARD FOCUS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1. </a:t>
            </a:r>
            <a:r>
              <a:rPr b="1" lang="en-US" sz="2400" spc="-1" strike="noStrike">
                <a:solidFill>
                  <a:srgbClr val="ffff00"/>
                </a:solidFill>
                <a:latin typeface="Tahoma"/>
                <a:ea typeface="Arial"/>
              </a:rPr>
              <a:t>CREATION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 – Our God has an outward focu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Genesis 1: 2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Genesis 3: 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2. </a:t>
            </a:r>
            <a:r>
              <a:rPr b="1" lang="en-US" sz="2400" spc="-1" strike="noStrike">
                <a:solidFill>
                  <a:srgbClr val="ffff00"/>
                </a:solidFill>
                <a:latin typeface="Tahoma"/>
                <a:ea typeface="Arial"/>
              </a:rPr>
              <a:t>ABRAHAM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 – was called to have an outward foc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Genesis 12:1-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3. </a:t>
            </a:r>
            <a:r>
              <a:rPr b="1" lang="en-US" sz="2400" spc="-1" strike="noStrike">
                <a:solidFill>
                  <a:srgbClr val="ffff00"/>
                </a:solidFill>
                <a:latin typeface="Tahoma"/>
                <a:ea typeface="Arial"/>
              </a:rPr>
              <a:t>The LAW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 – called Israel to have an outward foc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Deut. 28: 9 &amp;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4. The </a:t>
            </a: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PROPHETS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– called God’s people back to an outward foc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Isaiah 52: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0" y="333360"/>
            <a:ext cx="8964720" cy="619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5. The </a:t>
            </a:r>
            <a:r>
              <a:rPr b="1" lang="en-US" sz="2400" spc="-1" strike="noStrike">
                <a:solidFill>
                  <a:srgbClr val="ffff00"/>
                </a:solidFill>
                <a:latin typeface="Tahoma"/>
                <a:ea typeface="Arial"/>
              </a:rPr>
              <a:t>PSALMS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 – outward focus songs and poet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Psalm 96: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Psalm 2: 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6. God’s OT </a:t>
            </a:r>
            <a:r>
              <a:rPr b="1" lang="en-US" sz="2400" spc="-1" strike="noStrike">
                <a:solidFill>
                  <a:srgbClr val="ffff00"/>
                </a:solidFill>
                <a:latin typeface="Tahoma"/>
                <a:ea typeface="Arial"/>
              </a:rPr>
              <a:t>PROPHETS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 had an outward foc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ELISH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ESTH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JOSEP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DANIEL/DARI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JONA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/>
          <p:nvPr/>
        </p:nvSpPr>
        <p:spPr>
          <a:xfrm>
            <a:off x="0" y="333360"/>
            <a:ext cx="8964720" cy="65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Arial"/>
              </a:rPr>
              <a:t>B. THE NEW TESTAMENT – FULFILMENT OF “OUTWARD FOCUS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  <a:ea typeface="Arial"/>
              </a:rPr>
              <a:t>1. The </a:t>
            </a:r>
            <a:r>
              <a:rPr b="1" lang="en-US" sz="1800" spc="-1" strike="noStrike">
                <a:solidFill>
                  <a:srgbClr val="ffff00"/>
                </a:solidFill>
                <a:latin typeface="Tahoma"/>
                <a:ea typeface="Arial"/>
              </a:rPr>
              <a:t>Gospels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  <a:ea typeface="Arial"/>
              </a:rPr>
              <a:t> -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  <a:ea typeface="Arial"/>
              </a:rPr>
              <a:t>Roman </a:t>
            </a:r>
            <a:r>
              <a:rPr b="1" lang="en-US" sz="1800" spc="-1" strike="noStrike">
                <a:solidFill>
                  <a:srgbClr val="ffff00"/>
                </a:solidFill>
                <a:latin typeface="Tahoma"/>
                <a:ea typeface="Arial"/>
              </a:rPr>
              <a:t>CENTURI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  <a:ea typeface="Arial"/>
              </a:rPr>
              <a:t>Samaritan </a:t>
            </a:r>
            <a:r>
              <a:rPr b="1" lang="en-US" sz="1800" spc="-1" strike="noStrike">
                <a:solidFill>
                  <a:srgbClr val="ffff00"/>
                </a:solidFill>
                <a:latin typeface="Tahoma"/>
                <a:ea typeface="Arial"/>
              </a:rPr>
              <a:t>PROSTITU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  <a:ea typeface="Arial"/>
              </a:rPr>
              <a:t>Canaanite </a:t>
            </a:r>
            <a:r>
              <a:rPr b="1" lang="en-US" sz="1800" spc="-1" strike="noStrike">
                <a:solidFill>
                  <a:srgbClr val="ffff00"/>
                </a:solidFill>
                <a:latin typeface="Tahoma"/>
                <a:ea typeface="Arial"/>
              </a:rPr>
              <a:t>WOM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  <a:ea typeface="Arial"/>
              </a:rPr>
              <a:t>Luke 19:10         “that which was </a:t>
            </a:r>
            <a:r>
              <a:rPr b="1" lang="en-US" sz="1800" spc="-1" strike="noStrike">
                <a:solidFill>
                  <a:srgbClr val="ffff00"/>
                </a:solidFill>
                <a:latin typeface="Tahoma"/>
                <a:ea typeface="Arial"/>
              </a:rPr>
              <a:t>LOST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  <a:ea typeface="Arial"/>
              </a:rPr>
              <a:t>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  <a:ea typeface="Arial"/>
              </a:rPr>
              <a:t>John 3:16            “God so loved the </a:t>
            </a:r>
            <a:r>
              <a:rPr b="1" lang="en-US" sz="1800" spc="-1" strike="noStrike">
                <a:solidFill>
                  <a:srgbClr val="ffff00"/>
                </a:solidFill>
                <a:latin typeface="Tahoma"/>
                <a:ea typeface="Arial"/>
              </a:rPr>
              <a:t>WORLD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  <a:ea typeface="Arial"/>
              </a:rPr>
              <a:t>......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  <a:ea typeface="Arial"/>
              </a:rPr>
              <a:t>Matthew 28:19   “……all the </a:t>
            </a:r>
            <a:r>
              <a:rPr b="1" lang="en-US" sz="1800" spc="-1" strike="noStrike">
                <a:solidFill>
                  <a:srgbClr val="ffff00"/>
                </a:solidFill>
                <a:latin typeface="Tahoma"/>
                <a:ea typeface="Arial"/>
              </a:rPr>
              <a:t>NATIONS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  <a:ea typeface="Arial"/>
              </a:rPr>
              <a:t>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  <a:ea typeface="Arial"/>
              </a:rPr>
              <a:t>Mark 16:15         “……all </a:t>
            </a:r>
            <a:r>
              <a:rPr b="1" lang="en-US" sz="1800" spc="-1" strike="noStrike">
                <a:solidFill>
                  <a:srgbClr val="ffff00"/>
                </a:solidFill>
                <a:latin typeface="Tahoma"/>
                <a:ea typeface="Arial"/>
              </a:rPr>
              <a:t>CREATION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  <a:ea typeface="Arial"/>
              </a:rPr>
              <a:t>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  <a:ea typeface="Arial"/>
              </a:rPr>
              <a:t>Luke 24:47         “……all </a:t>
            </a:r>
            <a:r>
              <a:rPr b="1" lang="en-US" sz="1800" spc="-1" strike="noStrike">
                <a:solidFill>
                  <a:srgbClr val="ffff00"/>
                </a:solidFill>
                <a:latin typeface="Tahoma"/>
                <a:ea typeface="Arial"/>
              </a:rPr>
              <a:t>NATIONS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  <a:ea typeface="Arial"/>
              </a:rPr>
              <a:t>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  <a:ea typeface="Arial"/>
              </a:rPr>
              <a:t>John 20:21          “….I am </a:t>
            </a:r>
            <a:r>
              <a:rPr b="1" lang="en-US" sz="1800" spc="-1" strike="noStrike">
                <a:solidFill>
                  <a:srgbClr val="ffff00"/>
                </a:solidFill>
                <a:latin typeface="Tahoma"/>
                <a:ea typeface="Arial"/>
              </a:rPr>
              <a:t>SENDING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  <a:ea typeface="Arial"/>
              </a:rPr>
              <a:t> you”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0" y="333360"/>
            <a:ext cx="896472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2. </a:t>
            </a:r>
            <a:r>
              <a:rPr b="1" lang="en-US" sz="2400" spc="-1" strike="noStrike">
                <a:solidFill>
                  <a:srgbClr val="ffff00"/>
                </a:solidFill>
                <a:latin typeface="Tahoma"/>
                <a:ea typeface="Arial"/>
              </a:rPr>
              <a:t>ACTS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 – birth of an outward focus chur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Acts 1: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Acts 10:3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3. The </a:t>
            </a:r>
            <a:r>
              <a:rPr b="1" lang="en-US" sz="2400" spc="-1" strike="noStrike">
                <a:solidFill>
                  <a:srgbClr val="ffff00"/>
                </a:solidFill>
                <a:latin typeface="Tahoma"/>
                <a:ea typeface="Arial"/>
              </a:rPr>
              <a:t>EPIST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Letters to those for whom outward focus has become a way of lif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4. </a:t>
            </a:r>
            <a:r>
              <a:rPr b="1" lang="en-US" sz="2400" spc="-1" strike="noStrike">
                <a:solidFill>
                  <a:srgbClr val="ffff00"/>
                </a:solidFill>
                <a:latin typeface="Tahoma"/>
                <a:ea typeface="Arial"/>
              </a:rPr>
              <a:t>REVELATION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 – outward focus for all etern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Revelation 7:9-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Revelation 22: 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0" y="333360"/>
            <a:ext cx="8964720" cy="48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Arial"/>
              </a:rPr>
              <a:t>SO WHA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7146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7146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1. Jesus Christ is the </a:t>
            </a:r>
            <a:r>
              <a:rPr b="1" lang="en-US" sz="2400" spc="-1" strike="noStrike">
                <a:solidFill>
                  <a:srgbClr val="ffff00"/>
                </a:solidFill>
                <a:latin typeface="Tahoma"/>
                <a:ea typeface="Arial"/>
              </a:rPr>
              <a:t>ONLY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 Saviour of the world – there is salvations in no-one el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Acts 4:1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7146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7146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2. The Revelation of God’s </a:t>
            </a:r>
            <a:r>
              <a:rPr b="1" lang="en-US" sz="2400" spc="-1" strike="noStrike">
                <a:solidFill>
                  <a:srgbClr val="ffff00"/>
                </a:solidFill>
                <a:latin typeface="Tahoma"/>
                <a:ea typeface="Arial"/>
              </a:rPr>
              <a:t>GLORY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 is the basis for outward focu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Ephesians 1: 12, 14; 3:2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7146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7146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3. God can use </a:t>
            </a:r>
            <a:r>
              <a:rPr b="1" lang="en-US" sz="2400" spc="-1" strike="noStrike">
                <a:solidFill>
                  <a:srgbClr val="ffff00"/>
                </a:solidFill>
                <a:latin typeface="Tahoma"/>
                <a:ea typeface="Arial"/>
              </a:rPr>
              <a:t>ANYONE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and he wants to use yo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/>
          <p:nvPr/>
        </p:nvSpPr>
        <p:spPr>
          <a:xfrm>
            <a:off x="0" y="333360"/>
            <a:ext cx="8964720" cy="37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257480" indent="-34308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  <a:ea typeface="Arial"/>
              </a:rPr>
              <a:t>RESPONS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Arial"/>
              </a:rPr>
              <a:t>1. I am an inward/outward focus Christ-follower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Arial"/>
              </a:rPr>
              <a:t>2. Today I commit myself to becoming an 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  <a:ea typeface="Arial"/>
              </a:rPr>
              <a:t>OUTWARD FOCUS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Arial"/>
              </a:rPr>
              <a:t> Christ-follower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8T04:02:53Z</dcterms:created>
  <dc:creator>RogLang</dc:creator>
  <dc:description/>
  <dc:language>en-US</dc:language>
  <cp:lastModifiedBy>RogLang</cp:lastModifiedBy>
  <dcterms:modified xsi:type="dcterms:W3CDTF">2011-01-28T04:31:51Z</dcterms:modified>
  <cp:revision>2</cp:revision>
  <dc:subject/>
  <dc:title>Slide 1</dc:title>
</cp:coreProperties>
</file>