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9F00-F00B-49A1-A97A-4F5524EFBB9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ere there is no </a:t>
            </a: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vision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, the people perish: but he that keepeth the law, happy is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6DA6-8119-4517-8399-B4EEB21C298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A5E2-41F4-42A8-BB9E-CB20717E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E5F-B1B5-4B76-9245-178A6CC9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BDD-DE98-4B89-B707-6D919F19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DB2-82B9-4E6D-A015-00DED580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D132-BA0E-4CC4-9447-D42272D7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073-01C5-453A-A6DF-D65C1678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588-B21D-41AD-AD43-529960A1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487-F119-44D2-8500-D790D65F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977-B42D-47D0-A52E-4C40BD02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EAE-726F-4B5A-9E5B-7D9C18C8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FB0-2408-4BB6-8F27-69A66DE5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15B-04E9-4BC6-AE1F-08D70323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3908-3AFE-4D95-8CA4-FA4878782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0" y="-1144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Berlin Sans FB"/>
              </a:rPr>
              <a:t>Acts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Berlin Sans FB"/>
              </a:rPr>
              <a:t>“</a:t>
            </a:r>
            <a:r>
              <a:rPr b="0" lang="en-US" sz="9600" spc="-1" strike="noStrike">
                <a:solidFill>
                  <a:srgbClr val="ffff00"/>
                </a:solidFill>
                <a:latin typeface="Berlin Sans FB"/>
              </a:rPr>
              <a:t>What happened at Pentecost?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71280" y="44280"/>
            <a:ext cx="900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14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ut Peter, standing with the eleven, raised his voice and addressed them: "Men of Judea and all who live in Jerusalem, let this be known to you, and listen carefully to my words.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15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or these people are not drunk, as you suppose, since it is only nine o’clock in the morn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71280" y="44280"/>
            <a:ext cx="900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16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ut this is </a:t>
            </a:r>
            <a:r>
              <a:rPr b="0" lang="en-AU" sz="3600" spc="-1" strike="noStrike">
                <a:solidFill>
                  <a:srgbClr val="85ffe0"/>
                </a:solidFill>
                <a:latin typeface="Arial"/>
              </a:rPr>
              <a:t>what was spoken through the prophet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 Joel: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17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"'And </a:t>
            </a:r>
            <a:r>
              <a:rPr b="0" lang="en-AU" sz="3600" spc="-1" strike="noStrike">
                <a:solidFill>
                  <a:srgbClr val="85ffe0"/>
                </a:solidFill>
                <a:latin typeface="Arial"/>
              </a:rPr>
              <a:t>in the last days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 it shall be, God declares, that </a:t>
            </a:r>
            <a:r>
              <a:rPr b="0" lang="en-AU" sz="3600" spc="-1" strike="noStrike">
                <a:solidFill>
                  <a:srgbClr val="85ffe0"/>
                </a:solidFill>
                <a:latin typeface="Arial"/>
              </a:rPr>
              <a:t>I will pour out my Spirit on all flesh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, and your sons and your daughters shall prophesy, and your young men shall see visions, and your old men shall dream dreams;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18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even on my male servants and female servants in those days </a:t>
            </a:r>
            <a:r>
              <a:rPr b="0" lang="en-AU" sz="3600" spc="-1" strike="noStrike">
                <a:solidFill>
                  <a:srgbClr val="85ffe0"/>
                </a:solidFill>
                <a:latin typeface="Arial"/>
              </a:rPr>
              <a:t>I will pour out my Spirit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, and they shall prophes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71280" y="44280"/>
            <a:ext cx="900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19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I will show wonders in the heavens above and signs on the earth below, blood, and fire, and vapour of smoke;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20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sun shall be turned to darkness and the moon to blood, </a:t>
            </a:r>
            <a:r>
              <a:rPr b="0" lang="en-AU" sz="3600" spc="-1" strike="noStrike">
                <a:solidFill>
                  <a:srgbClr val="85ffe0"/>
                </a:solidFill>
                <a:latin typeface="Arial"/>
              </a:rPr>
              <a:t>before the day of the Lord comes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, the great and magnificent day.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21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it shall come to pass that </a:t>
            </a:r>
            <a:r>
              <a:rPr b="0" lang="en-AU" sz="3600" spc="-1" strike="noStrike">
                <a:solidFill>
                  <a:srgbClr val="85ffe0"/>
                </a:solidFill>
                <a:latin typeface="Arial"/>
              </a:rPr>
              <a:t>everyone who calls upon the name of the Lord shall be saved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611280" y="472428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6edf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6edf6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e6edf6"/>
                </a:solidFill>
                <a:latin typeface="Calibri"/>
              </a:rPr>
              <a:t>The Promised Spirit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258920" y="537372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ffe0"/>
                </a:solidFill>
                <a:latin typeface="Calibri"/>
              </a:rPr>
              <a:t>* Given to all not some!</a:t>
            </a:r>
            <a:br>
              <a:rPr sz="2800"/>
            </a:br>
            <a:r>
              <a:rPr b="0" lang="en-US" sz="2800" spc="-1" strike="noStrike">
                <a:solidFill>
                  <a:srgbClr val="85ffe0"/>
                </a:solidFill>
                <a:latin typeface="Calibri"/>
              </a:rPr>
              <a:t>* BTW prophecy, dreams, visions?? (cf Prov 29:18)</a:t>
            </a:r>
            <a:br>
              <a:rPr sz="2800"/>
            </a:br>
            <a:r>
              <a:rPr b="0" lang="en-US" sz="2800" spc="-1" strike="noStrike">
                <a:solidFill>
                  <a:srgbClr val="85ffe0"/>
                </a:solidFill>
                <a:latin typeface="Calibri"/>
              </a:rPr>
              <a:t>* BTW notice interpretation of Old Test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65120" y="25588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6edf6"/>
                </a:solidFill>
                <a:latin typeface="Calibri"/>
              </a:rPr>
              <a:t>But what does that </a:t>
            </a:r>
            <a:br>
              <a:rPr sz="5400"/>
            </a:br>
            <a:r>
              <a:rPr b="0" lang="en-US" sz="5400" spc="-1" strike="noStrike">
                <a:solidFill>
                  <a:srgbClr val="e6edf6"/>
                </a:solidFill>
                <a:latin typeface="Calibri"/>
              </a:rPr>
              <a:t>have to do with Jesus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71280" y="44280"/>
            <a:ext cx="9001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22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"Men of Israel, hear these words: Jesus of Nazareth, a man attested to you by God with mighty works and wonders and signs that God did through him in your midst, as you yourselves know--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is Jesus, delivered up </a:t>
            </a:r>
            <a:r>
              <a:rPr b="0" lang="en-AU" sz="3600" spc="-1" strike="noStrike">
                <a:solidFill>
                  <a:srgbClr val="85ffe0"/>
                </a:solidFill>
                <a:latin typeface="Arial"/>
              </a:rPr>
              <a:t>according to the definite plan and foreknowledge of God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AU" sz="3600" spc="-1" strike="noStrike">
                <a:solidFill>
                  <a:srgbClr val="85ffe0"/>
                </a:solidFill>
                <a:latin typeface="Arial"/>
              </a:rPr>
              <a:t>you crucified and killed by the hands of lawless men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24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d raised him up, loosening the pains of death, because it was not possible for him to be held by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564000" y="610380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6edf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6edf6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e6edf6"/>
                </a:solidFill>
                <a:latin typeface="Calibri"/>
              </a:rPr>
              <a:t>God’s plan but our faul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71280" y="44280"/>
            <a:ext cx="900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25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or David says concerning him, "'I saw the Lord always before me, for he is at my right hand that I may not be shaken;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26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refore my heart was glad, and my tongue rejoiced; my flesh also will dwell in hope.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27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or you will not abandon my soul to Hades, or let your Holy One see corruption.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28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have made known to me the paths of life; you will make me full of gladness with your presence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71280" y="44280"/>
            <a:ext cx="9001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29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"Brothers, I may say to you with confidence about the patriarch David that he both died and was buried, and his tomb is with us to this day.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30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eing therefore a prophet, and knowing that God had sworn with an oath to him that he would set one of his descendants on his throne,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31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e foresaw and spoke about the resurrection of the Christ, that he was not abandoned to Hades, nor did his flesh see corruption.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32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is Jesus God raised up, and of that we all are witnes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71280" y="44280"/>
            <a:ext cx="900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baseline="30000">
                <a:solidFill>
                  <a:srgbClr val="85ffe0"/>
                </a:solidFill>
                <a:latin typeface="Arial"/>
              </a:rPr>
              <a:t>33</a:t>
            </a:r>
            <a:r>
              <a:rPr b="0" lang="en-AU" sz="3600" spc="-1" strike="noStrike">
                <a:solidFill>
                  <a:srgbClr val="85ffe0"/>
                </a:solidFill>
                <a:latin typeface="Arial"/>
              </a:rPr>
              <a:t>Being therefore exalted at the right hand of God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, and having received from the Father the promise of the Holy Spirit, </a:t>
            </a:r>
            <a:r>
              <a:rPr b="0" lang="en-AU" sz="3600" spc="-1" strike="noStrike">
                <a:solidFill>
                  <a:srgbClr val="85ffe0"/>
                </a:solidFill>
                <a:latin typeface="Arial"/>
              </a:rPr>
              <a:t>he has poured out this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 that you yourselves are seeing and hearing.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34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or David did not ascend into the heavens, but he himself says, "'The Lord said to my Lord, Sit at my right hand,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35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until I make your enemies your footstool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71280" y="44280"/>
            <a:ext cx="900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36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et all the house of Israel therefore </a:t>
            </a:r>
            <a:r>
              <a:rPr b="0" lang="en-AU" sz="3600" spc="-1" strike="noStrike">
                <a:solidFill>
                  <a:srgbClr val="85ffe0"/>
                </a:solidFill>
                <a:latin typeface="Arial"/>
              </a:rPr>
              <a:t>know for certain that God has made him both Lord and Christ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, this Jesus whom you crucified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611280" y="299736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6edf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6edf6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e6edf6"/>
                </a:solidFill>
                <a:latin typeface="Calibri"/>
              </a:rPr>
              <a:t>Jesus is now ruling as K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258920" y="364500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ffe0"/>
                </a:solidFill>
                <a:latin typeface="Calibri"/>
              </a:rPr>
              <a:t>* Prophesies of David etc are fulf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ffe0"/>
                </a:solidFill>
                <a:latin typeface="Calibri"/>
              </a:rPr>
              <a:t>* The Spirit comes because Jesus reigns</a:t>
            </a:r>
            <a:br>
              <a:rPr sz="2800"/>
            </a:br>
            <a:r>
              <a:rPr b="0" lang="en-US" sz="2800" spc="-1" strike="noStrike">
                <a:solidFill>
                  <a:srgbClr val="85ffe0"/>
                </a:solidFill>
                <a:latin typeface="Calibri"/>
              </a:rPr>
              <a:t>* The beginning of a new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65120" y="25588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6edf6"/>
                </a:solidFill>
                <a:latin typeface="Calibri"/>
              </a:rPr>
              <a:t>But what does that </a:t>
            </a:r>
            <a:br>
              <a:rPr sz="5400"/>
            </a:br>
            <a:r>
              <a:rPr b="0" lang="en-US" sz="5400" spc="-1" strike="noStrike">
                <a:solidFill>
                  <a:srgbClr val="e6edf6"/>
                </a:solidFill>
                <a:latin typeface="Calibri"/>
              </a:rPr>
              <a:t>have to do with us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5"/>
          <p:cNvSpPr/>
          <p:nvPr/>
        </p:nvSpPr>
        <p:spPr>
          <a:xfrm>
            <a:off x="6293880" y="2349360"/>
            <a:ext cx="244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ff00"/>
                </a:solidFill>
                <a:latin typeface="Calibri"/>
              </a:rPr>
              <a:t>???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evandavis.jpg"/>
          <p:cNvPicPr/>
          <p:nvPr/>
        </p:nvPicPr>
        <p:blipFill>
          <a:blip r:embed="rId1"/>
          <a:stretch/>
        </p:blipFill>
        <p:spPr>
          <a:xfrm>
            <a:off x="-36360" y="0"/>
            <a:ext cx="607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71280" y="44280"/>
            <a:ext cx="900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37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w when they heard this </a:t>
            </a:r>
            <a:r>
              <a:rPr b="0" lang="en-AU" sz="3600" spc="-1" strike="noStrike">
                <a:solidFill>
                  <a:srgbClr val="85ffe0"/>
                </a:solidFill>
                <a:latin typeface="Arial"/>
              </a:rPr>
              <a:t>they were cut to the heart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, and said to Peter and the rest of the apostles, "Brothers, </a:t>
            </a:r>
            <a:r>
              <a:rPr b="0" lang="en-AU" sz="3600" spc="-1" strike="noStrike">
                <a:solidFill>
                  <a:srgbClr val="85ffe0"/>
                </a:solidFill>
                <a:latin typeface="Arial"/>
              </a:rPr>
              <a:t>what shall we do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11280" y="299736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6edf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6edf6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e6edf6"/>
                </a:solidFill>
                <a:latin typeface="Calibri"/>
              </a:rPr>
              <a:t>Do you feel the need for h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58920" y="36450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ffe0"/>
                </a:solidFill>
                <a:latin typeface="Calibri"/>
              </a:rPr>
              <a:t>* What happens if you reject the 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0" y="0"/>
            <a:ext cx="9001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38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Peter said to them, "</a:t>
            </a:r>
            <a:r>
              <a:rPr b="0" lang="en-AU" sz="3600" spc="-1" strike="noStrike">
                <a:solidFill>
                  <a:srgbClr val="85ffe0"/>
                </a:solidFill>
                <a:latin typeface="Arial"/>
              </a:rPr>
              <a:t>Repent and be baptized every one of you in the name of Jesus Christ for the forgiveness of your sins, and you will receive the gift of the Holy Spirit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39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or the promise is for you and for your children and for all who are far off, everyone whom the Lord our God calls."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40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with many other words he bore witness and continued to exhort them, saying, "Save yourselves from this crooked generation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547640" y="6031080"/>
            <a:ext cx="82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6edf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6edf6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e6edf6"/>
                </a:solidFill>
                <a:latin typeface="Calibri"/>
              </a:rPr>
              <a:t>God is unexpectedly kind! (=gr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71280" y="44280"/>
            <a:ext cx="900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41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o those who received his word were baptized, and there were added that day about three thousand sou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42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y devoted themselves to the apostles' teaching and the fellowship, to the breaking of bread and the prayers.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43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awe came upon every soul, and many wonders and signs were being done through the apostl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71280" y="44280"/>
            <a:ext cx="9001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44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all who believed were together and had all things in common.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45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y were selling their possessions and belongings and distributing the proceeds to all, as any had need.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46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day by day, attending the temple together and breaking bread in their homes, they received their food with glad and generous hearts,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47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praising God and having favour with all the people. And the Lord added to their number day by day those who were being sav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34920" y="54000"/>
            <a:ext cx="84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Berlin Sans FB"/>
              </a:rPr>
              <a:t>Are you part of</a:t>
            </a:r>
            <a:br>
              <a:rPr sz="8000"/>
            </a:br>
            <a:r>
              <a:rPr b="0" lang="en-US" sz="8000" spc="-1" strike="noStrike">
                <a:solidFill>
                  <a:srgbClr val="ffff00"/>
                </a:solidFill>
                <a:latin typeface="Berlin Sans FB"/>
              </a:rPr>
              <a:t>this great event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2195640" y="270828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6edf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6edf6"/>
                </a:solidFill>
                <a:latin typeface="Calibri"/>
              </a:rPr>
              <a:t> </a:t>
            </a:r>
            <a:r>
              <a:rPr b="0" lang="en-AU" sz="4000" spc="-1" strike="noStrike">
                <a:solidFill>
                  <a:srgbClr val="e6edf6"/>
                </a:solidFill>
                <a:latin typeface="Calibri"/>
              </a:rPr>
              <a:t>Not yet following Jes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2195640" y="429264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6edf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6edf6"/>
                </a:solidFill>
                <a:latin typeface="Calibri"/>
              </a:rPr>
              <a:t> </a:t>
            </a:r>
            <a:r>
              <a:rPr b="0" lang="en-AU" sz="4000" spc="-1" strike="noStrike">
                <a:solidFill>
                  <a:srgbClr val="e6edf6"/>
                </a:solidFill>
                <a:latin typeface="Calibri"/>
              </a:rPr>
              <a:t>Struggling to follow Jes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2195640" y="350028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6edf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6edf6"/>
                </a:solidFill>
                <a:latin typeface="Calibri"/>
              </a:rPr>
              <a:t> </a:t>
            </a:r>
            <a:r>
              <a:rPr b="0" lang="en-AU" sz="4000" spc="-1" strike="noStrike">
                <a:solidFill>
                  <a:srgbClr val="e6edf6"/>
                </a:solidFill>
                <a:latin typeface="Calibri"/>
              </a:rPr>
              <a:t>So-so follower of Jes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79280" y="5589720"/>
            <a:ext cx="87854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85ffe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85ffe0"/>
                </a:solidFill>
                <a:latin typeface="Arial"/>
              </a:rPr>
              <a:t>everyone who calls upon the name of the Lord shall be sav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85ffe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85ffe0"/>
                </a:solidFill>
                <a:latin typeface="Arial"/>
              </a:rPr>
              <a:t>For the promise is for you and for your children and for all who are far off, everyone whom the Lord our God cal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5"/>
          <p:cNvSpPr/>
          <p:nvPr/>
        </p:nvSpPr>
        <p:spPr>
          <a:xfrm>
            <a:off x="6090120" y="1201680"/>
            <a:ext cx="2943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ff00"/>
                </a:solidFill>
                <a:latin typeface="Calibri"/>
              </a:rPr>
              <a:t>Evan </a:t>
            </a:r>
            <a:br>
              <a:rPr sz="5400"/>
            </a:br>
            <a:r>
              <a:rPr b="1" lang="en-AU" sz="5400" spc="-1" strike="noStrike">
                <a:solidFill>
                  <a:srgbClr val="ffff00"/>
                </a:solidFill>
                <a:latin typeface="Calibri"/>
              </a:rPr>
              <a:t>Dav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ff00"/>
                </a:solidFill>
                <a:latin typeface="Calibri"/>
              </a:rPr>
              <a:t>..Event</a:t>
            </a:r>
            <a:br>
              <a:rPr sz="5400"/>
            </a:br>
            <a:r>
              <a:rPr b="1" lang="en-AU" sz="5400" spc="-1" strike="noStrike">
                <a:solidFill>
                  <a:srgbClr val="ffff00"/>
                </a:solidFill>
                <a:latin typeface="Calibri"/>
              </a:rPr>
              <a:t>Holiday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evandavis.jpg"/>
          <p:cNvPicPr/>
          <p:nvPr/>
        </p:nvPicPr>
        <p:blipFill>
          <a:blip r:embed="rId1"/>
          <a:stretch/>
        </p:blipFill>
        <p:spPr>
          <a:xfrm>
            <a:off x="-36360" y="0"/>
            <a:ext cx="607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royal-wedding-william-and-kat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65120" y="2147400"/>
            <a:ext cx="8215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6edf6"/>
                </a:solidFill>
                <a:latin typeface="Calibri"/>
              </a:rPr>
              <a:t>One of the greatest events in the world, and how you can be a part of it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71280" y="44280"/>
            <a:ext cx="900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Acts 2:1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n the day of Pentecost arrived, they were all together in one place.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suddenly there came from heaven a noise like a mighty rushing wind, and it filled the entire house where they were sitting.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divided tongues as of fire appeared to them and rested on each one of them.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y were all filled with the Holy Spirit and began to speak in other tongues as the Spirit gave them utterance.</a:t>
            </a:r>
            <a:r>
              <a:rPr b="0" lang="en-AU" sz="3600" spc="-1" strike="noStrike">
                <a:solidFill>
                  <a:srgbClr val="ffff00"/>
                </a:solidFill>
                <a:latin typeface="Berlin Sans FB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71280" y="44280"/>
            <a:ext cx="900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5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w there were dwelling in Jerusalem Jews, devout men from every nation under heaven.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at this sound the large group came together, and they were confused, because each one was hearing them speak in his own language.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7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y couldn’t understand and were amazed, saying, "Are not all these who are speaking Galileans?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8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how is it that we hear, each of us in his own native languag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71280" y="44280"/>
            <a:ext cx="900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9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Parthians and Medes and Elamites and residents of Mesopotamia, Judea and Cappadocia, Pontus and Asia,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Phrygia and Pamphylia, Egypt and the parts of Libya belonging to Cyrene, and visitors from Rome,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oth Jews and proselytes, Cretans and Arabians--we hear them telling in our own tongues the mighty works of God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2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71280" y="44280"/>
            <a:ext cx="900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12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all of them couldn’t understand and didn’t know what to think, saying to one another, "What does this mean?" </a:t>
            </a:r>
            <a:r>
              <a:rPr b="0" lang="en-AU" sz="3600" spc="-1" strike="noStrike" baseline="30000">
                <a:solidFill>
                  <a:srgbClr val="ffff00"/>
                </a:solidFill>
                <a:latin typeface="Arial"/>
              </a:rPr>
              <a:t>13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ut others mocking said, "They are filled with new wine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611280" y="357336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6edf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6edf6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e6edf6"/>
                </a:solidFill>
                <a:latin typeface="Calibri"/>
              </a:rPr>
              <a:t>The background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58920" y="4221000"/>
            <a:ext cx="770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ffe0"/>
                </a:solidFill>
                <a:latin typeface="Calibri"/>
              </a:rPr>
              <a:t>* Pentecost = 50</a:t>
            </a:r>
            <a:r>
              <a:rPr b="0" lang="en-US" sz="2800" spc="-1" strike="noStrike" baseline="30000">
                <a:solidFill>
                  <a:srgbClr val="85ffe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85ffe0"/>
                </a:solidFill>
                <a:latin typeface="Calibri"/>
              </a:rPr>
              <a:t> (day) = major Jewish festival</a:t>
            </a:r>
            <a:br>
              <a:rPr sz="2800"/>
            </a:br>
            <a:r>
              <a:rPr b="0" lang="en-US" sz="2800" spc="-1" strike="noStrike">
                <a:solidFill>
                  <a:srgbClr val="85ffe0"/>
                </a:solidFill>
                <a:latin typeface="Calibri"/>
              </a:rPr>
              <a:t>* The Holy Spirit comes on all the Jesus followers</a:t>
            </a:r>
            <a:br>
              <a:rPr sz="2800"/>
            </a:br>
            <a:r>
              <a:rPr b="0" lang="en-US" sz="2800" spc="-1" strike="noStrike">
                <a:solidFill>
                  <a:srgbClr val="85ffe0"/>
                </a:solidFill>
                <a:latin typeface="Calibri"/>
              </a:rPr>
              <a:t>* Many people from many nations are wondering</a:t>
            </a:r>
            <a:br>
              <a:rPr sz="2800"/>
            </a:br>
            <a:r>
              <a:rPr b="0" lang="en-US" sz="2800" spc="-1" strike="noStrike">
                <a:solidFill>
                  <a:srgbClr val="85ffe0"/>
                </a:solidFill>
                <a:latin typeface="Calibri"/>
              </a:rPr>
              <a:t>   what has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8T19:22:38Z</dcterms:created>
  <dc:creator>Craig</dc:creator>
  <dc:description/>
  <dc:language>en-US</dc:language>
  <cp:lastModifiedBy>N Jarrrott</cp:lastModifiedBy>
  <dcterms:modified xsi:type="dcterms:W3CDTF">2011-06-07T03:22:34Z</dcterms:modified>
  <cp:revision>88</cp:revision>
  <dc:subject/>
  <dc:title>Slide 1</dc:title>
</cp:coreProperties>
</file>