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86C7-BA99-423D-A55D-A8B869FC3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C844-AC13-4845-9459-1B24DE841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1F15-2403-4369-B163-AA3675D27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21F2-3D99-4AA4-BA90-C6026D30E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059C-A6FA-45C1-B8FB-D021D6894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1C4D-4DA1-4D11-AC20-9646EF3CF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8588-0F20-41B6-8488-1BD1E7F1E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5876-7BFE-453C-AF1A-6D335EBAC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4DDD-FF47-4A96-BE6F-B45CEC87F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B5AC-3B47-4D77-B730-5AE3D8D29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1D79-190A-40BE-800D-A174FCAA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B25B-D652-4ABE-BB4B-19C756BA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0F637D-4541-4F49-A71A-A1421F731354}" type="slidenum">
              <a:rPr b="0" lang="en-A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31640"/>
            <a:ext cx="914400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LIVING LIKE A CHRIST FOLLOWER SERIE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#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8000" spc="-1" strike="noStrike">
                <a:solidFill>
                  <a:srgbClr val="ffffff"/>
                </a:solidFill>
                <a:latin typeface="Arial Black"/>
              </a:rPr>
              <a:t>TEMPTATION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 Black"/>
              </a:rPr>
              <a:t>James 1:13-1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29680"/>
            <a:ext cx="91440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57080" indent="-757080">
              <a:lnSpc>
                <a:spcPct val="100000"/>
              </a:lnSpc>
              <a:buClr>
                <a:srgbClr val="00ffff"/>
              </a:buClr>
              <a:buFont typeface="Arial Black"/>
              <a:buAutoNum type="arabicPeriod"/>
              <a:tabLst>
                <a:tab algn="l" pos="757080"/>
                <a:tab algn="l" pos="1204920"/>
                <a:tab algn="l" pos="1654200"/>
                <a:tab algn="l" pos="2103480"/>
                <a:tab algn="l" pos="2552760"/>
                <a:tab algn="l" pos="3002040"/>
                <a:tab algn="l" pos="3451320"/>
                <a:tab algn="l" pos="3900600"/>
                <a:tab algn="l" pos="4349880"/>
                <a:tab algn="l" pos="4799160"/>
                <a:tab algn="l" pos="5248440"/>
                <a:tab algn="l" pos="5697360"/>
                <a:tab algn="l" pos="6146640"/>
                <a:tab algn="l" pos="6595920"/>
                <a:tab algn="l" pos="7045200"/>
                <a:tab algn="l" pos="7494480"/>
                <a:tab algn="l" pos="7943760"/>
                <a:tab algn="l" pos="8393040"/>
                <a:tab algn="l" pos="8842320"/>
                <a:tab algn="l" pos="9291600"/>
                <a:tab algn="l" pos="974088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 u="sng">
                <a:solidFill>
                  <a:srgbClr val="00ffff"/>
                </a:solidFill>
                <a:uFillTx/>
                <a:latin typeface="Arial Black"/>
              </a:rPr>
              <a:t>RECOGNIZING</a:t>
            </a:r>
            <a:r>
              <a:rPr b="0" lang="en-US" sz="4000" spc="-1" strike="noStrike">
                <a:solidFill>
                  <a:srgbClr val="ffff99"/>
                </a:solidFill>
                <a:latin typeface="Arial Black"/>
              </a:rPr>
              <a:t> TEMPTATION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. Temptation isn’t </a:t>
            </a: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 Black"/>
              </a:rPr>
              <a:t>OBVI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0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0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B. Giving into temptation is </a:t>
            </a: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 Black"/>
              </a:rPr>
              <a:t>SIN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Luke 4:1-13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Genesis 3:1-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0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0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. How to </a:t>
            </a: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 Black"/>
              </a:rPr>
              <a:t>RECOGNIZE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temptation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3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3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3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171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 Black"/>
              </a:rPr>
              <a:t>2. The </a:t>
            </a:r>
            <a:r>
              <a:rPr b="0" lang="en-US" sz="4000" spc="-1" strike="noStrike" u="sng">
                <a:solidFill>
                  <a:srgbClr val="00ffff"/>
                </a:solidFill>
                <a:uFillTx/>
                <a:latin typeface="Arial Black"/>
              </a:rPr>
              <a:t>SOURCE</a:t>
            </a:r>
            <a:r>
              <a:rPr b="0" lang="en-US" sz="4000" spc="-1" strike="noStrike">
                <a:solidFill>
                  <a:srgbClr val="ffff99"/>
                </a:solidFill>
                <a:latin typeface="Arial Black"/>
              </a:rPr>
              <a:t> of Temptation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. Not </a:t>
            </a: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 Black"/>
              </a:rPr>
              <a:t>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James 1:1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Job 2: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B. </a:t>
            </a: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 Black"/>
              </a:rPr>
              <a:t>SATAN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is the Temp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 Thessalonians 3: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 Corinthians 10:1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. </a:t>
            </a: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 Black"/>
              </a:rPr>
              <a:t>YOU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are respon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indefinite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dur="indefinite" fill="hold">
                      <p:stCondLst>
                        <p:cond delay="indefinite"/>
                      </p:stCondLst>
                      <p:childTnLst>
                        <p:par>
                          <p:cTn id="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3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dur="indefinite" fill="hold">
                      <p:stCondLst>
                        <p:cond delay="indefinite"/>
                      </p:stCondLst>
                      <p:childTnLst>
                        <p:par>
                          <p:cTn id="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66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 Black"/>
              </a:rPr>
              <a:t>c. How to </a:t>
            </a:r>
            <a:r>
              <a:rPr b="0" lang="en-US" sz="4000" spc="-1" strike="noStrike" u="sng">
                <a:solidFill>
                  <a:srgbClr val="00ffff"/>
                </a:solidFill>
                <a:uFillTx/>
                <a:latin typeface="Arial Black"/>
              </a:rPr>
              <a:t>HANDLE</a:t>
            </a:r>
            <a:r>
              <a:rPr b="0" lang="en-US" sz="4000" spc="-1" strike="noStrike">
                <a:solidFill>
                  <a:srgbClr val="ffff99"/>
                </a:solidFill>
                <a:latin typeface="Arial Black"/>
              </a:rPr>
              <a:t> Temptation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9280" y="1339560"/>
            <a:ext cx="8964720" cy="52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. Deal with them at the </a:t>
            </a: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 Black"/>
              </a:rPr>
              <a:t>BEGIN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James 1:14,1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B. </a:t>
            </a: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 Black"/>
              </a:rPr>
              <a:t>RUN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a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 Timothy 6:11; 2 Timothy 2:2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 Corinthians 6:1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. </a:t>
            </a: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 Black"/>
              </a:rPr>
              <a:t>WATCH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and pr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Matthew 26:4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dur="indefinite" fill="hold">
                      <p:stCondLst>
                        <p:cond delay="indefinite"/>
                      </p:stCondLst>
                      <p:childTnLst>
                        <p:par>
                          <p:cTn id="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dur="indefinite" fill="hold">
                      <p:stCondLst>
                        <p:cond delay="indefinite"/>
                      </p:stCondLst>
                      <p:childTnLst>
                        <p:par>
                          <p:cTn id="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dur="indefinite" fill="hold">
                      <p:stCondLst>
                        <p:cond delay="indefinite"/>
                      </p:stCondLst>
                      <p:childTnLst>
                        <p:par>
                          <p:cTn id="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60120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 Black"/>
              </a:rPr>
              <a:t>RESPONSE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99"/>
                </a:solidFill>
                <a:latin typeface="Arial Black"/>
              </a:rPr>
              <a:t>What one thing will I stop doing, start doing or do differently as a result of today’s message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7T02:09:15Z</dcterms:created>
  <dc:creator>RogLang</dc:creator>
  <dc:description/>
  <dc:language>en-US</dc:language>
  <cp:lastModifiedBy>RogLang</cp:lastModifiedBy>
  <dcterms:modified xsi:type="dcterms:W3CDTF">2011-06-11T11:13:58Z</dcterms:modified>
  <cp:revision>1</cp:revision>
  <dc:subject/>
  <dc:title>Slide 1</dc:title>
</cp:coreProperties>
</file>