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1C631-2801-4BBC-BC94-B9DB40735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8016-ED6B-4B12-AE95-FB8B1C64E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2F66-1696-4B64-81FD-A6A63B696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5A47-72F3-4202-B5F1-CE6934B058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5506-3BBD-4DE4-9270-EFA0993DC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2EF2-2AFC-46C7-95E8-3A34F5984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ADC97-C860-43A5-B200-F170AAF2E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43AB-E0FA-432E-84ED-FE46BEAD3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E743-8DCD-4852-ABC7-D78A7969C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1457-667C-4109-A516-FCEC1C074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EDD6-E985-4E64-A242-8A7F0BB31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0C5-57A6-4243-838D-7FDE092FC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DED1-6C4E-4024-9C1F-C59A3FA8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7232-42DF-4EE3-8F61-50FE53C1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A31-8842-4AA9-AD55-168E2DAD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F034-56E4-4C3D-927D-2F5CCFD5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5F95-02BD-44EF-933D-0B1D52AD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EE00-4B9D-4086-ACC8-0DAA9987A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B3B9-CFCA-4A11-A0D0-8060A41C6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8701-5B45-4DE4-8F9D-602F02EE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79745-6AF0-43A7-AC0C-5E5D7EBB9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80720" y="4266720"/>
            <a:ext cx="541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Arial"/>
              </a:rPr>
              <a:t>SERIES #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3048120" y="260352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3048120" y="255276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9"/>
          <p:cNvSpPr/>
          <p:nvPr/>
        </p:nvSpPr>
        <p:spPr>
          <a:xfrm>
            <a:off x="3006720" y="257004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7400" y="1980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000000"/>
                </a:solidFill>
                <a:latin typeface="Arial"/>
              </a:rPr>
              <a:t>Jesus—Our Savior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3048120" y="260352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3048120" y="255276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006720" y="257004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2971800" y="12952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3886200" y="3124080"/>
            <a:ext cx="27432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mans 3: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2971800" y="3560760"/>
            <a:ext cx="45720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righteousness of God comes through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faith in Jesus Christ to all who believ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3048120" y="260352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3048120" y="255276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3006720" y="257004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133720" y="159984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. . give him the nam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JESU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because he will save his people from their sins” (Matthew 1:21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on of Man came to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EEK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and to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AV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ave what was lost” (Luke 19:10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…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Son of Man did not come to be served, but to serve, and give his life a ransom for many” (Mark 10:4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re is a trustworthy saying that deserves full acceptance: Christ Jesus came into the world to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AV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inners” (1 Timothy 1:15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236196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1. He Is the Savior</a:t>
            </a:r>
            <a:br>
              <a:rPr sz="2900"/>
            </a:br>
            <a:br>
              <a:rPr sz="27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2"/>
          <p:cNvSpPr/>
          <p:nvPr/>
        </p:nvSpPr>
        <p:spPr>
          <a:xfrm>
            <a:off x="3276720" y="642636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ssion 2:  Jesus—Our S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048120" y="260352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048120" y="255276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006720" y="257004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33360" y="159984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y sins have bee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FORGIVEN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olossians 1:14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hav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PEA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ith God (Romans 5: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have been declared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RIGHTEOU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Romans 5:19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am a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NEW CREATUR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2 Corinthians 5:1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hav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TERNAL LIF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John 3:1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have bee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DOPTED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by God (Ephesians 1: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is Holy Spirit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LIVES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 me (Galatians 4:6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sus is my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DVOC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1 John 2:1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hing ca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SEPARAT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me from God’s love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Romans 8:3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236196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2. Because Jesus Is My Savior . . 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276720" y="642636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ssion 2:  Jesus—Our S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048120" y="260352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048120" y="255276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3006720" y="257004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133360" y="159984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DEATH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has no more power over me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 Corinthians 15:54–57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 have a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INHERITANCE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at can never perish 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1 Peter 1:3–5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THAT IS ONLY A PARTIAL LIST!!!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236196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ecause Jesus Is My Savior . . 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2"/>
          <p:cNvSpPr/>
          <p:nvPr/>
        </p:nvSpPr>
        <p:spPr>
          <a:xfrm>
            <a:off x="3276720" y="642636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ssion 2:  Jesus—Our S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3048120" y="260352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048120" y="255276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3006720" y="257004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2133360" y="1599840"/>
            <a:ext cx="70102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is a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UNIVERSAL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vi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John 3:16, 1 John 2:2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e is an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EXCLUSIVE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vior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Acts 4:12, Romans 10:9 ff)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236196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3. Jesus </a:t>
            </a: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OUR</a:t>
            </a: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 Savior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2"/>
          <p:cNvSpPr/>
          <p:nvPr/>
        </p:nvSpPr>
        <p:spPr>
          <a:xfrm>
            <a:off x="3276720" y="642636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ssion 2:  Jesus—Our S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4"/>
          <p:cNvSpPr/>
          <p:nvPr/>
        </p:nvSpPr>
        <p:spPr>
          <a:xfrm>
            <a:off x="3048120" y="260352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3048120" y="255276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3006720" y="2570040"/>
            <a:ext cx="5410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2133360" y="1599840"/>
            <a:ext cx="6172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800280" indent="-343080">
              <a:lnSpc>
                <a:spcPct val="100000"/>
              </a:lnSpc>
              <a:spcBef>
                <a:spcPts val="476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all who receive him, to those who believed in his name, he gave the right to become children of God” (John 1:12)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2361960" y="685800"/>
            <a:ext cx="61722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Do You Know My Jesus?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12"/>
          <p:cNvSpPr/>
          <p:nvPr/>
        </p:nvSpPr>
        <p:spPr>
          <a:xfrm>
            <a:off x="3276720" y="6426360"/>
            <a:ext cx="57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ssion 2:  Jesus—Our Savi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1T19:46:03Z</dcterms:created>
  <dc:creator>Marvin Harrell</dc:creator>
  <dc:description/>
  <dc:language>en-US</dc:language>
  <cp:lastModifiedBy>RogLang</cp:lastModifiedBy>
  <dcterms:modified xsi:type="dcterms:W3CDTF">2011-08-10T03:08:42Z</dcterms:modified>
  <cp:revision>92</cp:revision>
  <dc:subject/>
  <dc:title>PowerPoint Presentation</dc:title>
</cp:coreProperties>
</file>