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428-0860-466B-9ACC-523AD400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EED-E1E9-41DD-A8E5-DAC27B31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D2B-A9BF-4784-8FC4-FED68D9E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103-F958-4E68-9EE5-DC6EE0F2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0CE-7402-420D-BEAB-11952BF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307-617F-4980-9900-5364ABD4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E9B-7AE7-48CD-B7A1-3396F3AF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C21-4FCF-419A-8C06-32B0A93C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43E-35C6-4995-9BC8-00E47FCA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60B-BC3A-4033-9A90-F1001FC9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FD5-A189-4E1A-9ABE-D6311824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D4D-B283-472A-A191-A32C5D7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5F6F-20AC-4BD7-8C42-5CDE62C97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Eternal Life in Christ;</a:t>
            </a:r>
            <a:br>
              <a:rPr sz="6600"/>
            </a:b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a present realit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7120" y="4571640"/>
            <a:ext cx="832968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F:\20090424 Noosaville\P42606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501040" cy="680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0: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I have come that they may have life, and have it to the full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Eternal life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begins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when one knows the only true God , and Jesus Chris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Heavenly realities that can be lived out now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The glory of God, the delight of Christ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3240"/>
            <a:ext cx="874872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Heavenly realities that can be lived out now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The glory of God, the delight of Christ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A trust and dependence on God for all th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Fellowship of Saints (fellow believ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7:1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"Father, the time has come. Glorify your Son, that your Son may glorify you. 2 For you granted him authority over all people that he might give eternal life to all those you have given him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Bryan's photos\Tays 1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3 Now this is eternal life: that they may </a:t>
            </a:r>
            <a:r>
              <a:rPr b="1" i="1" lang="en-AU" sz="4800" spc="-1" strike="noStrike">
                <a:solidFill>
                  <a:srgbClr val="ffffff"/>
                </a:solidFill>
                <a:latin typeface="Calibri"/>
              </a:rPr>
              <a:t>know</a:t>
            </a:r>
            <a:r>
              <a:rPr b="1" i="1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you, the only true God, and Jesus Christ…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3 Now this is eternal life: that they may know</a:t>
            </a:r>
            <a:r>
              <a:rPr b="1" i="1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AU" sz="4800" spc="-1" strike="noStrike">
                <a:solidFill>
                  <a:srgbClr val="ffffff"/>
                </a:solidFill>
                <a:latin typeface="Calibri"/>
              </a:rPr>
              <a:t>about</a:t>
            </a: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you, the only true God, and Jesus Christ…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   “</a:t>
            </a: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KNOW”- in Greek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   “</a:t>
            </a:r>
            <a:r>
              <a:rPr b="1" lang="en-AU" sz="4800" spc="-1" strike="noStrike">
                <a:solidFill>
                  <a:srgbClr val="ffff00"/>
                </a:solidFill>
                <a:latin typeface="Calibri"/>
              </a:rPr>
              <a:t>Ginosko” – meaning to understand completely, to know absolutely.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To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know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someone, in this context means having a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personal relationship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with the person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John 17: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3 Now this is eternal life: that they may know you, the only true </a:t>
            </a:r>
            <a:r>
              <a:rPr b="1" lang="en-AU" sz="4800" spc="-1" strike="noStrike">
                <a:solidFill>
                  <a:srgbClr val="ffffff"/>
                </a:solidFill>
                <a:latin typeface="Calibri"/>
              </a:rPr>
              <a:t>God, and Jesus Christ</a:t>
            </a:r>
            <a:r>
              <a:rPr b="0" lang="en-AU" sz="4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whom you have se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Knowing God without knowing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Jesus Christ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 would mean facing His </a:t>
            </a:r>
            <a:r>
              <a:rPr b="1" lang="en-AU" sz="4800" spc="-1" strike="noStrike" u="sng">
                <a:solidFill>
                  <a:srgbClr val="ffff00"/>
                </a:solidFill>
                <a:uFillTx/>
                <a:latin typeface="Calibri"/>
              </a:rPr>
              <a:t>righteous judgment</a:t>
            </a:r>
            <a:r>
              <a:rPr b="0" lang="en-AU" sz="4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7: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3 Now this is eternal life: that they may know you, the only true God, and Jesus Christ, whom you have s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3 Now this is eternal life: that they may know you, the only true God, and Jesus Christ, whom you have s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7: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3 Now this is </a:t>
            </a:r>
            <a:r>
              <a:rPr b="1" i="1" lang="en-AU" sz="4400" spc="-1" strike="noStrike" u="sng">
                <a:solidFill>
                  <a:srgbClr val="ffff00"/>
                </a:solidFill>
                <a:uFillTx/>
                <a:latin typeface="Calibri"/>
              </a:rPr>
              <a:t>eternal life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: that they may know you, the only true God, and Jesus Christ, whom you have s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475920"/>
            <a:ext cx="8604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Eternal life refers not only to the eternal quantity but </a:t>
            </a:r>
            <a:r>
              <a:rPr b="0" lang="en-AU" sz="4400" spc="-1" strike="noStrike" u="sng">
                <a:solidFill>
                  <a:srgbClr val="ffffff"/>
                </a:solidFill>
                <a:uFillTx/>
                <a:latin typeface="Calibri"/>
              </a:rPr>
              <a:t>divine quality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of life. It means literally, </a:t>
            </a: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“Life of the age to come”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....this life for believers in the Lord Jesus is experienced before heaven is reached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(John MacArthur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John 10: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10 The thief comes only to steal and kill and destroy; I have come that they may have life, and have it to the full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20090424 Noosaville\P4260636.JPG"/>
          <p:cNvPicPr/>
          <p:nvPr/>
        </p:nvPicPr>
        <p:blipFill>
          <a:blip r:embed="rId1"/>
          <a:stretch/>
        </p:blipFill>
        <p:spPr>
          <a:xfrm>
            <a:off x="34920" y="2700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1:20:29Z</dcterms:created>
  <dc:creator>SP</dc:creator>
  <dc:description/>
  <dc:language>en-US</dc:language>
  <cp:lastModifiedBy>N Jarrrott</cp:lastModifiedBy>
  <dcterms:modified xsi:type="dcterms:W3CDTF">2012-01-31T11:18:13Z</dcterms:modified>
  <cp:revision>186</cp:revision>
  <dc:subject/>
  <dc:title>Rom 1:20 20 For since the creation of the world God's invisible qualities — his eternal power and divine nature — have been clearly seen, being understood from what has been made, so that men are without excuse.</dc:title>
</cp:coreProperties>
</file>