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677-842B-44E1-9D91-556F98B5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EE4-DD6C-449B-8F54-E91D0A7A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573-C35E-4ADC-91BC-6DEF65B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3B9-B611-4616-AB2E-F6CC03C7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AF2-C4C7-4484-96BC-1697295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83E-D81C-4010-B6AF-3E651958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1F7-A4FB-40B6-B63D-936C1301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4AE-A1CF-445E-868A-07570D70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DE4-75AA-4BDB-AC8E-45EBE30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899-DEF6-484E-81B5-DA2A901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A9F-46F4-4FD6-A1DF-72FD5E1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E1B-2E78-49E9-AA81-C8587DC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269-D45A-49C2-B1CE-06DB91834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Eternal Life in Christ;</a:t>
            </a:r>
            <a:br>
              <a:rPr sz="6600"/>
            </a:b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a present real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7120" y="4571640"/>
            <a:ext cx="832968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20090424 Noosaville\P426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501040" cy="680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0: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I have come that they may have life, and have it to the ful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Eternal life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begins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hen one knows the only true God , and Jesus Chri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Heavenly realities that can be lived out now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The glory of God, the delight of Christ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3240"/>
            <a:ext cx="874872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Heavenly realities that can be lived out now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The glory of God, the delight of Christ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A trust and dependence on God for all th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Fellowship of Saints (fellow believ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"Father, the time has come. Glorify your Son, that your Son may glorify you. 2 For you granted him authority over all people that he might give eternal life to all those you have given him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Bryan's photos\Tays 1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</a:t>
            </a:r>
            <a:r>
              <a:rPr b="1" i="1" lang="en-AU" sz="4800" spc="-1" strike="noStrike">
                <a:solidFill>
                  <a:srgbClr val="ffffff"/>
                </a:solidFill>
                <a:latin typeface="Calibri"/>
              </a:rPr>
              <a:t>know</a:t>
            </a:r>
            <a:r>
              <a:rPr b="1" i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you, the only true God, and Jesus Christ…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know</a:t>
            </a:r>
            <a:r>
              <a:rPr b="1" i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AU" sz="4800" spc="-1" strike="noStrike">
                <a:solidFill>
                  <a:srgbClr val="ffffff"/>
                </a:solidFill>
                <a:latin typeface="Calibri"/>
              </a:rPr>
              <a:t>about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you, the only true God, and Jesus Christ…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  “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KNOW”- in Greek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  “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Ginosko” – meaning to understand completely, to know absolutely.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To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know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someone, in this context means having a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personal relationship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ith the pers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</a:t>
            </a: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God, and Jesus Christ</a:t>
            </a: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whom you have s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Knowing God without knowing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Jesus Christ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ould mean facing His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righteous judgment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</a:t>
            </a:r>
            <a:r>
              <a:rPr b="1" i="1" lang="en-AU" sz="4400" spc="-1" strike="noStrike" u="sng">
                <a:solidFill>
                  <a:srgbClr val="ffff00"/>
                </a:solidFill>
                <a:uFillTx/>
                <a:latin typeface="Calibri"/>
              </a:rPr>
              <a:t>eternal life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475920"/>
            <a:ext cx="8604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Eternal life refers not only to the eternal quantity but </a:t>
            </a:r>
            <a:r>
              <a:rPr b="0" lang="en-AU" sz="4400" spc="-1" strike="noStrike" u="sng">
                <a:solidFill>
                  <a:srgbClr val="ffffff"/>
                </a:solidFill>
                <a:uFillTx/>
                <a:latin typeface="Calibri"/>
              </a:rPr>
              <a:t>divine quality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of life. It means literally, 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“Life of the age to come”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....this life for believers in the Lord Jesus is experienced before heaven is reache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(John MacArthur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0: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10 The thief comes only to steal and kill and destroy; I have come that they may have life, and have it to the ful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20090424 Noosaville\P4260636.JPG"/>
          <p:cNvPicPr/>
          <p:nvPr/>
        </p:nvPicPr>
        <p:blipFill>
          <a:blip r:embed="rId1"/>
          <a:stretch/>
        </p:blipFill>
        <p:spPr>
          <a:xfrm>
            <a:off x="34920" y="2700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 Jarrrott</cp:lastModifiedBy>
  <dcterms:modified xsi:type="dcterms:W3CDTF">2012-01-31T11:18:13Z</dcterms:modified>
  <cp:revision>186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