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5359-6438-4D14-809B-CB1C988C3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BBCE-9F15-48CF-9419-5FA76924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B1126-8E6F-405B-8BD6-AAAEFAF90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151CA-D9A0-4414-80AB-7D8F35DA5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FEA3A-CCD6-4A7E-9E61-934D66DA6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25D8-7DE3-4C14-BDAF-B9737BB90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31937-CF92-4650-B5BB-2162D85B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B823D-17D2-4CC3-B14E-9E00F940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0F93E-B911-482B-89EB-F4CCE0CF4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A99B-7098-4BA4-B2F5-A7074F76E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FE7A-7C31-4BD0-B8FC-1F9D4EB72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49BB-12A5-4A97-A6D5-D8D6DF435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4FF7-1E67-4F9F-9B76-94400A30CAD0}" type="slidenum">
              <a:rPr b="0" lang="en-A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
          <p:cNvSpPr/>
          <p:nvPr/>
        </p:nvSpPr>
        <p:spPr>
          <a:xfrm>
            <a:off x="611280" y="765000"/>
            <a:ext cx="7921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Black"/>
              </a:rPr>
              <a:t>The Lordship of Chris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2"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Black"/>
                <a:ea typeface="新細明體"/>
              </a:rPr>
              <a:t>On the third day there was a wedding in Cana of Galilee, and the mother of Jesus was there; and both Jesus and His disciples were invited to the wedding. When the wine ran out, the mother of Jesus *said to Him, "They have no wine." And Jesus *said to her, "Woman, what does that have to do with us? My hour has not yet come." His mother *said to the servants, "Whatever He says to you, do it."</a:t>
            </a:r>
            <a:r>
              <a:rPr b="0" lang="en-AU" sz="1800" spc="-1" strike="noStrike">
                <a:solidFill>
                  <a:srgbClr val="ffffff"/>
                </a:solidFill>
                <a:latin typeface="Arial"/>
                <a:ea typeface="新細明體"/>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Black"/>
                <a:ea typeface="新細明體"/>
              </a:rPr>
              <a:t>Now there were six stone waterpots set there for the Jewish custom of purification, containing twenty or thirty gallons each. Jesus *said to them, "Fill the water pots with water." So they filled them up to the brim. And He *said to them, "Draw some out now and take it to the headwaiter." So they took it to hi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Black"/>
                <a:ea typeface="新細明體"/>
              </a:rPr>
              <a:t>When the headwaiter tasted the water which had become wine, and did not know where it came from (but the servants who had drawn the water knew), the headwaiter *called the bridegroom, and *said to him, "Every man serves the good wine first, and when the people have drunk freely, then he serves the poorer wine; but you have kept the good wine until now."</a:t>
            </a:r>
            <a:r>
              <a:rPr b="0" lang="en-AU" sz="1800" spc="-1" strike="noStrike">
                <a:solidFill>
                  <a:srgbClr val="ffffff"/>
                </a:solidFill>
                <a:latin typeface="Arial"/>
                <a:ea typeface="新細明體"/>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is beginning of His signs Jesus did in Cana of Galilee, and </a:t>
            </a:r>
            <a:r>
              <a:rPr b="0" lang="en-US" sz="3600" spc="-1" strike="noStrike">
                <a:solidFill>
                  <a:srgbClr val="ffff99"/>
                </a:solidFill>
                <a:latin typeface="Arial Black"/>
              </a:rPr>
              <a:t>manifested</a:t>
            </a:r>
            <a:r>
              <a:rPr b="0" lang="en-US" sz="3600" spc="-1" strike="noStrike">
                <a:solidFill>
                  <a:srgbClr val="ffffff"/>
                </a:solidFill>
                <a:latin typeface="Arial Black"/>
              </a:rPr>
              <a:t> His glory, and His disciples believed in Him.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ohn 2:1-11 NASB)</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
          <p:cNvSpPr/>
          <p:nvPr/>
        </p:nvSpPr>
        <p:spPr>
          <a:xfrm>
            <a:off x="0" y="0"/>
            <a:ext cx="9144000" cy="41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1. What happens when God </a:t>
            </a:r>
            <a:r>
              <a:rPr b="1" lang="en-US" sz="4000" spc="-1" strike="noStrike">
                <a:solidFill>
                  <a:srgbClr val="ffff99"/>
                </a:solidFill>
                <a:latin typeface="Arial Black"/>
              </a:rPr>
              <a:t>manifests</a:t>
            </a:r>
            <a:r>
              <a:rPr b="1" lang="en-US" sz="4000" spc="-1" strike="noStrike">
                <a:solidFill>
                  <a:srgbClr val="ffffff"/>
                </a:solidFill>
                <a:latin typeface="Arial Black"/>
              </a:rPr>
              <a:t> (reveals) Himself?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For I know the plans I have for you declares the Lord, plans to prosper you and not to harm you, plans to give you a hope and a future”. </a:t>
            </a:r>
            <a:r>
              <a:rPr b="0" lang="en-US" sz="3600" spc="-1" strike="noStrike">
                <a:solidFill>
                  <a:srgbClr val="ffff99"/>
                </a:solidFill>
                <a:latin typeface="Arial Black"/>
              </a:rPr>
              <a:t>Jeremiah 29:11</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
          <p:cNvSpPr/>
          <p:nvPr/>
        </p:nvSpPr>
        <p:spPr>
          <a:xfrm>
            <a:off x="0" y="0"/>
            <a:ext cx="9144000" cy="618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2. Need for God to manifest Himself</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reason I can still find hope is that I keep this one thing in mind: the LORD'S mercy. We were not completely wiped out. His compassion is never limited. It is new every morning. His faithfulness is great. My soul can say, 'The LORD is my lot in life. That is why I find hope in him.' The LORD is good to those who wait for him, to anyone who seeks help from him. "It is good to continue to hope and wait silently for the LORD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Black"/>
              </a:rPr>
              <a:t>Lam 3:22-26 G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Then Samuel said, "Is the LORD as delighted with burnt offerings and sacrifices as he would be with your obedience? To follow instructions is better than to sacrifice. To obey is better than sacrificing the fat of rams.” I </a:t>
            </a:r>
            <a:r>
              <a:rPr b="0" lang="en-US" sz="3600" spc="-1" strike="noStrike">
                <a:solidFill>
                  <a:srgbClr val="ffff99"/>
                </a:solidFill>
                <a:latin typeface="Arial Black"/>
              </a:rPr>
              <a:t>Samuel 15:2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
          <p:cNvSpPr/>
          <p:nvPr/>
        </p:nvSpPr>
        <p:spPr>
          <a:xfrm>
            <a:off x="0" y="0"/>
            <a:ext cx="91440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3. Obedience, Perseverance and </a:t>
            </a:r>
            <a:r>
              <a:rPr b="1" lang="en-US" sz="4000" spc="-1" strike="noStrike">
                <a:solidFill>
                  <a:srgbClr val="ffff99"/>
                </a:solidFill>
                <a:latin typeface="Arial Black"/>
              </a:rPr>
              <a:t>Manifestati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03:36:12Z</dcterms:created>
  <dc:creator>RogLang</dc:creator>
  <dc:description/>
  <dc:language>en-US</dc:language>
  <cp:lastModifiedBy>RogLang</cp:lastModifiedBy>
  <dcterms:modified xsi:type="dcterms:W3CDTF">2012-01-28T22:31:29Z</dcterms:modified>
  <cp:revision>2</cp:revision>
  <dc:subject/>
  <dc:title>Slide 1</dc:title>
</cp:coreProperties>
</file>