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B4F-4516-4270-AD32-1A8384EAC7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A73-C443-4E30-A237-2A7A8E05C1E4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3E3-1D40-4D92-BEC3-20AF5F56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E02-8F92-4416-AB5A-FDAF36EB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27E-54CC-4CFC-A67C-E1810436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3F4-84C3-4F3D-87BC-A4B462C2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30E-9164-45F4-9D5D-041B571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C0B-6724-4BD9-B1E1-3C409205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866-D631-4A48-A549-B11C2B59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ADD-11AF-4506-AA26-2CF42F3A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574-538F-4C6C-AA36-A899D86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7A0-5EB0-4FDC-A773-DC8DFA1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DCF-71DD-44E9-893C-486242B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CCD-7FFA-463C-81C4-E5D9D9BD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152-F97B-4AB2-97C0-F0E38E004614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utime shirts.jpg"/>
          <p:cNvPicPr/>
          <p:nvPr/>
        </p:nvPicPr>
        <p:blipFill>
          <a:blip r:embed="rId1"/>
          <a:stretch/>
        </p:blipFill>
        <p:spPr>
          <a:xfrm rot="20880000">
            <a:off x="254160" y="450720"/>
            <a:ext cx="4643280" cy="293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" name="Content Placeholder 3" descr="Back of car 2.jpg"/>
          <p:cNvPicPr/>
          <p:nvPr/>
        </p:nvPicPr>
        <p:blipFill>
          <a:blip r:embed="rId2"/>
          <a:stretch/>
        </p:blipFill>
        <p:spPr>
          <a:xfrm rot="720000">
            <a:off x="4727160" y="426960"/>
            <a:ext cx="4459320" cy="334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0" name="Picture 10" descr="play costumes.jpg"/>
          <p:cNvPicPr/>
          <p:nvPr/>
        </p:nvPicPr>
        <p:blipFill>
          <a:blip r:embed="rId3"/>
          <a:stretch/>
        </p:blipFill>
        <p:spPr>
          <a:xfrm>
            <a:off x="2340000" y="2924280"/>
            <a:ext cx="41400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5703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ailand Mission Trip 20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Straight Connector 7"/>
          <p:cNvSpPr/>
          <p:nvPr/>
        </p:nvSpPr>
        <p:spPr>
          <a:xfrm>
            <a:off x="395280" y="602136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Ker’s so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In the days when Jesus came in human form to this earth, many people were following him. He told them I am your saviour. Many did not understand or know what the truth was.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Jesus said I am here to bring you love and I am the light. </a:t>
            </a:r>
            <a:br>
              <a:rPr sz="3300"/>
            </a:b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But some people are still blind. One day this earth will end and there will be death.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Ker’s so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My friends, come and make the decision to believe in and accept God. He has said he is going to live in each of your hearts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In heaven, there is eternal  life. Come trust in me and ask, and I will give you eternal life. Don't be in worry, I’ll never leave you.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300" spc="-1" strike="noStrike">
                <a:solidFill>
                  <a:srgbClr val="ffffff"/>
                </a:solidFill>
                <a:latin typeface="Calibri"/>
              </a:rPr>
              <a:t>I will be waiting to open the doors of heaven for you to live with me forever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estimony - Al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7" descr="DSCI0319.JPG"/>
          <p:cNvPicPr/>
          <p:nvPr/>
        </p:nvPicPr>
        <p:blipFill>
          <a:blip r:embed="rId2"/>
          <a:stretch/>
        </p:blipFill>
        <p:spPr>
          <a:xfrm>
            <a:off x="1332000" y="1773360"/>
            <a:ext cx="6465960" cy="484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estimony - Me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5" descr="Arjaan Banyar.jpg"/>
          <p:cNvPicPr/>
          <p:nvPr/>
        </p:nvPicPr>
        <p:blipFill>
          <a:blip r:embed="rId1"/>
          <a:stretch/>
        </p:blipFill>
        <p:spPr>
          <a:xfrm>
            <a:off x="324000" y="2060640"/>
            <a:ext cx="3024000" cy="3552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Content Placeholder 7" descr="twister.jpg"/>
          <p:cNvPicPr/>
          <p:nvPr/>
        </p:nvPicPr>
        <p:blipFill>
          <a:blip r:embed="rId2"/>
          <a:stretch/>
        </p:blipFill>
        <p:spPr>
          <a:xfrm>
            <a:off x="3564000" y="1773360"/>
            <a:ext cx="5324400" cy="3992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Content Placeholder 3" descr="Hmong pic.jpg"/>
          <p:cNvPicPr/>
          <p:nvPr/>
        </p:nvPicPr>
        <p:blipFill>
          <a:blip r:embed="rId1"/>
          <a:stretch/>
        </p:blipFill>
        <p:spPr>
          <a:xfrm>
            <a:off x="395280" y="731880"/>
            <a:ext cx="8167680" cy="6126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Gifts from Hmong chu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Content Placeholder 3" descr="Jesus pic student.jpg"/>
          <p:cNvPicPr/>
          <p:nvPr/>
        </p:nvPicPr>
        <p:blipFill>
          <a:blip r:embed="rId1"/>
          <a:stretch/>
        </p:blipFill>
        <p:spPr>
          <a:xfrm>
            <a:off x="539640" y="1844640"/>
            <a:ext cx="339408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8" name="Picture 4" descr="moh pick.jpg"/>
          <p:cNvPicPr/>
          <p:nvPr/>
        </p:nvPicPr>
        <p:blipFill>
          <a:blip r:embed="rId2"/>
          <a:stretch/>
        </p:blipFill>
        <p:spPr>
          <a:xfrm>
            <a:off x="5148360" y="1916280"/>
            <a:ext cx="3363840" cy="4485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Straight Connector 5"/>
          <p:cNvSpPr/>
          <p:nvPr/>
        </p:nvSpPr>
        <p:spPr>
          <a:xfrm>
            <a:off x="539640" y="1413000"/>
            <a:ext cx="820908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DSCI0431.JPG"/>
          <p:cNvPicPr/>
          <p:nvPr/>
        </p:nvPicPr>
        <p:blipFill>
          <a:blip r:embed="rId1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Content Placeholder 8" descr="carols.jpg"/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blankets.jpg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r cooking.jpg"/>
          <p:cNvPicPr/>
          <p:nvPr/>
        </p:nvPicPr>
        <p:blipFill>
          <a:blip r:embed="rId4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Calibri"/>
              </a:rPr>
              <a:t>Brannie’s </a:t>
            </a:r>
            <a:br>
              <a:rPr sz="4800"/>
            </a:br>
            <a:r>
              <a:rPr b="0" lang="en-AU" sz="4800" spc="-1" strike="noStrike">
                <a:solidFill>
                  <a:srgbClr val="ffffff"/>
                </a:solidFill>
                <a:latin typeface="Calibri"/>
              </a:rPr>
              <a:t>testimon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24000" y="2205000"/>
            <a:ext cx="882000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5" descr="brannie burma.jpg"/>
          <p:cNvPicPr/>
          <p:nvPr/>
        </p:nvPicPr>
        <p:blipFill>
          <a:blip r:embed="rId1"/>
          <a:stretch/>
        </p:blipFill>
        <p:spPr>
          <a:xfrm>
            <a:off x="3564000" y="404640"/>
            <a:ext cx="5184720" cy="593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Prayer points - P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alibri"/>
              </a:rPr>
              <a:t>Mekong Minority Foundation (MM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Nit.jpg"/>
          <p:cNvPicPr/>
          <p:nvPr/>
        </p:nvPicPr>
        <p:blipFill>
          <a:blip r:embed="rId1"/>
          <a:stretch/>
        </p:blipFill>
        <p:spPr>
          <a:xfrm>
            <a:off x="468360" y="2852640"/>
            <a:ext cx="431964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5" name="Picture 5" descr="Scott.jpg"/>
          <p:cNvPicPr/>
          <p:nvPr/>
        </p:nvPicPr>
        <p:blipFill>
          <a:blip r:embed="rId2"/>
          <a:stretch/>
        </p:blipFill>
        <p:spPr>
          <a:xfrm>
            <a:off x="5003640" y="2852640"/>
            <a:ext cx="3961080" cy="257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TextBox 6"/>
          <p:cNvSpPr/>
          <p:nvPr/>
        </p:nvSpPr>
        <p:spPr>
          <a:xfrm>
            <a:off x="395280" y="58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Nitaya Buayoi and her fami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5183280" y="5805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cott Coats and his fami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Prayer points - And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alibri"/>
              </a:rPr>
              <a:t>Burmese Migrant Sch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4" descr="Teacher -somlair.jpg"/>
          <p:cNvPicPr/>
          <p:nvPr/>
        </p:nvPicPr>
        <p:blipFill>
          <a:blip r:embed="rId1"/>
          <a:stretch/>
        </p:blipFill>
        <p:spPr>
          <a:xfrm>
            <a:off x="5076720" y="2565360"/>
            <a:ext cx="3740400" cy="261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6948360" y="5589720"/>
            <a:ext cx="21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omalar – Migrant School teac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13" descr="toys.jpg"/>
          <p:cNvPicPr/>
          <p:nvPr/>
        </p:nvPicPr>
        <p:blipFill>
          <a:blip r:embed="rId2"/>
          <a:stretch/>
        </p:blipFill>
        <p:spPr>
          <a:xfrm>
            <a:off x="324000" y="2492280"/>
            <a:ext cx="4211640" cy="315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Prayer points - Ele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alibri"/>
              </a:rPr>
              <a:t>Hmong Student dormitory – Tha Wang Ph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Straight Connector 3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6" descr="Group dorm shot.jpg"/>
          <p:cNvPicPr/>
          <p:nvPr/>
        </p:nvPicPr>
        <p:blipFill>
          <a:blip r:embed="rId1"/>
          <a:stretch/>
        </p:blipFill>
        <p:spPr>
          <a:xfrm>
            <a:off x="1584360" y="2249640"/>
            <a:ext cx="5796000" cy="4348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0" y="0"/>
            <a:ext cx="3141720" cy="71740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MM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Praise God fo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is un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ministry that reac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out to the poor ethn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groups of Thailand</a:t>
            </a: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Pray fo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Nitaya Buayo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 leads MMF. P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for wisdom 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guidanc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2. Scott Coats wh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dvises MMF. P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God would prov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Godly  staff and me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MMF’s financial 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spiritual need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132000" y="0"/>
            <a:ext cx="3024360" cy="71650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Burmese Scho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Praise God for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1. The love that is 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evident at the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2. The amaz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eacher and che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3. Such a wonderfu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minist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Pray for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1. Funding – no $$ n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Scho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2. The children 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ir families wi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w God throug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 minist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3. Transport for th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hildren to get to  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from scho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119640" y="0"/>
            <a:ext cx="3024360" cy="6799320"/>
          </a:xfrm>
          <a:prstGeom prst="rect">
            <a:avLst/>
          </a:prstGeom>
          <a:solidFill>
            <a:srgbClr val="403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Hmong dormit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Praise God for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1. The way you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hristian leaders 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being nurtu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2. Ajarn Banyaa wh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has selflessly led th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Minist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Pray for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1. Fund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2. The children 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ir families wi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know God throug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e minist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3.New house par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ho would be lov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and Godly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Calibri"/>
              </a:rPr>
              <a:t>Letter - Lis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traight Connector 3"/>
          <p:cNvSpPr/>
          <p:nvPr/>
        </p:nvSpPr>
        <p:spPr>
          <a:xfrm>
            <a:off x="395280" y="1413000"/>
            <a:ext cx="874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68360" y="170028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Lucida Handwriting"/>
              </a:rPr>
              <a:t>My inspiration was…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Content Placeholder 8" descr="Lisa 3.jpg"/>
          <p:cNvPicPr/>
          <p:nvPr/>
        </p:nvPicPr>
        <p:blipFill>
          <a:blip r:embed="rId1"/>
          <a:stretch/>
        </p:blipFill>
        <p:spPr>
          <a:xfrm>
            <a:off x="4284720" y="476280"/>
            <a:ext cx="4329000" cy="5773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Ker – Song for the Hmong Chu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Scott\Downloads\Mum singing 2.jpg"/>
          <p:cNvPicPr/>
          <p:nvPr/>
        </p:nvPicPr>
        <p:blipFill>
          <a:blip r:embed="rId2"/>
          <a:stretch/>
        </p:blipFill>
        <p:spPr>
          <a:xfrm>
            <a:off x="5668920" y="1584360"/>
            <a:ext cx="2790720" cy="50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Picture 3" descr="C:\Users\Scott\Downloads\Mum and Ajarn Banya and Wife.jpg"/>
          <p:cNvPicPr/>
          <p:nvPr/>
        </p:nvPicPr>
        <p:blipFill>
          <a:blip r:embed="rId3"/>
          <a:stretch/>
        </p:blipFill>
        <p:spPr>
          <a:xfrm>
            <a:off x="468360" y="2303640"/>
            <a:ext cx="4895640" cy="3573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23:08:20Z</dcterms:created>
  <dc:creator>Scott Downman</dc:creator>
  <dc:description/>
  <dc:language>en-US</dc:language>
  <cp:lastModifiedBy>N Jarrrott</cp:lastModifiedBy>
  <dcterms:modified xsi:type="dcterms:W3CDTF">2012-02-05T11:30:15Z</dcterms:modified>
  <cp:revision>35</cp:revision>
  <dc:subject/>
  <dc:title>Thailand Mission Trip 2011</dc:title>
</cp:coreProperties>
</file>