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01B9-D793-49AF-9937-675056A86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18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7B03-990B-4A93-B2A8-028C7AD6A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3977-7938-4414-A042-905171A6A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4DED-F9C3-4566-8175-1A8B4C93F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5621-93CD-44E3-A777-776C0B2E9B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916A-FB5A-428B-AD71-1BC765949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DF6A-DF7C-4254-A3E0-00AC9D15B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9EFE-E224-48A2-9190-F26C541208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F57F-D508-4887-A50B-129CD5EDE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12EE-1E58-4A51-9B4F-806516319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689E-3ABE-462D-8F4E-C6E83853C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9C25-3B35-402A-9B05-BAD685F7F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6529-D2AC-42A7-8845-9A758D1AF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AE15-FCB5-4B31-A779-CC78F5279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18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F5DD-8775-4E25-BD9C-A65FC0359F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8128-B7D6-44FE-A938-0FA053DB79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518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502E-FE76-4330-81B1-C704BB5A9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D30B-DDDE-43CA-9F43-B036E59E3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BE81-9A07-4BBC-9B01-A55A803DA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EDBC-8AEB-4EA2-98D4-F41DF910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6CF7-E10E-4BCB-9224-2863B0065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BBAB-9C37-4CAF-8750-B35617FB1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18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4D89-6FBE-4FB1-AE4A-BB352258D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18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438B-6583-4407-A6FC-201101EBF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BF719-EE03-483A-B0DE-B3EDF5366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4AC6AB-B0CA-4EAF-9058-5C018852DB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335268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Omega Discipleship Minist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Bahamas"/>
              </a:rPr>
              <a:t>Growing believers into mature disci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2260800" cy="234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7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onsec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 said, ‘Here am I, send me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Response of hum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Lord if you can use me, here  I am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48440" y="73080"/>
            <a:ext cx="3895560" cy="5867280"/>
            <a:chOff x="5248440" y="73080"/>
            <a:chExt cx="3895560" cy="5867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5248440" y="73080"/>
              <a:ext cx="38955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248440" y="73080"/>
              <a:ext cx="389556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0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dur="indefinite" fill="hold">
                            <p:stCondLst>
                              <p:cond delay="23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4300"/>
                            </p:stCondLst>
                            <p:childTnLst>
                              <p:par>
                                <p:cTn id="2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6300"/>
                            </p:stCondLst>
                            <p:childTnLst>
                              <p:par>
                                <p:cTn id="2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71600"/>
            <a:ext cx="3200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8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He said, ‘Go . . .!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True revival always results in miss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Responding to the heart of G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81280" y="1397160"/>
            <a:ext cx="5562720" cy="3708360"/>
            <a:chOff x="3581280" y="1397160"/>
            <a:chExt cx="5562720" cy="37083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581280" y="1397160"/>
              <a:ext cx="5562720" cy="37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81280" y="1397160"/>
              <a:ext cx="5562720" cy="37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0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2100"/>
                            </p:stCondLst>
                            <p:childTnLst>
                              <p:par>
                                <p:cTn id="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41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 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(Isaiah 6:1-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37160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onfro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onv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onf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lean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onsec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ahoma"/>
              </a:rPr>
              <a:t>Com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480" indent="-528480"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81280" y="1397160"/>
            <a:ext cx="5562720" cy="3708360"/>
            <a:chOff x="3581280" y="1397160"/>
            <a:chExt cx="5562720" cy="3708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81280" y="1397160"/>
              <a:ext cx="5562720" cy="37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81280" y="1397160"/>
              <a:ext cx="5562720" cy="37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0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5450"/>
                            </p:stCondLst>
                            <p:childTnLst>
                              <p:par>
                                <p:cTn id="27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dur="indefinite" fill="hold">
                            <p:stCondLst>
                              <p:cond delay="745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dur="indefinite" fill="hold">
                            <p:stCondLst>
                              <p:cond delay="9450"/>
                            </p:stCondLst>
                            <p:childTnLst>
                              <p:par>
                                <p:cTn id="2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11450"/>
                            </p:stCondLst>
                            <p:childTnLst>
                              <p:par>
                                <p:cTn id="2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15650"/>
                            </p:stCondLst>
                            <p:childTnLst>
                              <p:par>
                                <p:cTn id="2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Where are you in this process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Trying to shortcut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Blocking &amp; stopping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Will you let God have his way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33920" y="1905120"/>
            <a:ext cx="5638680" cy="3527280"/>
            <a:chOff x="3733920" y="1905120"/>
            <a:chExt cx="5638680" cy="3527280"/>
          </a:xfrm>
        </p:grpSpPr>
        <p:pic>
          <p:nvPicPr>
            <p:cNvPr id="141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733920" y="1905120"/>
              <a:ext cx="563868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733920" y="1905120"/>
              <a:ext cx="5638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dur="indefinite" fill="hold">
                      <p:stCondLst>
                        <p:cond delay="0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3400"/>
                            </p:stCondLst>
                            <p:childTnLst>
                              <p:par>
                                <p:cTn id="3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540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740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fill="hold">
                            <p:stCondLst>
                              <p:cond delay="94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Consuming fi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There must be more than th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O breath of God come breathe with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There must be more than th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Spirit of God we wait for y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Fill us anew we pr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Fill us anew we pr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8580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Consuming fire, fan into fl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A passion for your N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Spirit of God would you fall in this pl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have your w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have your way with 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7621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Come like a rushing wi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Clothe us with power from on hig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Now set the captives fre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eave us abandoned to your prai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let your glory f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let your glory f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8580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Consuming fire, fan into fl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A passion for your N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Spirit of God would you fall in this pl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have your w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Lord have your way with 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Stir it up in our hearts, Lo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ahoma"/>
              </a:rPr>
              <a:t>A passion for your N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REVIV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Arial"/>
              </a:rPr>
              <a:t>The Divin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(Isaiah 6:1-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801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0292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Revival</a:t>
            </a:r>
            <a:r>
              <a:rPr b="0" lang="en-US" sz="5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6095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Revival is God bending down to the dying embers of a fire just about to go out and breathing into it until it bursts into flame.”  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(C.Eva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What we call revival is simply New Testament Christianity – the saints getting back to normal.”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(Vance Havn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00800" y="1981080"/>
            <a:ext cx="2743200" cy="3276720"/>
            <a:chOff x="6400800" y="1981080"/>
            <a:chExt cx="2743200" cy="32767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400800" y="1981080"/>
              <a:ext cx="27432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00800" y="1981080"/>
              <a:ext cx="27432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560" y="104760"/>
            <a:ext cx="8147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(Isaiah 6:1-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37160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1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n the year king Uzziah died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time of personal &amp; national </a:t>
            </a: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cri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God often does his best things in the worst possible time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- Billy Grah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02360" y="1066680"/>
            <a:ext cx="3797280" cy="5791320"/>
            <a:chOff x="5202360" y="1066680"/>
            <a:chExt cx="3797280" cy="57913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202360" y="1066680"/>
              <a:ext cx="379728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02360" y="1066680"/>
              <a:ext cx="379728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350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2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onfro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 saw the Lord . .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God revealed in his majesty &amp; holin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Confronted with God’s ‘manifest presence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59280" y="1447920"/>
            <a:ext cx="4983120" cy="3232080"/>
            <a:chOff x="3959280" y="1447920"/>
            <a:chExt cx="4983120" cy="3232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959280" y="1447920"/>
              <a:ext cx="4983120" cy="32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959280" y="1447920"/>
              <a:ext cx="498312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0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3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onvi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 am finished’, I cri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God’s holiness reveals us as we really are under our disguises &amp; self decep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1 Peter 4:1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54480" y="360360"/>
            <a:ext cx="3845160" cy="5791320"/>
            <a:chOff x="5154480" y="360360"/>
            <a:chExt cx="3845160" cy="5791320"/>
          </a:xfrm>
        </p:grpSpPr>
        <p:pic>
          <p:nvPicPr>
            <p:cNvPr id="108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5154480" y="360360"/>
              <a:ext cx="38451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154480" y="360360"/>
              <a:ext cx="3845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3100"/>
                            </p:stCondLst>
                            <p:childTnLst>
                              <p:par>
                                <p:cTn id="1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51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71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2971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4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onf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 am a man of unclean lips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60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Agreeing with God about our true condi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No longer excusing or hiding behind oth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60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60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505320" y="1447920"/>
            <a:ext cx="5133960" cy="3232080"/>
            <a:chOff x="3505320" y="1447920"/>
            <a:chExt cx="5133960" cy="3232080"/>
          </a:xfrm>
        </p:grpSpPr>
        <p:pic>
          <p:nvPicPr>
            <p:cNvPr id="113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505320" y="1447920"/>
              <a:ext cx="5133960" cy="32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505320" y="1447920"/>
              <a:ext cx="513396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7160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5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Tahoma"/>
              </a:rPr>
              <a:t>Clean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‘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He took a coal . . . and touched my mouth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The fire of God purges out s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God’s grace – mercy instead of judgement 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(1 John 1:9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Hard times purge 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1 Peter 1:6-7, Hebrews 12:1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91960"/>
            <a:ext cx="8229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he Divine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4191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8840">
              <a:spcBef>
                <a:spcPts val="7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6. </a:t>
            </a:r>
            <a:r>
              <a:rPr b="0" lang="en-US" sz="3200" spc="-1" strike="noStrike" u="sng">
                <a:solidFill>
                  <a:srgbClr val="990099"/>
                </a:solidFill>
                <a:uFillTx/>
                <a:latin typeface="Tahoma"/>
              </a:rPr>
              <a:t>C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I heard the Lord saying, ‘Who will go for us?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Tahoma"/>
              </a:rPr>
              <a:t>- God giving you the opportunity to be part of His miss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288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ahoma"/>
              </a:rPr>
              <a:t>2 Chronicles 16:9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78600" y="1219320"/>
            <a:ext cx="3797280" cy="5790960"/>
            <a:chOff x="5178600" y="1219320"/>
            <a:chExt cx="3797280" cy="57909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5178600" y="1219320"/>
              <a:ext cx="379728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78600" y="1219320"/>
              <a:ext cx="379728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0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2:08:15Z</dcterms:created>
  <dc:creator>Eternity</dc:creator>
  <dc:description/>
  <dc:language>en-US</dc:language>
  <cp:lastModifiedBy>Ian</cp:lastModifiedBy>
  <dcterms:modified xsi:type="dcterms:W3CDTF">2012-03-17T22:29:23Z</dcterms:modified>
  <cp:revision>53</cp:revision>
  <dc:subject/>
  <dc:title>Be a Disciple</dc:title>
</cp:coreProperties>
</file>