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9.xml.rels" ContentType="application/vnd.openxmlformats-package.relationships+xml"/>
  <Override PartName="/ppt/notesSlides/_rels/notesSlide63.xml.rels" ContentType="application/vnd.openxmlformats-package.relationships+xml"/>
  <Override PartName="/ppt/notesSlides/_rels/notesSlide43.xml.rels" ContentType="application/vnd.openxmlformats-package.relationships+xml"/>
  <Override PartName="/ppt/notesSlides/_rels/notesSlide33.xml.rels" ContentType="application/vnd.openxmlformats-package.relationships+xml"/>
  <Override PartName="/ppt/notesSlides/_rels/notesSlide47.xml.rels" ContentType="application/vnd.openxmlformats-package.relationships+xml"/>
  <Override PartName="/ppt/notesSlides/_rels/notesSlide55.xml.rels" ContentType="application/vnd.openxmlformats-package.relationships+xml"/>
  <Override PartName="/ppt/notesSlides/_rels/notesSlide61.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notesSlide10.xml" ContentType="application/vnd.openxmlformats-officedocument.presentationml.notesSlide+xml"/>
  <Override PartName="/ppt/notesSlides/notesSlide18.xml" ContentType="application/vnd.openxmlformats-officedocument.presentationml.notesSlide+xml"/>
  <Override PartName="/ppt/notesSlides/notesSlide25.xml" ContentType="application/vnd.openxmlformats-officedocument.presentationml.notesSlide+xml"/>
  <Override PartName="/ppt/notesSlides/notesSlide61.xml" ContentType="application/vnd.openxmlformats-officedocument.presentationml.notesSlide+xml"/>
  <Override PartName="/ppt/notesSlides/notesSlide33.xml" ContentType="application/vnd.openxmlformats-officedocument.presentationml.notesSlide+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47.xml" ContentType="application/vnd.openxmlformats-officedocument.presentationml.notesSlide+xml"/>
  <Override PartName="/ppt/notesSlides/notesSlide63.xml" ContentType="application/vnd.openxmlformats-officedocument.presentationml.notesSlide+xml"/>
  <Override PartName="/ppt/notesSlides/notesSlide6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Sound%20Effect%20-%20Rooster%20Crow%2003.wav" ContentType="audio/x-wav"/>
  <Override PartName="/ppt/media/image2.jpeg" ContentType="image/jpeg"/>
  <Override PartName="/ppt/media/Sound%20Effect%20-%20Rooster%20Crow%2001.wav" ContentType="audio/x-wav"/>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2"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 name="PlaceHolder 1"/>
          <p:cNvSpPr>
            <a:spLocks noGrp="1"/>
          </p:cNvSpPr>
          <p:nvPr>
            <p:ph type="dt" idx="3"/>
          </p:nvPr>
        </p:nvSpPr>
        <p:spPr>
          <a:xfrm>
            <a:off x="3884400" y="-360"/>
            <a:ext cx="2966760" cy="452520"/>
          </a:xfrm>
          <a:prstGeom prst="rect">
            <a:avLst/>
          </a:prstGeom>
          <a:noFill/>
          <a:ln w="0">
            <a:noFill/>
          </a:ln>
        </p:spPr>
        <p:txBody>
          <a:bodyPr lIns="90000" rIns="90000" tIns="46800" bIns="46800" anchor="t">
            <a:noAutofit/>
          </a:bodyPr>
          <a:lstStyle>
            <a:lvl1pPr indent="0" algn="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AU" sz="1200" spc="-1" strike="noStrike">
                <a:solidFill>
                  <a:srgbClr val="000000"/>
                </a:solidFill>
                <a:latin typeface="Arial"/>
              </a:defRPr>
            </a:lvl1pPr>
          </a:lstStyle>
          <a:p>
            <a:pPr indent="0" algn="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AU" sz="1200" spc="-1" strike="noStrike">
                <a:solidFill>
                  <a:srgbClr val="000000"/>
                </a:solidFill>
                <a:latin typeface="Arial"/>
              </a:rPr>
              <a:t>&lt;date/time&gt;</a:t>
            </a:r>
            <a:endParaRPr b="0" lang="en-US" sz="1200" spc="-1" strike="noStrike">
              <a:solidFill>
                <a:srgbClr val="ffffff"/>
              </a:solidFill>
              <a:latin typeface="Arial"/>
            </a:endParaRPr>
          </a:p>
        </p:txBody>
      </p:sp>
      <p:sp>
        <p:nvSpPr>
          <p:cNvPr id="47" name="PlaceHolder 2"/>
          <p:cNvSpPr>
            <a:spLocks noGrp="1"/>
          </p:cNvSpPr>
          <p:nvPr>
            <p:ph type="sldImg"/>
          </p:nvPr>
        </p:nvSpPr>
        <p:spPr>
          <a:xfrm>
            <a:off x="1142640" y="685800"/>
            <a:ext cx="4567320" cy="3424320"/>
          </a:xfrm>
          <a:prstGeom prst="rect">
            <a:avLst/>
          </a:prstGeom>
          <a:noFill/>
          <a:ln w="12600">
            <a:solidFill>
              <a:srgbClr val="000000"/>
            </a:solidFill>
            <a:miter/>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ffffff"/>
                </a:solidFill>
                <a:latin typeface="Calibri"/>
              </a:rPr>
              <a:t>Click to move the slide</a:t>
            </a:r>
            <a:endParaRPr b="0" lang="en-US" sz="4400" spc="-1" strike="noStrike">
              <a:solidFill>
                <a:srgbClr val="ffffff"/>
              </a:solidFill>
              <a:latin typeface="Calibri"/>
            </a:endParaRPr>
          </a:p>
        </p:txBody>
      </p:sp>
      <p:sp>
        <p:nvSpPr>
          <p:cNvPr id="48" name="PlaceHolder 3"/>
          <p:cNvSpPr>
            <a:spLocks noGrp="1"/>
          </p:cNvSpPr>
          <p:nvPr>
            <p:ph type="body"/>
          </p:nvPr>
        </p:nvSpPr>
        <p:spPr>
          <a:xfrm>
            <a:off x="685440" y="4343040"/>
            <a:ext cx="5481720" cy="411012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 name="PlaceHolder 4"/>
          <p:cNvSpPr>
            <a:spLocks noGrp="1"/>
          </p:cNvSpPr>
          <p:nvPr>
            <p:ph type="sldNum" idx="4"/>
          </p:nvPr>
        </p:nvSpPr>
        <p:spPr>
          <a:xfrm>
            <a:off x="3884400" y="8685360"/>
            <a:ext cx="2966760" cy="452160"/>
          </a:xfrm>
          <a:prstGeom prst="rect">
            <a:avLst/>
          </a:prstGeom>
          <a:noFill/>
          <a:ln w="0">
            <a:noFill/>
          </a:ln>
        </p:spPr>
        <p:txBody>
          <a:bodyPr lIns="90000" rIns="90000" tIns="46800" bIns="46800" anchor="b">
            <a:noAutofit/>
          </a:bodyPr>
          <a:lstStyle>
            <a:lvl1pPr indent="0" algn="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AU" sz="1200" spc="-1" strike="noStrike">
                <a:solidFill>
                  <a:srgbClr val="000000"/>
                </a:solidFill>
                <a:latin typeface="Arial"/>
              </a:defRPr>
            </a:lvl1pPr>
          </a:lstStyle>
          <a:p>
            <a:pPr indent="0" algn="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521F8BB-940A-496F-B961-AC5828CD3253}" type="slidenum">
              <a:rPr b="0" lang="en-AU" sz="1200" spc="-1" strike="noStrike">
                <a:solidFill>
                  <a:srgbClr val="000000"/>
                </a:solidFill>
                <a:latin typeface="Arial"/>
              </a:rPr>
              <a:t>&lt;number&gt;</a:t>
            </a:fld>
            <a:endParaRPr b="0"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434163E-993F-42C7-AB0B-4A3669F3EEE9}" type="slidenum">
              <a:rPr b="0" lang="en-AU" sz="1200" spc="-1" strike="noStrike">
                <a:solidFill>
                  <a:srgbClr val="ffffff"/>
                </a:solidFill>
                <a:latin typeface="Arial"/>
              </a:rPr>
              <a:t>&lt;number&gt;</a:t>
            </a:fld>
            <a:endParaRPr b="0" lang="en-US" sz="1200" spc="-1" strike="noStrike">
              <a:solidFill>
                <a:srgbClr val="ffffff"/>
              </a:solidFill>
              <a:latin typeface="Arial"/>
            </a:endParaRPr>
          </a:p>
        </p:txBody>
      </p:sp>
      <p:sp>
        <p:nvSpPr>
          <p:cNvPr id="118" name="PlaceHolder 1"/>
          <p:cNvSpPr>
            <a:spLocks noGrp="1"/>
          </p:cNvSpPr>
          <p:nvPr>
            <p:ph type="sldImg"/>
          </p:nvPr>
        </p:nvSpPr>
        <p:spPr>
          <a:xfrm>
            <a:off x="947880" y="623880"/>
            <a:ext cx="4154400" cy="3116160"/>
          </a:xfrm>
          <a:prstGeom prst="rect">
            <a:avLst/>
          </a:prstGeom>
          <a:ln w="0">
            <a:noFill/>
          </a:ln>
        </p:spPr>
      </p:sp>
      <p:sp>
        <p:nvSpPr>
          <p:cNvPr id="119" name="PlaceHolder 2"/>
          <p:cNvSpPr>
            <a:spLocks noGrp="1"/>
          </p:cNvSpPr>
          <p:nvPr>
            <p:ph type="body"/>
          </p:nvPr>
        </p:nvSpPr>
        <p:spPr>
          <a:xfrm>
            <a:off x="806400" y="3948120"/>
            <a:ext cx="4438800" cy="37418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AU" sz="1200" spc="-1" strike="noStrike">
              <a:solidFill>
                <a:srgbClr val="000000"/>
              </a:solidFill>
              <a:latin typeface="Calibri"/>
              <a:ea typeface="Lucida Sans Unicode"/>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3F00E27-0367-4D05-8203-BFE8A59F6EE5}" type="slidenum">
              <a:rPr b="0" lang="en-AU" sz="1200" spc="-1" strike="noStrike">
                <a:solidFill>
                  <a:srgbClr val="ffffff"/>
                </a:solidFill>
                <a:latin typeface="Arial"/>
              </a:rPr>
              <a:t>&lt;number&gt;</a:t>
            </a:fld>
            <a:endParaRPr b="0" lang="en-US" sz="1200" spc="-1" strike="noStrike">
              <a:solidFill>
                <a:srgbClr val="ffffff"/>
              </a:solidFill>
              <a:latin typeface="Arial"/>
            </a:endParaRPr>
          </a:p>
        </p:txBody>
      </p:sp>
      <p:sp>
        <p:nvSpPr>
          <p:cNvPr id="121" name="PlaceHolder 1"/>
          <p:cNvSpPr>
            <a:spLocks noGrp="1"/>
          </p:cNvSpPr>
          <p:nvPr>
            <p:ph type="sldImg"/>
          </p:nvPr>
        </p:nvSpPr>
        <p:spPr>
          <a:xfrm>
            <a:off x="947880" y="623880"/>
            <a:ext cx="4154400" cy="3116160"/>
          </a:xfrm>
          <a:prstGeom prst="rect">
            <a:avLst/>
          </a:prstGeom>
          <a:ln w="0">
            <a:noFill/>
          </a:ln>
        </p:spPr>
      </p:sp>
      <p:sp>
        <p:nvSpPr>
          <p:cNvPr id="122" name="PlaceHolder 2"/>
          <p:cNvSpPr>
            <a:spLocks noGrp="1"/>
          </p:cNvSpPr>
          <p:nvPr>
            <p:ph type="body"/>
          </p:nvPr>
        </p:nvSpPr>
        <p:spPr>
          <a:xfrm>
            <a:off x="806400" y="3948120"/>
            <a:ext cx="4438800" cy="37418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AU" sz="1200" spc="-1" strike="noStrike">
              <a:solidFill>
                <a:srgbClr val="000000"/>
              </a:solidFill>
              <a:latin typeface="Calibri"/>
              <a:ea typeface="Lucida Sans Unicode"/>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F908317-BD93-4AEE-9981-BB823040F1F4}" type="slidenum">
              <a:rPr b="0" lang="en-AU" sz="1200" spc="-1" strike="noStrike">
                <a:solidFill>
                  <a:srgbClr val="ffffff"/>
                </a:solidFill>
                <a:latin typeface="Arial"/>
              </a:rPr>
              <a:t>&lt;number&gt;</a:t>
            </a:fld>
            <a:endParaRPr b="0" lang="en-US" sz="1200" spc="-1" strike="noStrike">
              <a:solidFill>
                <a:srgbClr val="ffffff"/>
              </a:solidFill>
              <a:latin typeface="Arial"/>
            </a:endParaRPr>
          </a:p>
        </p:txBody>
      </p:sp>
      <p:sp>
        <p:nvSpPr>
          <p:cNvPr id="124" name="PlaceHolder 1"/>
          <p:cNvSpPr>
            <a:spLocks noGrp="1"/>
          </p:cNvSpPr>
          <p:nvPr>
            <p:ph type="sldImg"/>
          </p:nvPr>
        </p:nvSpPr>
        <p:spPr>
          <a:xfrm>
            <a:off x="947880" y="623880"/>
            <a:ext cx="4154400" cy="3116160"/>
          </a:xfrm>
          <a:prstGeom prst="rect">
            <a:avLst/>
          </a:prstGeom>
          <a:ln w="0">
            <a:noFill/>
          </a:ln>
        </p:spPr>
      </p:sp>
      <p:sp>
        <p:nvSpPr>
          <p:cNvPr id="125" name="PlaceHolder 2"/>
          <p:cNvSpPr>
            <a:spLocks noGrp="1"/>
          </p:cNvSpPr>
          <p:nvPr>
            <p:ph type="body"/>
          </p:nvPr>
        </p:nvSpPr>
        <p:spPr>
          <a:xfrm>
            <a:off x="806400" y="3948120"/>
            <a:ext cx="4438800" cy="37418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AU" sz="1200" spc="-1" strike="noStrike">
              <a:solidFill>
                <a:srgbClr val="000000"/>
              </a:solidFill>
              <a:latin typeface="Calibri"/>
              <a:ea typeface="Lucida Sans Unicode"/>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F2B890B-88EF-4171-9B41-5A57F2CF5A73}" type="slidenum">
              <a:rPr b="0" lang="en-AU" sz="1200" spc="-1" strike="noStrike">
                <a:solidFill>
                  <a:srgbClr val="ffffff"/>
                </a:solidFill>
                <a:latin typeface="Arial"/>
              </a:rPr>
              <a:t>&lt;number&gt;</a:t>
            </a:fld>
            <a:endParaRPr b="0" lang="en-US" sz="1200" spc="-1" strike="noStrike">
              <a:solidFill>
                <a:srgbClr val="ffffff"/>
              </a:solidFill>
              <a:latin typeface="Arial"/>
            </a:endParaRPr>
          </a:p>
        </p:txBody>
      </p:sp>
      <p:sp>
        <p:nvSpPr>
          <p:cNvPr id="127" name="PlaceHolder 1"/>
          <p:cNvSpPr>
            <a:spLocks noGrp="1"/>
          </p:cNvSpPr>
          <p:nvPr>
            <p:ph type="sldImg"/>
          </p:nvPr>
        </p:nvSpPr>
        <p:spPr>
          <a:xfrm>
            <a:off x="947880" y="623880"/>
            <a:ext cx="4154400" cy="3116160"/>
          </a:xfrm>
          <a:prstGeom prst="rect">
            <a:avLst/>
          </a:prstGeom>
          <a:ln w="0">
            <a:noFill/>
          </a:ln>
        </p:spPr>
      </p:sp>
      <p:sp>
        <p:nvSpPr>
          <p:cNvPr id="128" name="PlaceHolder 2"/>
          <p:cNvSpPr>
            <a:spLocks noGrp="1"/>
          </p:cNvSpPr>
          <p:nvPr>
            <p:ph type="body"/>
          </p:nvPr>
        </p:nvSpPr>
        <p:spPr>
          <a:xfrm>
            <a:off x="806400" y="3948120"/>
            <a:ext cx="4438800" cy="37418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AU" sz="1200" spc="-1" strike="noStrike">
              <a:solidFill>
                <a:srgbClr val="000000"/>
              </a:solidFill>
              <a:latin typeface="Calibri"/>
              <a:ea typeface="Lucida Sans Unicode"/>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A8B216A-67C8-440C-A29D-EB3F8F2FCCC7}" type="slidenum">
              <a:rPr b="0" lang="en-AU" sz="1200" spc="-1" strike="noStrike">
                <a:solidFill>
                  <a:srgbClr val="ffffff"/>
                </a:solidFill>
                <a:latin typeface="Arial"/>
              </a:rPr>
              <a:t>&lt;number&gt;</a:t>
            </a:fld>
            <a:endParaRPr b="0" lang="en-US" sz="1200" spc="-1" strike="noStrike">
              <a:solidFill>
                <a:srgbClr val="ffffff"/>
              </a:solidFill>
              <a:latin typeface="Arial"/>
            </a:endParaRPr>
          </a:p>
        </p:txBody>
      </p:sp>
      <p:sp>
        <p:nvSpPr>
          <p:cNvPr id="130" name="PlaceHolder 1"/>
          <p:cNvSpPr>
            <a:spLocks noGrp="1"/>
          </p:cNvSpPr>
          <p:nvPr>
            <p:ph type="sldImg"/>
          </p:nvPr>
        </p:nvSpPr>
        <p:spPr>
          <a:xfrm>
            <a:off x="947880" y="623880"/>
            <a:ext cx="4154400" cy="3116160"/>
          </a:xfrm>
          <a:prstGeom prst="rect">
            <a:avLst/>
          </a:prstGeom>
          <a:ln w="0">
            <a:noFill/>
          </a:ln>
        </p:spPr>
      </p:sp>
      <p:sp>
        <p:nvSpPr>
          <p:cNvPr id="131" name="PlaceHolder 2"/>
          <p:cNvSpPr>
            <a:spLocks noGrp="1"/>
          </p:cNvSpPr>
          <p:nvPr>
            <p:ph type="body"/>
          </p:nvPr>
        </p:nvSpPr>
        <p:spPr>
          <a:xfrm>
            <a:off x="806400" y="3948120"/>
            <a:ext cx="4438800" cy="37418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AU" sz="1200" spc="-1" strike="noStrike">
              <a:solidFill>
                <a:srgbClr val="000000"/>
              </a:solidFill>
              <a:latin typeface="Calibri"/>
              <a:ea typeface="Lucida Sans Unicode"/>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02E0925-4774-4C74-8670-47F318C5FA5C}" type="slidenum">
              <a:rPr b="0" lang="en-AU" sz="1200" spc="-1" strike="noStrike">
                <a:solidFill>
                  <a:srgbClr val="ffffff"/>
                </a:solidFill>
                <a:latin typeface="Arial"/>
              </a:rPr>
              <a:t>&lt;number&gt;</a:t>
            </a:fld>
            <a:endParaRPr b="0" lang="en-US" sz="1200" spc="-1" strike="noStrike">
              <a:solidFill>
                <a:srgbClr val="ffffff"/>
              </a:solidFill>
              <a:latin typeface="Arial"/>
            </a:endParaRPr>
          </a:p>
        </p:txBody>
      </p:sp>
      <p:sp>
        <p:nvSpPr>
          <p:cNvPr id="133" name="PlaceHolder 1"/>
          <p:cNvSpPr>
            <a:spLocks noGrp="1"/>
          </p:cNvSpPr>
          <p:nvPr>
            <p:ph type="sldImg"/>
          </p:nvPr>
        </p:nvSpPr>
        <p:spPr>
          <a:xfrm>
            <a:off x="947880" y="623880"/>
            <a:ext cx="4154400" cy="3116160"/>
          </a:xfrm>
          <a:prstGeom prst="rect">
            <a:avLst/>
          </a:prstGeom>
          <a:ln w="0">
            <a:noFill/>
          </a:ln>
        </p:spPr>
      </p:sp>
      <p:sp>
        <p:nvSpPr>
          <p:cNvPr id="134" name="PlaceHolder 2"/>
          <p:cNvSpPr>
            <a:spLocks noGrp="1"/>
          </p:cNvSpPr>
          <p:nvPr>
            <p:ph type="body"/>
          </p:nvPr>
        </p:nvSpPr>
        <p:spPr>
          <a:xfrm>
            <a:off x="806400" y="3948120"/>
            <a:ext cx="4438800" cy="37418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AU" sz="1200" spc="-1" strike="noStrike">
              <a:solidFill>
                <a:srgbClr val="000000"/>
              </a:solidFill>
              <a:latin typeface="Calibri"/>
              <a:ea typeface="Lucida Sans Unicode"/>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4D3BE41-AA33-4109-A8A3-3A40FE2FFD08}" type="slidenum">
              <a:rPr b="0" lang="en-AU" sz="1200" spc="-1" strike="noStrike">
                <a:solidFill>
                  <a:srgbClr val="ffffff"/>
                </a:solidFill>
                <a:latin typeface="Arial"/>
              </a:rPr>
              <a:t>&lt;number&gt;</a:t>
            </a:fld>
            <a:endParaRPr b="0" lang="en-US" sz="1200" spc="-1" strike="noStrike">
              <a:solidFill>
                <a:srgbClr val="ffffff"/>
              </a:solidFill>
              <a:latin typeface="Arial"/>
            </a:endParaRPr>
          </a:p>
        </p:txBody>
      </p:sp>
      <p:sp>
        <p:nvSpPr>
          <p:cNvPr id="136" name="PlaceHolder 1"/>
          <p:cNvSpPr>
            <a:spLocks noGrp="1"/>
          </p:cNvSpPr>
          <p:nvPr>
            <p:ph type="sldImg"/>
          </p:nvPr>
        </p:nvSpPr>
        <p:spPr>
          <a:xfrm>
            <a:off x="947880" y="623880"/>
            <a:ext cx="4154400" cy="3116160"/>
          </a:xfrm>
          <a:prstGeom prst="rect">
            <a:avLst/>
          </a:prstGeom>
          <a:ln w="0">
            <a:noFill/>
          </a:ln>
        </p:spPr>
      </p:sp>
      <p:sp>
        <p:nvSpPr>
          <p:cNvPr id="137" name="PlaceHolder 2"/>
          <p:cNvSpPr>
            <a:spLocks noGrp="1"/>
          </p:cNvSpPr>
          <p:nvPr>
            <p:ph type="body"/>
          </p:nvPr>
        </p:nvSpPr>
        <p:spPr>
          <a:xfrm>
            <a:off x="806400" y="3948120"/>
            <a:ext cx="4438800" cy="37418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AU" sz="1200" spc="-1" strike="noStrike">
              <a:solidFill>
                <a:srgbClr val="000000"/>
              </a:solidFill>
              <a:latin typeface="Calibri"/>
              <a:ea typeface="Lucida Sans Unicode"/>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B3F18D6-B6E9-4B2E-A6C9-ED15F5C247A0}" type="slidenum">
              <a:rPr b="0" lang="en-AU" sz="1200" spc="-1" strike="noStrike">
                <a:solidFill>
                  <a:srgbClr val="ffffff"/>
                </a:solidFill>
                <a:latin typeface="Arial"/>
              </a:rPr>
              <a:t>&lt;number&gt;</a:t>
            </a:fld>
            <a:endParaRPr b="0" lang="en-US" sz="1200" spc="-1" strike="noStrike">
              <a:solidFill>
                <a:srgbClr val="ffffff"/>
              </a:solidFill>
              <a:latin typeface="Arial"/>
            </a:endParaRPr>
          </a:p>
        </p:txBody>
      </p:sp>
      <p:sp>
        <p:nvSpPr>
          <p:cNvPr id="139" name="PlaceHolder 1"/>
          <p:cNvSpPr>
            <a:spLocks noGrp="1"/>
          </p:cNvSpPr>
          <p:nvPr>
            <p:ph type="sldImg"/>
          </p:nvPr>
        </p:nvSpPr>
        <p:spPr>
          <a:xfrm>
            <a:off x="947880" y="623880"/>
            <a:ext cx="4154400" cy="3116160"/>
          </a:xfrm>
          <a:prstGeom prst="rect">
            <a:avLst/>
          </a:prstGeom>
          <a:ln w="0">
            <a:noFill/>
          </a:ln>
        </p:spPr>
      </p:sp>
      <p:sp>
        <p:nvSpPr>
          <p:cNvPr id="140" name="PlaceHolder 2"/>
          <p:cNvSpPr>
            <a:spLocks noGrp="1"/>
          </p:cNvSpPr>
          <p:nvPr>
            <p:ph type="body"/>
          </p:nvPr>
        </p:nvSpPr>
        <p:spPr>
          <a:xfrm>
            <a:off x="806400" y="3948120"/>
            <a:ext cx="4438800" cy="37418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AU" sz="1200" spc="-1" strike="noStrike">
              <a:solidFill>
                <a:srgbClr val="000000"/>
              </a:solidFill>
              <a:latin typeface="Calibri"/>
              <a:ea typeface="Lucida Sans Unicode"/>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81817AA-91F4-4027-80A8-B77685094A60}" type="slidenum">
              <a:rPr b="0" lang="en-AU" sz="1200" spc="-1" strike="noStrike">
                <a:solidFill>
                  <a:srgbClr val="ffffff"/>
                </a:solidFill>
                <a:latin typeface="Arial"/>
              </a:rPr>
              <a:t>&lt;number&gt;</a:t>
            </a:fld>
            <a:endParaRPr b="0" lang="en-US" sz="1200" spc="-1" strike="noStrike">
              <a:solidFill>
                <a:srgbClr val="ffffff"/>
              </a:solidFill>
              <a:latin typeface="Arial"/>
            </a:endParaRPr>
          </a:p>
        </p:txBody>
      </p:sp>
      <p:sp>
        <p:nvSpPr>
          <p:cNvPr id="142" name="PlaceHolder 1"/>
          <p:cNvSpPr>
            <a:spLocks noGrp="1"/>
          </p:cNvSpPr>
          <p:nvPr>
            <p:ph type="sldImg"/>
          </p:nvPr>
        </p:nvSpPr>
        <p:spPr>
          <a:xfrm>
            <a:off x="947880" y="623880"/>
            <a:ext cx="4154400" cy="3116160"/>
          </a:xfrm>
          <a:prstGeom prst="rect">
            <a:avLst/>
          </a:prstGeom>
          <a:ln w="0">
            <a:noFill/>
          </a:ln>
        </p:spPr>
      </p:sp>
      <p:sp>
        <p:nvSpPr>
          <p:cNvPr id="143" name="PlaceHolder 2"/>
          <p:cNvSpPr>
            <a:spLocks noGrp="1"/>
          </p:cNvSpPr>
          <p:nvPr>
            <p:ph type="body"/>
          </p:nvPr>
        </p:nvSpPr>
        <p:spPr>
          <a:xfrm>
            <a:off x="806400" y="3948120"/>
            <a:ext cx="4438800" cy="37418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AU" sz="1200" spc="-1" strike="noStrike">
              <a:solidFill>
                <a:srgbClr val="000000"/>
              </a:solidFill>
              <a:latin typeface="Calibri"/>
              <a:ea typeface="Lucida Sans Unicode"/>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C05C8F4-2B06-4CBE-AD95-BA1B7F786F22}" type="slidenum">
              <a:rPr b="0" lang="en-AU" sz="1200" spc="-1" strike="noStrike">
                <a:solidFill>
                  <a:srgbClr val="ffffff"/>
                </a:solidFill>
                <a:latin typeface="Arial"/>
              </a:rPr>
              <a:t>&lt;number&gt;</a:t>
            </a:fld>
            <a:endParaRPr b="0" lang="en-US" sz="1200" spc="-1" strike="noStrike">
              <a:solidFill>
                <a:srgbClr val="ffffff"/>
              </a:solidFill>
              <a:latin typeface="Arial"/>
            </a:endParaRPr>
          </a:p>
        </p:txBody>
      </p:sp>
      <p:sp>
        <p:nvSpPr>
          <p:cNvPr id="145" name="PlaceHolder 1"/>
          <p:cNvSpPr>
            <a:spLocks noGrp="1"/>
          </p:cNvSpPr>
          <p:nvPr>
            <p:ph type="sldImg"/>
          </p:nvPr>
        </p:nvSpPr>
        <p:spPr>
          <a:xfrm>
            <a:off x="947880" y="623880"/>
            <a:ext cx="4154400" cy="3116160"/>
          </a:xfrm>
          <a:prstGeom prst="rect">
            <a:avLst/>
          </a:prstGeom>
          <a:ln w="0">
            <a:noFill/>
          </a:ln>
        </p:spPr>
      </p:sp>
      <p:sp>
        <p:nvSpPr>
          <p:cNvPr id="146" name="PlaceHolder 2"/>
          <p:cNvSpPr>
            <a:spLocks noGrp="1"/>
          </p:cNvSpPr>
          <p:nvPr>
            <p:ph type="body"/>
          </p:nvPr>
        </p:nvSpPr>
        <p:spPr>
          <a:xfrm>
            <a:off x="806400" y="3948120"/>
            <a:ext cx="4438800" cy="37418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AU" sz="1200" spc="-1" strike="noStrike">
              <a:solidFill>
                <a:srgbClr val="000000"/>
              </a:solidFill>
              <a:latin typeface="Calibri"/>
              <a:ea typeface="Lucida Sans Unicode"/>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C4E9905-6915-4934-966D-1AC1185224D9}"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Calibri"/>
            </a:endParaRPr>
          </a:p>
        </p:txBody>
      </p:sp>
      <p:sp>
        <p:nvSpPr>
          <p:cNvPr id="27" name="PlaceHolder 2"/>
          <p:cNvSpPr>
            <a:spLocks noGrp="1"/>
          </p:cNvSpPr>
          <p:nvPr>
            <p:ph/>
          </p:nvPr>
        </p:nvSpPr>
        <p:spPr>
          <a:xfrm>
            <a:off x="456840" y="1599840"/>
            <a:ext cx="822492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Calibri"/>
            </a:endParaRPr>
          </a:p>
        </p:txBody>
      </p:sp>
      <p:sp>
        <p:nvSpPr>
          <p:cNvPr id="28" name="PlaceHolder 3"/>
          <p:cNvSpPr>
            <a:spLocks noGrp="1"/>
          </p:cNvSpPr>
          <p:nvPr>
            <p:ph/>
          </p:nvPr>
        </p:nvSpPr>
        <p:spPr>
          <a:xfrm>
            <a:off x="456840" y="3961440"/>
            <a:ext cx="822492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Calibri"/>
            </a:endParaRPr>
          </a:p>
        </p:txBody>
      </p:sp>
      <p:sp>
        <p:nvSpPr>
          <p:cNvPr id="5" name="PlaceHolder 4"/>
          <p:cNvSpPr>
            <a:spLocks noGrp="1"/>
          </p:cNvSpPr>
          <p:nvPr>
            <p:ph type="sldNum" idx="2"/>
          </p:nvPr>
        </p:nvSpPr>
        <p:spPr/>
        <p:txBody>
          <a:bodyPr/>
          <a:p>
            <a:fld id="{D1A7FBA4-9382-4D8F-BEB0-E676214DB4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Calibri"/>
            </a:endParaRPr>
          </a:p>
        </p:txBody>
      </p:sp>
      <p:sp>
        <p:nvSpPr>
          <p:cNvPr id="30" name="PlaceHolder 2"/>
          <p:cNvSpPr>
            <a:spLocks noGrp="1"/>
          </p:cNvSpPr>
          <p:nvPr>
            <p:ph/>
          </p:nvPr>
        </p:nvSpPr>
        <p:spPr>
          <a:xfrm>
            <a:off x="45684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Calibri"/>
            </a:endParaRPr>
          </a:p>
        </p:txBody>
      </p:sp>
      <p:sp>
        <p:nvSpPr>
          <p:cNvPr id="31" name="PlaceHolder 3"/>
          <p:cNvSpPr>
            <a:spLocks noGrp="1"/>
          </p:cNvSpPr>
          <p:nvPr>
            <p:ph/>
          </p:nvPr>
        </p:nvSpPr>
        <p:spPr>
          <a:xfrm>
            <a:off x="467172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Calibri"/>
            </a:endParaRPr>
          </a:p>
        </p:txBody>
      </p:sp>
      <p:sp>
        <p:nvSpPr>
          <p:cNvPr id="32" name="PlaceHolder 4"/>
          <p:cNvSpPr>
            <a:spLocks noGrp="1"/>
          </p:cNvSpPr>
          <p:nvPr>
            <p:ph/>
          </p:nvPr>
        </p:nvSpPr>
        <p:spPr>
          <a:xfrm>
            <a:off x="456840" y="39614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Calibri"/>
            </a:endParaRPr>
          </a:p>
        </p:txBody>
      </p:sp>
      <p:sp>
        <p:nvSpPr>
          <p:cNvPr id="33" name="PlaceHolder 5"/>
          <p:cNvSpPr>
            <a:spLocks noGrp="1"/>
          </p:cNvSpPr>
          <p:nvPr>
            <p:ph/>
          </p:nvPr>
        </p:nvSpPr>
        <p:spPr>
          <a:xfrm>
            <a:off x="4671720" y="39614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Calibri"/>
            </a:endParaRPr>
          </a:p>
        </p:txBody>
      </p:sp>
      <p:sp>
        <p:nvSpPr>
          <p:cNvPr id="7" name="PlaceHolder 6"/>
          <p:cNvSpPr>
            <a:spLocks noGrp="1"/>
          </p:cNvSpPr>
          <p:nvPr>
            <p:ph type="sldNum" idx="2"/>
          </p:nvPr>
        </p:nvSpPr>
        <p:spPr/>
        <p:txBody>
          <a:bodyPr/>
          <a:p>
            <a:fld id="{4A4AAF11-9E28-4ECC-A145-0EB85E3C12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Calibri"/>
            </a:endParaRPr>
          </a:p>
        </p:txBody>
      </p:sp>
      <p:sp>
        <p:nvSpPr>
          <p:cNvPr id="35" name="PlaceHolder 2"/>
          <p:cNvSpPr>
            <a:spLocks noGrp="1"/>
          </p:cNvSpPr>
          <p:nvPr>
            <p:ph/>
          </p:nvPr>
        </p:nvSpPr>
        <p:spPr>
          <a:xfrm>
            <a:off x="456840" y="15998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Calibri"/>
            </a:endParaRPr>
          </a:p>
        </p:txBody>
      </p:sp>
      <p:sp>
        <p:nvSpPr>
          <p:cNvPr id="36" name="PlaceHolder 3"/>
          <p:cNvSpPr>
            <a:spLocks noGrp="1"/>
          </p:cNvSpPr>
          <p:nvPr>
            <p:ph/>
          </p:nvPr>
        </p:nvSpPr>
        <p:spPr>
          <a:xfrm>
            <a:off x="3237840" y="15998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Calibri"/>
            </a:endParaRPr>
          </a:p>
        </p:txBody>
      </p:sp>
      <p:sp>
        <p:nvSpPr>
          <p:cNvPr id="37" name="PlaceHolder 4"/>
          <p:cNvSpPr>
            <a:spLocks noGrp="1"/>
          </p:cNvSpPr>
          <p:nvPr>
            <p:ph/>
          </p:nvPr>
        </p:nvSpPr>
        <p:spPr>
          <a:xfrm>
            <a:off x="6018840" y="15998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Calibri"/>
            </a:endParaRPr>
          </a:p>
        </p:txBody>
      </p:sp>
      <p:sp>
        <p:nvSpPr>
          <p:cNvPr id="38" name="PlaceHolder 5"/>
          <p:cNvSpPr>
            <a:spLocks noGrp="1"/>
          </p:cNvSpPr>
          <p:nvPr>
            <p:ph/>
          </p:nvPr>
        </p:nvSpPr>
        <p:spPr>
          <a:xfrm>
            <a:off x="456840" y="39614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Calibri"/>
            </a:endParaRPr>
          </a:p>
        </p:txBody>
      </p:sp>
      <p:sp>
        <p:nvSpPr>
          <p:cNvPr id="39" name="PlaceHolder 6"/>
          <p:cNvSpPr>
            <a:spLocks noGrp="1"/>
          </p:cNvSpPr>
          <p:nvPr>
            <p:ph/>
          </p:nvPr>
        </p:nvSpPr>
        <p:spPr>
          <a:xfrm>
            <a:off x="3237840" y="39614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Calibri"/>
            </a:endParaRPr>
          </a:p>
        </p:txBody>
      </p:sp>
      <p:sp>
        <p:nvSpPr>
          <p:cNvPr id="40" name="PlaceHolder 7"/>
          <p:cNvSpPr>
            <a:spLocks noGrp="1"/>
          </p:cNvSpPr>
          <p:nvPr>
            <p:ph/>
          </p:nvPr>
        </p:nvSpPr>
        <p:spPr>
          <a:xfrm>
            <a:off x="6018840" y="39614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Calibri"/>
            </a:endParaRPr>
          </a:p>
        </p:txBody>
      </p:sp>
      <p:sp>
        <p:nvSpPr>
          <p:cNvPr id="9" name="PlaceHolder 8"/>
          <p:cNvSpPr>
            <a:spLocks noGrp="1"/>
          </p:cNvSpPr>
          <p:nvPr>
            <p:ph type="sldNum" idx="2"/>
          </p:nvPr>
        </p:nvSpPr>
        <p:spPr/>
        <p:txBody>
          <a:bodyPr/>
          <a:p>
            <a:fld id="{AFD0A3F9-FA4E-4BFC-A7D9-70AC20F1E6FE}"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Calibri"/>
            </a:endParaRPr>
          </a:p>
        </p:txBody>
      </p:sp>
      <p:sp>
        <p:nvSpPr>
          <p:cNvPr id="6" name="PlaceHolder 2"/>
          <p:cNvSpPr>
            <a:spLocks noGrp="1"/>
          </p:cNvSpPr>
          <p:nvPr>
            <p:ph type="subTitle"/>
          </p:nvPr>
        </p:nvSpPr>
        <p:spPr>
          <a:xfrm>
            <a:off x="456840" y="1599840"/>
            <a:ext cx="8224920" cy="4521240"/>
          </a:xfrm>
          <a:prstGeom prst="rect">
            <a:avLst/>
          </a:prstGeom>
          <a:noFill/>
          <a:ln w="0">
            <a:noFill/>
          </a:ln>
        </p:spPr>
        <p:txBody>
          <a:bodyPr lIns="0" rIns="0" tIns="0" bIns="0" anchor="ctr">
            <a:noAutofit/>
          </a:bodyPr>
          <a:p>
            <a:pPr marL="343080"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Calibri"/>
            </a:endParaRPr>
          </a:p>
        </p:txBody>
      </p:sp>
      <p:sp>
        <p:nvSpPr>
          <p:cNvPr id="4" name="PlaceHolder 3"/>
          <p:cNvSpPr>
            <a:spLocks noGrp="1"/>
          </p:cNvSpPr>
          <p:nvPr>
            <p:ph type="sldNum" idx="2"/>
          </p:nvPr>
        </p:nvSpPr>
        <p:spPr/>
        <p:txBody>
          <a:bodyPr/>
          <a:p>
            <a:fld id="{EE77ABD9-B17D-433E-89A7-66C9557D5A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Calibri"/>
            </a:endParaRPr>
          </a:p>
        </p:txBody>
      </p:sp>
      <p:sp>
        <p:nvSpPr>
          <p:cNvPr id="8" name="PlaceHolder 2"/>
          <p:cNvSpPr>
            <a:spLocks noGrp="1"/>
          </p:cNvSpPr>
          <p:nvPr>
            <p:ph/>
          </p:nvPr>
        </p:nvSpPr>
        <p:spPr>
          <a:xfrm>
            <a:off x="456840" y="1599840"/>
            <a:ext cx="8224920" cy="4521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Calibri"/>
            </a:endParaRPr>
          </a:p>
        </p:txBody>
      </p:sp>
      <p:sp>
        <p:nvSpPr>
          <p:cNvPr id="4" name="PlaceHolder 3"/>
          <p:cNvSpPr>
            <a:spLocks noGrp="1"/>
          </p:cNvSpPr>
          <p:nvPr>
            <p:ph type="sldNum" idx="2"/>
          </p:nvPr>
        </p:nvSpPr>
        <p:spPr/>
        <p:txBody>
          <a:bodyPr/>
          <a:p>
            <a:fld id="{44607B36-51BE-4713-A39C-21105B7D28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Calibri"/>
            </a:endParaRPr>
          </a:p>
        </p:txBody>
      </p:sp>
      <p:sp>
        <p:nvSpPr>
          <p:cNvPr id="10" name="PlaceHolder 2"/>
          <p:cNvSpPr>
            <a:spLocks noGrp="1"/>
          </p:cNvSpPr>
          <p:nvPr>
            <p:ph/>
          </p:nvPr>
        </p:nvSpPr>
        <p:spPr>
          <a:xfrm>
            <a:off x="456840" y="1599840"/>
            <a:ext cx="4013640" cy="4521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Calibri"/>
            </a:endParaRPr>
          </a:p>
        </p:txBody>
      </p:sp>
      <p:sp>
        <p:nvSpPr>
          <p:cNvPr id="11" name="PlaceHolder 3"/>
          <p:cNvSpPr>
            <a:spLocks noGrp="1"/>
          </p:cNvSpPr>
          <p:nvPr>
            <p:ph/>
          </p:nvPr>
        </p:nvSpPr>
        <p:spPr>
          <a:xfrm>
            <a:off x="4671720" y="1599840"/>
            <a:ext cx="4013640" cy="4521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Calibri"/>
            </a:endParaRPr>
          </a:p>
        </p:txBody>
      </p:sp>
      <p:sp>
        <p:nvSpPr>
          <p:cNvPr id="5" name="PlaceHolder 4"/>
          <p:cNvSpPr>
            <a:spLocks noGrp="1"/>
          </p:cNvSpPr>
          <p:nvPr>
            <p:ph type="sldNum" idx="2"/>
          </p:nvPr>
        </p:nvSpPr>
        <p:spPr/>
        <p:txBody>
          <a:bodyPr/>
          <a:p>
            <a:fld id="{3BDA773D-0940-4EAD-B93F-AB635F734D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Calibri"/>
            </a:endParaRPr>
          </a:p>
        </p:txBody>
      </p:sp>
      <p:sp>
        <p:nvSpPr>
          <p:cNvPr id="3" name="PlaceHolder 2"/>
          <p:cNvSpPr>
            <a:spLocks noGrp="1"/>
          </p:cNvSpPr>
          <p:nvPr>
            <p:ph type="sldNum" idx="2"/>
          </p:nvPr>
        </p:nvSpPr>
        <p:spPr/>
        <p:txBody>
          <a:bodyPr/>
          <a:p>
            <a:fld id="{F7B7E4C1-005B-407E-AF52-0185D221FB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6840" y="274680"/>
            <a:ext cx="8224920" cy="5277960"/>
          </a:xfrm>
          <a:prstGeom prst="rect">
            <a:avLst/>
          </a:prstGeom>
          <a:noFill/>
          <a:ln w="0">
            <a:noFill/>
          </a:ln>
        </p:spPr>
        <p:txBody>
          <a:bodyPr lIns="0" rIns="0" tIns="0" bIns="0" anchor="ctr">
            <a:noAutofit/>
          </a:bodyPr>
          <a:p>
            <a:pPr marL="343080" indent="-343080"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Calibri"/>
            </a:endParaRPr>
          </a:p>
        </p:txBody>
      </p:sp>
      <p:sp>
        <p:nvSpPr>
          <p:cNvPr id="3" name="PlaceHolder 2"/>
          <p:cNvSpPr>
            <a:spLocks noGrp="1"/>
          </p:cNvSpPr>
          <p:nvPr>
            <p:ph type="sldNum" idx="2"/>
          </p:nvPr>
        </p:nvSpPr>
        <p:spPr/>
        <p:txBody>
          <a:bodyPr/>
          <a:p>
            <a:fld id="{5B3FB570-14B3-4994-8F6B-22EB3377FB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Calibri"/>
            </a:endParaRPr>
          </a:p>
        </p:txBody>
      </p:sp>
      <p:sp>
        <p:nvSpPr>
          <p:cNvPr id="15" name="PlaceHolder 2"/>
          <p:cNvSpPr>
            <a:spLocks noGrp="1"/>
          </p:cNvSpPr>
          <p:nvPr>
            <p:ph/>
          </p:nvPr>
        </p:nvSpPr>
        <p:spPr>
          <a:xfrm>
            <a:off x="45684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Calibri"/>
            </a:endParaRPr>
          </a:p>
        </p:txBody>
      </p:sp>
      <p:sp>
        <p:nvSpPr>
          <p:cNvPr id="16" name="PlaceHolder 3"/>
          <p:cNvSpPr>
            <a:spLocks noGrp="1"/>
          </p:cNvSpPr>
          <p:nvPr>
            <p:ph/>
          </p:nvPr>
        </p:nvSpPr>
        <p:spPr>
          <a:xfrm>
            <a:off x="4671720" y="1599840"/>
            <a:ext cx="4013640" cy="4521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Calibri"/>
            </a:endParaRPr>
          </a:p>
        </p:txBody>
      </p:sp>
      <p:sp>
        <p:nvSpPr>
          <p:cNvPr id="17" name="PlaceHolder 4"/>
          <p:cNvSpPr>
            <a:spLocks noGrp="1"/>
          </p:cNvSpPr>
          <p:nvPr>
            <p:ph/>
          </p:nvPr>
        </p:nvSpPr>
        <p:spPr>
          <a:xfrm>
            <a:off x="456840" y="39614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Calibri"/>
            </a:endParaRPr>
          </a:p>
        </p:txBody>
      </p:sp>
      <p:sp>
        <p:nvSpPr>
          <p:cNvPr id="6" name="PlaceHolder 5"/>
          <p:cNvSpPr>
            <a:spLocks noGrp="1"/>
          </p:cNvSpPr>
          <p:nvPr>
            <p:ph type="sldNum" idx="2"/>
          </p:nvPr>
        </p:nvSpPr>
        <p:spPr/>
        <p:txBody>
          <a:bodyPr/>
          <a:p>
            <a:fld id="{6A3A8BD9-CD9D-494E-9FA4-000F2E33B9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Calibri"/>
            </a:endParaRPr>
          </a:p>
        </p:txBody>
      </p:sp>
      <p:sp>
        <p:nvSpPr>
          <p:cNvPr id="19" name="PlaceHolder 2"/>
          <p:cNvSpPr>
            <a:spLocks noGrp="1"/>
          </p:cNvSpPr>
          <p:nvPr>
            <p:ph/>
          </p:nvPr>
        </p:nvSpPr>
        <p:spPr>
          <a:xfrm>
            <a:off x="456840" y="1599840"/>
            <a:ext cx="4013640" cy="4521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Calibri"/>
            </a:endParaRPr>
          </a:p>
        </p:txBody>
      </p:sp>
      <p:sp>
        <p:nvSpPr>
          <p:cNvPr id="20" name="PlaceHolder 3"/>
          <p:cNvSpPr>
            <a:spLocks noGrp="1"/>
          </p:cNvSpPr>
          <p:nvPr>
            <p:ph/>
          </p:nvPr>
        </p:nvSpPr>
        <p:spPr>
          <a:xfrm>
            <a:off x="467172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Calibri"/>
            </a:endParaRPr>
          </a:p>
        </p:txBody>
      </p:sp>
      <p:sp>
        <p:nvSpPr>
          <p:cNvPr id="21" name="PlaceHolder 4"/>
          <p:cNvSpPr>
            <a:spLocks noGrp="1"/>
          </p:cNvSpPr>
          <p:nvPr>
            <p:ph/>
          </p:nvPr>
        </p:nvSpPr>
        <p:spPr>
          <a:xfrm>
            <a:off x="4671720" y="39614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Calibri"/>
            </a:endParaRPr>
          </a:p>
        </p:txBody>
      </p:sp>
      <p:sp>
        <p:nvSpPr>
          <p:cNvPr id="6" name="PlaceHolder 5"/>
          <p:cNvSpPr>
            <a:spLocks noGrp="1"/>
          </p:cNvSpPr>
          <p:nvPr>
            <p:ph type="sldNum" idx="2"/>
          </p:nvPr>
        </p:nvSpPr>
        <p:spPr/>
        <p:txBody>
          <a:bodyPr/>
          <a:p>
            <a:fld id="{05ED236D-AC0B-4889-B549-94EDC73209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Calibri"/>
            </a:endParaRPr>
          </a:p>
        </p:txBody>
      </p:sp>
      <p:sp>
        <p:nvSpPr>
          <p:cNvPr id="23" name="PlaceHolder 2"/>
          <p:cNvSpPr>
            <a:spLocks noGrp="1"/>
          </p:cNvSpPr>
          <p:nvPr>
            <p:ph/>
          </p:nvPr>
        </p:nvSpPr>
        <p:spPr>
          <a:xfrm>
            <a:off x="45684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Calibri"/>
            </a:endParaRPr>
          </a:p>
        </p:txBody>
      </p:sp>
      <p:sp>
        <p:nvSpPr>
          <p:cNvPr id="24" name="PlaceHolder 3"/>
          <p:cNvSpPr>
            <a:spLocks noGrp="1"/>
          </p:cNvSpPr>
          <p:nvPr>
            <p:ph/>
          </p:nvPr>
        </p:nvSpPr>
        <p:spPr>
          <a:xfrm>
            <a:off x="467172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Calibri"/>
            </a:endParaRPr>
          </a:p>
        </p:txBody>
      </p:sp>
      <p:sp>
        <p:nvSpPr>
          <p:cNvPr id="25" name="PlaceHolder 4"/>
          <p:cNvSpPr>
            <a:spLocks noGrp="1"/>
          </p:cNvSpPr>
          <p:nvPr>
            <p:ph/>
          </p:nvPr>
        </p:nvSpPr>
        <p:spPr>
          <a:xfrm>
            <a:off x="456840" y="3961440"/>
            <a:ext cx="822492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Calibri"/>
            </a:endParaRPr>
          </a:p>
        </p:txBody>
      </p:sp>
      <p:sp>
        <p:nvSpPr>
          <p:cNvPr id="6" name="PlaceHolder 5"/>
          <p:cNvSpPr>
            <a:spLocks noGrp="1"/>
          </p:cNvSpPr>
          <p:nvPr>
            <p:ph type="sldNum" idx="2"/>
          </p:nvPr>
        </p:nvSpPr>
        <p:spPr/>
        <p:txBody>
          <a:bodyPr/>
          <a:p>
            <a:fld id="{C34CD88F-0DA7-4667-BCEC-082EF5C1A83D}"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1" name="PlaceHolder 2"/>
          <p:cNvSpPr>
            <a:spLocks noGrp="1"/>
          </p:cNvSpPr>
          <p:nvPr>
            <p:ph type="body"/>
          </p:nvPr>
        </p:nvSpPr>
        <p:spPr>
          <a:xfrm>
            <a:off x="456840" y="1599840"/>
            <a:ext cx="8224920" cy="452124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2" name="PlaceHolder 3"/>
          <p:cNvSpPr>
            <a:spLocks noGrp="1"/>
          </p:cNvSpPr>
          <p:nvPr>
            <p:ph type="dt" idx="1"/>
          </p:nvPr>
        </p:nvSpPr>
        <p:spPr>
          <a:xfrm>
            <a:off x="456840" y="6353280"/>
            <a:ext cx="2128680" cy="366480"/>
          </a:xfrm>
          <a:prstGeom prst="rect">
            <a:avLst/>
          </a:prstGeom>
          <a:noFill/>
          <a:ln w="0">
            <a:noFill/>
          </a:ln>
        </p:spPr>
        <p:txBody>
          <a:bodyPr lIns="90000" rIns="90000" tIns="46800" bIns="46800" anchor="ctr">
            <a:noAutofit/>
          </a:bodyPr>
          <a:lstStyle>
            <a:lvl1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US" sz="1800" spc="-1" strike="noStrike">
                <a:solidFill>
                  <a:srgbClr val="ffffff"/>
                </a:solidFill>
                <a:latin typeface="Arial"/>
              </a:defRPr>
            </a:lvl1pPr>
          </a:lstStyle>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ffffff"/>
                </a:solidFill>
                <a:latin typeface="Arial"/>
              </a:rPr>
              <a:t>&lt;date/time&gt;</a:t>
            </a:r>
            <a:endParaRPr b="0" lang="en-US" sz="1800" spc="-1" strike="noStrike">
              <a:solidFill>
                <a:srgbClr val="ffffff"/>
              </a:solidFill>
              <a:latin typeface="Arial"/>
            </a:endParaRPr>
          </a:p>
        </p:txBody>
      </p:sp>
      <p:sp>
        <p:nvSpPr>
          <p:cNvPr id="3" name=""/>
          <p:cNvSpPr/>
          <p:nvPr/>
        </p:nvSpPr>
        <p:spPr>
          <a:xfrm>
            <a:off x="3124080" y="6354720"/>
            <a:ext cx="2895840" cy="3682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 name="PlaceHolder 4"/>
          <p:cNvSpPr>
            <a:spLocks noGrp="1"/>
          </p:cNvSpPr>
          <p:nvPr>
            <p:ph type="sldNum" idx="2"/>
          </p:nvPr>
        </p:nvSpPr>
        <p:spPr>
          <a:xfrm>
            <a:off x="6553080" y="6353280"/>
            <a:ext cx="2129040" cy="366480"/>
          </a:xfrm>
          <a:prstGeom prst="rect">
            <a:avLst/>
          </a:prstGeom>
          <a:noFill/>
          <a:ln w="0">
            <a:noFill/>
          </a:ln>
        </p:spPr>
        <p:txBody>
          <a:bodyPr lIns="90000" rIns="90000" tIns="46800" bIns="46800" anchor="ctr">
            <a:noAutofit/>
          </a:bodyPr>
          <a:lstStyle>
            <a:lvl1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AU" sz="1800" spc="-1" strike="noStrike">
                <a:solidFill>
                  <a:srgbClr val="ffffff"/>
                </a:solidFill>
                <a:latin typeface="Arial"/>
              </a:defRPr>
            </a:lvl1pPr>
          </a:lstStyle>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02C3CEF-F124-4593-8C69-62DA089E055F}" type="slidenum">
              <a:rPr b="0" lang="en-AU" sz="1800" spc="-1" strike="noStrike">
                <a:solidFill>
                  <a:srgbClr val="ffffff"/>
                </a:solidFill>
                <a:latin typeface="Arial"/>
              </a:rPr>
              <a:t>&lt;number&gt;</a:t>
            </a:fld>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Sound%20Effect%20-%20Rooster%20Crow%2003.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Sound%20Effect%20-%20Rooster%20Crow%2001.wav"/><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1" name=""/>
          <p:cNvSpPr/>
          <p:nvPr/>
        </p:nvSpPr>
        <p:spPr>
          <a:xfrm>
            <a:off x="685800" y="2492280"/>
            <a:ext cx="7772400" cy="20163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AU" sz="7200" spc="-1" strike="noStrike">
                <a:solidFill>
                  <a:srgbClr val="ffffff"/>
                </a:solidFill>
                <a:latin typeface="Calibri"/>
                <a:ea typeface="Lucida Sans Unicode"/>
              </a:rPr>
              <a:t>Coins</a:t>
            </a:r>
            <a:br>
              <a:rPr sz="7200"/>
            </a:br>
            <a:r>
              <a:rPr b="1" lang="en-AU" sz="4800" spc="-1" strike="noStrike">
                <a:solidFill>
                  <a:srgbClr val="ffffff"/>
                </a:solidFill>
                <a:latin typeface="Calibri"/>
                <a:ea typeface="Lucida Sans Unicode"/>
              </a:rPr>
              <a:t>(Matt 27:3-8)</a:t>
            </a:r>
            <a:endParaRPr b="0" lang="en-US" sz="48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2" name=""/>
          <p:cNvSpPr/>
          <p:nvPr/>
        </p:nvSpPr>
        <p:spPr>
          <a:xfrm>
            <a:off x="685800" y="2228760"/>
            <a:ext cx="7772400" cy="19386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AU" sz="7200" spc="-1" strike="noStrike">
                <a:solidFill>
                  <a:srgbClr val="ffffff"/>
                </a:solidFill>
                <a:latin typeface="Calibri"/>
                <a:ea typeface="Lucida Sans Unicode"/>
              </a:rPr>
              <a:t>The Servant King</a:t>
            </a:r>
            <a:br>
              <a:rPr sz="7200"/>
            </a:br>
            <a:r>
              <a:rPr b="1" lang="en-AU" sz="4800" spc="-1" strike="noStrike">
                <a:solidFill>
                  <a:srgbClr val="ffffff"/>
                </a:solidFill>
                <a:latin typeface="Calibri"/>
                <a:ea typeface="Lucida Sans Unicode"/>
              </a:rPr>
              <a:t>(From Heaven You came)</a:t>
            </a:r>
            <a:endParaRPr b="0" lang="en-US" sz="48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3" name=""/>
          <p:cNvSpPr/>
          <p:nvPr/>
        </p:nvSpPr>
        <p:spPr>
          <a:xfrm>
            <a:off x="457200" y="260280"/>
            <a:ext cx="8229600" cy="6631200"/>
          </a:xfrm>
          <a:prstGeom prst="rect">
            <a:avLst/>
          </a:prstGeom>
          <a:noFill/>
          <a:ln w="0">
            <a:noFill/>
          </a:ln>
        </p:spPr>
        <p:style>
          <a:lnRef idx="0"/>
          <a:fillRef idx="0"/>
          <a:effectRef idx="0"/>
          <a:fontRef idx="minor"/>
        </p:style>
        <p:txBody>
          <a:bodyPr anchor="t">
            <a:noAutofit/>
          </a:bodyPr>
          <a:p>
            <a:pPr marL="355680" indent="-351000" algn="ctr">
              <a:lnSpc>
                <a:spcPct val="100000"/>
              </a:lnSpc>
              <a:spcBef>
                <a:spcPts val="499"/>
              </a:spcBef>
              <a:tabLst>
                <a:tab algn="l" pos="0"/>
                <a:tab algn="l" pos="355680"/>
                <a:tab algn="l" pos="803160"/>
                <a:tab algn="l" pos="1252440"/>
                <a:tab algn="l" pos="1701720"/>
                <a:tab algn="l" pos="2151000"/>
                <a:tab algn="l" pos="2600280"/>
                <a:tab algn="l" pos="3049560"/>
                <a:tab algn="l" pos="3498840"/>
                <a:tab algn="l" pos="3948120"/>
                <a:tab algn="l" pos="4397400"/>
                <a:tab algn="l" pos="4846680"/>
                <a:tab algn="l" pos="5295960"/>
                <a:tab algn="l" pos="5745240"/>
                <a:tab algn="l" pos="6194520"/>
                <a:tab algn="l" pos="6643800"/>
                <a:tab algn="l" pos="7093080"/>
                <a:tab algn="l" pos="7542360"/>
                <a:tab algn="l" pos="7991640"/>
                <a:tab algn="l" pos="8440560"/>
                <a:tab algn="l" pos="8889840"/>
                <a:tab algn="l" pos="9339120"/>
                <a:tab algn="l" pos="9434520"/>
                <a:tab algn="l" pos="9883800"/>
                <a:tab algn="l" pos="10333080"/>
                <a:tab algn="l" pos="10782360"/>
              </a:tabLst>
            </a:pPr>
            <a:r>
              <a:rPr b="1" lang="en-AU" sz="4400" spc="-1" strike="noStrike">
                <a:solidFill>
                  <a:srgbClr val="ffffff"/>
                </a:solidFill>
                <a:latin typeface="Calibri"/>
                <a:ea typeface="Lucida Sans Unicode"/>
              </a:rPr>
              <a:t>From heaven You came, </a:t>
            </a:r>
            <a:endParaRPr b="0" lang="en-US" sz="4400" spc="-1" strike="noStrike">
              <a:solidFill>
                <a:srgbClr val="ffffff"/>
              </a:solidFill>
              <a:latin typeface="Arial"/>
            </a:endParaRPr>
          </a:p>
          <a:p>
            <a:pPr marL="355680" indent="-351000" algn="ctr">
              <a:lnSpc>
                <a:spcPct val="100000"/>
              </a:lnSpc>
              <a:spcBef>
                <a:spcPts val="499"/>
              </a:spcBef>
              <a:tabLst>
                <a:tab algn="l" pos="0"/>
                <a:tab algn="l" pos="355680"/>
                <a:tab algn="l" pos="803160"/>
                <a:tab algn="l" pos="1252440"/>
                <a:tab algn="l" pos="1701720"/>
                <a:tab algn="l" pos="2151000"/>
                <a:tab algn="l" pos="2600280"/>
                <a:tab algn="l" pos="3049560"/>
                <a:tab algn="l" pos="3498840"/>
                <a:tab algn="l" pos="3948120"/>
                <a:tab algn="l" pos="4397400"/>
                <a:tab algn="l" pos="4846680"/>
                <a:tab algn="l" pos="5295960"/>
                <a:tab algn="l" pos="5745240"/>
                <a:tab algn="l" pos="6194520"/>
                <a:tab algn="l" pos="6643800"/>
                <a:tab algn="l" pos="7093080"/>
                <a:tab algn="l" pos="7542360"/>
                <a:tab algn="l" pos="7991640"/>
                <a:tab algn="l" pos="8440560"/>
                <a:tab algn="l" pos="8889840"/>
                <a:tab algn="l" pos="9339120"/>
                <a:tab algn="l" pos="9434520"/>
                <a:tab algn="l" pos="9883800"/>
                <a:tab algn="l" pos="10333080"/>
                <a:tab algn="l" pos="10782360"/>
              </a:tabLst>
            </a:pPr>
            <a:r>
              <a:rPr b="1" lang="en-AU" sz="4400" spc="-1" strike="noStrike">
                <a:solidFill>
                  <a:srgbClr val="ffffff"/>
                </a:solidFill>
                <a:latin typeface="Calibri"/>
                <a:ea typeface="Lucida Sans Unicode"/>
              </a:rPr>
              <a:t>helpless babe</a:t>
            </a:r>
            <a:endParaRPr b="0" lang="en-US" sz="4400" spc="-1" strike="noStrike">
              <a:solidFill>
                <a:srgbClr val="ffffff"/>
              </a:solidFill>
              <a:latin typeface="Arial"/>
            </a:endParaRPr>
          </a:p>
          <a:p>
            <a:pPr marL="355680" indent="-351000" algn="ctr">
              <a:lnSpc>
                <a:spcPct val="100000"/>
              </a:lnSpc>
              <a:spcBef>
                <a:spcPts val="499"/>
              </a:spcBef>
              <a:tabLst>
                <a:tab algn="l" pos="0"/>
                <a:tab algn="l" pos="355680"/>
                <a:tab algn="l" pos="803160"/>
                <a:tab algn="l" pos="1252440"/>
                <a:tab algn="l" pos="1701720"/>
                <a:tab algn="l" pos="2151000"/>
                <a:tab algn="l" pos="2600280"/>
                <a:tab algn="l" pos="3049560"/>
                <a:tab algn="l" pos="3498840"/>
                <a:tab algn="l" pos="3948120"/>
                <a:tab algn="l" pos="4397400"/>
                <a:tab algn="l" pos="4846680"/>
                <a:tab algn="l" pos="5295960"/>
                <a:tab algn="l" pos="5745240"/>
                <a:tab algn="l" pos="6194520"/>
                <a:tab algn="l" pos="6643800"/>
                <a:tab algn="l" pos="7093080"/>
                <a:tab algn="l" pos="7542360"/>
                <a:tab algn="l" pos="7991640"/>
                <a:tab algn="l" pos="8440560"/>
                <a:tab algn="l" pos="8889840"/>
                <a:tab algn="l" pos="9339120"/>
                <a:tab algn="l" pos="9434520"/>
                <a:tab algn="l" pos="9883800"/>
                <a:tab algn="l" pos="10333080"/>
                <a:tab algn="l" pos="10782360"/>
              </a:tabLst>
            </a:pPr>
            <a:r>
              <a:rPr b="1" lang="en-AU" sz="4400" spc="-1" strike="noStrike">
                <a:solidFill>
                  <a:srgbClr val="ffffff"/>
                </a:solidFill>
                <a:latin typeface="Calibri"/>
                <a:ea typeface="Lucida Sans Unicode"/>
              </a:rPr>
              <a:t>Entered our world, </a:t>
            </a:r>
            <a:endParaRPr b="0" lang="en-US" sz="4400" spc="-1" strike="noStrike">
              <a:solidFill>
                <a:srgbClr val="ffffff"/>
              </a:solidFill>
              <a:latin typeface="Arial"/>
            </a:endParaRPr>
          </a:p>
          <a:p>
            <a:pPr marL="355680" indent="-351000" algn="ctr">
              <a:lnSpc>
                <a:spcPct val="100000"/>
              </a:lnSpc>
              <a:spcBef>
                <a:spcPts val="499"/>
              </a:spcBef>
              <a:tabLst>
                <a:tab algn="l" pos="0"/>
                <a:tab algn="l" pos="355680"/>
                <a:tab algn="l" pos="803160"/>
                <a:tab algn="l" pos="1252440"/>
                <a:tab algn="l" pos="1701720"/>
                <a:tab algn="l" pos="2151000"/>
                <a:tab algn="l" pos="2600280"/>
                <a:tab algn="l" pos="3049560"/>
                <a:tab algn="l" pos="3498840"/>
                <a:tab algn="l" pos="3948120"/>
                <a:tab algn="l" pos="4397400"/>
                <a:tab algn="l" pos="4846680"/>
                <a:tab algn="l" pos="5295960"/>
                <a:tab algn="l" pos="5745240"/>
                <a:tab algn="l" pos="6194520"/>
                <a:tab algn="l" pos="6643800"/>
                <a:tab algn="l" pos="7093080"/>
                <a:tab algn="l" pos="7542360"/>
                <a:tab algn="l" pos="7991640"/>
                <a:tab algn="l" pos="8440560"/>
                <a:tab algn="l" pos="8889840"/>
                <a:tab algn="l" pos="9339120"/>
                <a:tab algn="l" pos="9434520"/>
                <a:tab algn="l" pos="9883800"/>
                <a:tab algn="l" pos="10333080"/>
                <a:tab algn="l" pos="10782360"/>
              </a:tabLst>
            </a:pPr>
            <a:r>
              <a:rPr b="1" lang="en-AU" sz="4400" spc="-1" strike="noStrike">
                <a:solidFill>
                  <a:srgbClr val="ffffff"/>
                </a:solidFill>
                <a:latin typeface="Calibri"/>
                <a:ea typeface="Lucida Sans Unicode"/>
              </a:rPr>
              <a:t>	</a:t>
            </a:r>
            <a:r>
              <a:rPr b="1" lang="en-AU" sz="4400" spc="-1" strike="noStrike">
                <a:solidFill>
                  <a:srgbClr val="ffffff"/>
                </a:solidFill>
                <a:latin typeface="Calibri"/>
                <a:ea typeface="Lucida Sans Unicode"/>
              </a:rPr>
              <a:t>Your glory veiled</a:t>
            </a:r>
            <a:endParaRPr b="0" lang="en-US" sz="4400" spc="-1" strike="noStrike">
              <a:solidFill>
                <a:srgbClr val="ffffff"/>
              </a:solidFill>
              <a:latin typeface="Arial"/>
            </a:endParaRPr>
          </a:p>
          <a:p>
            <a:pPr marL="355680" indent="-351000" algn="ctr">
              <a:lnSpc>
                <a:spcPct val="100000"/>
              </a:lnSpc>
              <a:spcBef>
                <a:spcPts val="499"/>
              </a:spcBef>
              <a:tabLst>
                <a:tab algn="l" pos="0"/>
                <a:tab algn="l" pos="355680"/>
                <a:tab algn="l" pos="803160"/>
                <a:tab algn="l" pos="1252440"/>
                <a:tab algn="l" pos="1701720"/>
                <a:tab algn="l" pos="2151000"/>
                <a:tab algn="l" pos="2600280"/>
                <a:tab algn="l" pos="3049560"/>
                <a:tab algn="l" pos="3498840"/>
                <a:tab algn="l" pos="3948120"/>
                <a:tab algn="l" pos="4397400"/>
                <a:tab algn="l" pos="4846680"/>
                <a:tab algn="l" pos="5295960"/>
                <a:tab algn="l" pos="5745240"/>
                <a:tab algn="l" pos="6194520"/>
                <a:tab algn="l" pos="6643800"/>
                <a:tab algn="l" pos="7093080"/>
                <a:tab algn="l" pos="7542360"/>
                <a:tab algn="l" pos="7991640"/>
                <a:tab algn="l" pos="8440560"/>
                <a:tab algn="l" pos="8889840"/>
                <a:tab algn="l" pos="9339120"/>
                <a:tab algn="l" pos="9434520"/>
                <a:tab algn="l" pos="9883800"/>
                <a:tab algn="l" pos="10333080"/>
                <a:tab algn="l" pos="10782360"/>
              </a:tabLst>
            </a:pPr>
            <a:r>
              <a:rPr b="1" lang="en-AU" sz="4400" spc="-1" strike="noStrike">
                <a:solidFill>
                  <a:srgbClr val="ffffff"/>
                </a:solidFill>
                <a:latin typeface="Calibri"/>
                <a:ea typeface="Lucida Sans Unicode"/>
              </a:rPr>
              <a:t>Not to be served </a:t>
            </a:r>
            <a:endParaRPr b="0" lang="en-US" sz="4400" spc="-1" strike="noStrike">
              <a:solidFill>
                <a:srgbClr val="ffffff"/>
              </a:solidFill>
              <a:latin typeface="Arial"/>
            </a:endParaRPr>
          </a:p>
          <a:p>
            <a:pPr marL="355680" indent="-351000" algn="ctr">
              <a:lnSpc>
                <a:spcPct val="100000"/>
              </a:lnSpc>
              <a:spcBef>
                <a:spcPts val="499"/>
              </a:spcBef>
              <a:tabLst>
                <a:tab algn="l" pos="0"/>
                <a:tab algn="l" pos="355680"/>
                <a:tab algn="l" pos="803160"/>
                <a:tab algn="l" pos="1252440"/>
                <a:tab algn="l" pos="1701720"/>
                <a:tab algn="l" pos="2151000"/>
                <a:tab algn="l" pos="2600280"/>
                <a:tab algn="l" pos="3049560"/>
                <a:tab algn="l" pos="3498840"/>
                <a:tab algn="l" pos="3948120"/>
                <a:tab algn="l" pos="4397400"/>
                <a:tab algn="l" pos="4846680"/>
                <a:tab algn="l" pos="5295960"/>
                <a:tab algn="l" pos="5745240"/>
                <a:tab algn="l" pos="6194520"/>
                <a:tab algn="l" pos="6643800"/>
                <a:tab algn="l" pos="7093080"/>
                <a:tab algn="l" pos="7542360"/>
                <a:tab algn="l" pos="7991640"/>
                <a:tab algn="l" pos="8440560"/>
                <a:tab algn="l" pos="8889840"/>
                <a:tab algn="l" pos="9339120"/>
                <a:tab algn="l" pos="9434520"/>
                <a:tab algn="l" pos="9883800"/>
                <a:tab algn="l" pos="10333080"/>
                <a:tab algn="l" pos="10782360"/>
              </a:tabLst>
            </a:pPr>
            <a:r>
              <a:rPr b="1" lang="en-AU" sz="4400" spc="-1" strike="noStrike">
                <a:solidFill>
                  <a:srgbClr val="ffffff"/>
                </a:solidFill>
                <a:latin typeface="Calibri"/>
                <a:ea typeface="Lucida Sans Unicode"/>
              </a:rPr>
              <a:t>but to serve</a:t>
            </a:r>
            <a:endParaRPr b="0" lang="en-US" sz="4400" spc="-1" strike="noStrike">
              <a:solidFill>
                <a:srgbClr val="ffffff"/>
              </a:solidFill>
              <a:latin typeface="Arial"/>
            </a:endParaRPr>
          </a:p>
          <a:p>
            <a:pPr marL="355680" indent="-351000" algn="ctr">
              <a:lnSpc>
                <a:spcPct val="100000"/>
              </a:lnSpc>
              <a:spcBef>
                <a:spcPts val="499"/>
              </a:spcBef>
              <a:tabLst>
                <a:tab algn="l" pos="0"/>
                <a:tab algn="l" pos="355680"/>
                <a:tab algn="l" pos="803160"/>
                <a:tab algn="l" pos="1252440"/>
                <a:tab algn="l" pos="1701720"/>
                <a:tab algn="l" pos="2151000"/>
                <a:tab algn="l" pos="2600280"/>
                <a:tab algn="l" pos="3049560"/>
                <a:tab algn="l" pos="3498840"/>
                <a:tab algn="l" pos="3948120"/>
                <a:tab algn="l" pos="4397400"/>
                <a:tab algn="l" pos="4846680"/>
                <a:tab algn="l" pos="5295960"/>
                <a:tab algn="l" pos="5745240"/>
                <a:tab algn="l" pos="6194520"/>
                <a:tab algn="l" pos="6643800"/>
                <a:tab algn="l" pos="7093080"/>
                <a:tab algn="l" pos="7542360"/>
                <a:tab algn="l" pos="7991640"/>
                <a:tab algn="l" pos="8440560"/>
                <a:tab algn="l" pos="8889840"/>
                <a:tab algn="l" pos="9339120"/>
                <a:tab algn="l" pos="9434520"/>
                <a:tab algn="l" pos="9883800"/>
                <a:tab algn="l" pos="10333080"/>
                <a:tab algn="l" pos="10782360"/>
              </a:tabLst>
            </a:pPr>
            <a:r>
              <a:rPr b="1" lang="en-AU" sz="4400" spc="-1" strike="noStrike">
                <a:solidFill>
                  <a:srgbClr val="ffffff"/>
                </a:solidFill>
                <a:latin typeface="Calibri"/>
                <a:ea typeface="Lucida Sans Unicode"/>
              </a:rPr>
              <a:t>And give Your life </a:t>
            </a:r>
            <a:endParaRPr b="0" lang="en-US" sz="4400" spc="-1" strike="noStrike">
              <a:solidFill>
                <a:srgbClr val="ffffff"/>
              </a:solidFill>
              <a:latin typeface="Arial"/>
            </a:endParaRPr>
          </a:p>
          <a:p>
            <a:pPr marL="355680" indent="-351000" algn="ctr">
              <a:lnSpc>
                <a:spcPct val="100000"/>
              </a:lnSpc>
              <a:spcBef>
                <a:spcPts val="499"/>
              </a:spcBef>
              <a:tabLst>
                <a:tab algn="l" pos="0"/>
                <a:tab algn="l" pos="355680"/>
                <a:tab algn="l" pos="803160"/>
                <a:tab algn="l" pos="1252440"/>
                <a:tab algn="l" pos="1701720"/>
                <a:tab algn="l" pos="2151000"/>
                <a:tab algn="l" pos="2600280"/>
                <a:tab algn="l" pos="3049560"/>
                <a:tab algn="l" pos="3498840"/>
                <a:tab algn="l" pos="3948120"/>
                <a:tab algn="l" pos="4397400"/>
                <a:tab algn="l" pos="4846680"/>
                <a:tab algn="l" pos="5295960"/>
                <a:tab algn="l" pos="5745240"/>
                <a:tab algn="l" pos="6194520"/>
                <a:tab algn="l" pos="6643800"/>
                <a:tab algn="l" pos="7093080"/>
                <a:tab algn="l" pos="7542360"/>
                <a:tab algn="l" pos="7991640"/>
                <a:tab algn="l" pos="8440560"/>
                <a:tab algn="l" pos="8889840"/>
                <a:tab algn="l" pos="9339120"/>
                <a:tab algn="l" pos="9434520"/>
                <a:tab algn="l" pos="9883800"/>
                <a:tab algn="l" pos="10333080"/>
                <a:tab algn="l" pos="10782360"/>
              </a:tabLst>
            </a:pPr>
            <a:r>
              <a:rPr b="1" lang="en-AU" sz="4400" spc="-1" strike="noStrike">
                <a:solidFill>
                  <a:srgbClr val="ffffff"/>
                </a:solidFill>
                <a:latin typeface="Calibri"/>
                <a:ea typeface="Lucida Sans Unicode"/>
              </a:rPr>
              <a:t>that we might live</a:t>
            </a:r>
            <a:endParaRPr b="0" lang="en-US" sz="4400" spc="-1" strike="noStrike">
              <a:solidFill>
                <a:srgbClr val="ffffff"/>
              </a:solidFill>
              <a:latin typeface="Arial"/>
            </a:endParaRPr>
          </a:p>
          <a:p>
            <a:pPr marL="355680" indent="-351000" algn="ctr">
              <a:lnSpc>
                <a:spcPct val="100000"/>
              </a:lnSpc>
              <a:spcBef>
                <a:spcPts val="499"/>
              </a:spcBef>
              <a:tabLst>
                <a:tab algn="l" pos="0"/>
                <a:tab algn="l" pos="355680"/>
                <a:tab algn="l" pos="803160"/>
                <a:tab algn="l" pos="1252440"/>
                <a:tab algn="l" pos="1701720"/>
                <a:tab algn="l" pos="2151000"/>
                <a:tab algn="l" pos="2600280"/>
                <a:tab algn="l" pos="3049560"/>
                <a:tab algn="l" pos="3498840"/>
                <a:tab algn="l" pos="3948120"/>
                <a:tab algn="l" pos="4397400"/>
                <a:tab algn="l" pos="4846680"/>
                <a:tab algn="l" pos="5295960"/>
                <a:tab algn="l" pos="5745240"/>
                <a:tab algn="l" pos="6194520"/>
                <a:tab algn="l" pos="6643800"/>
                <a:tab algn="l" pos="7093080"/>
                <a:tab algn="l" pos="7542360"/>
                <a:tab algn="l" pos="7991640"/>
                <a:tab algn="l" pos="8440560"/>
                <a:tab algn="l" pos="8889840"/>
                <a:tab algn="l" pos="9339120"/>
                <a:tab algn="l" pos="9434520"/>
                <a:tab algn="l" pos="9883800"/>
                <a:tab algn="l" pos="10333080"/>
                <a:tab algn="l" pos="10782360"/>
              </a:tabLst>
            </a:pPr>
            <a:endParaRPr b="0" lang="en-US" sz="4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4" name=""/>
          <p:cNvSpPr/>
          <p:nvPr/>
        </p:nvSpPr>
        <p:spPr>
          <a:xfrm>
            <a:off x="457200" y="260280"/>
            <a:ext cx="8229600" cy="5510160"/>
          </a:xfrm>
          <a:prstGeom prst="rect">
            <a:avLst/>
          </a:prstGeom>
          <a:noFill/>
          <a:ln w="0">
            <a:noFill/>
          </a:ln>
        </p:spPr>
        <p:style>
          <a:lnRef idx="0"/>
          <a:fillRef idx="0"/>
          <a:effectRef idx="0"/>
          <a:fontRef idx="minor"/>
        </p:style>
        <p:txBody>
          <a:bodyPr anchor="t">
            <a:noAutofit/>
          </a:bodyPr>
          <a:p>
            <a:pPr algn="ctr">
              <a:lnSpc>
                <a:spcPct val="100000"/>
              </a:lnSpc>
              <a:spcBef>
                <a:spcPts val="11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4400" spc="-1" strike="noStrike">
              <a:solidFill>
                <a:srgbClr val="ffffff"/>
              </a:solidFill>
              <a:latin typeface="Arial"/>
            </a:endParaRPr>
          </a:p>
          <a:p>
            <a:pPr algn="ctr">
              <a:lnSpc>
                <a:spcPct val="100000"/>
              </a:lnSpc>
              <a:spcBef>
                <a:spcPts val="11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AU" sz="4400" spc="-1" strike="noStrike">
                <a:solidFill>
                  <a:srgbClr val="ffffff"/>
                </a:solidFill>
                <a:latin typeface="Calibri"/>
                <a:ea typeface="Lucida Sans Unicode"/>
              </a:rPr>
              <a:t>This is our God, the servant king</a:t>
            </a:r>
            <a:endParaRPr b="0" lang="en-US" sz="4400" spc="-1" strike="noStrike">
              <a:solidFill>
                <a:srgbClr val="ffffff"/>
              </a:solidFill>
              <a:latin typeface="Arial"/>
            </a:endParaRPr>
          </a:p>
          <a:p>
            <a:pPr algn="ctr">
              <a:lnSpc>
                <a:spcPct val="100000"/>
              </a:lnSpc>
              <a:spcBef>
                <a:spcPts val="11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AU" sz="4400" spc="-1" strike="noStrike">
                <a:solidFill>
                  <a:srgbClr val="ffffff"/>
                </a:solidFill>
                <a:latin typeface="Calibri"/>
                <a:ea typeface="Lucida Sans Unicode"/>
              </a:rPr>
              <a:t>He calls us now to follow Him</a:t>
            </a:r>
            <a:endParaRPr b="0" lang="en-US" sz="4400" spc="-1" strike="noStrike">
              <a:solidFill>
                <a:srgbClr val="ffffff"/>
              </a:solidFill>
              <a:latin typeface="Arial"/>
            </a:endParaRPr>
          </a:p>
          <a:p>
            <a:pPr algn="ctr">
              <a:lnSpc>
                <a:spcPct val="100000"/>
              </a:lnSpc>
              <a:spcBef>
                <a:spcPts val="11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AU" sz="4400" spc="-1" strike="noStrike">
                <a:solidFill>
                  <a:srgbClr val="ffffff"/>
                </a:solidFill>
                <a:latin typeface="Calibri"/>
                <a:ea typeface="Lucida Sans Unicode"/>
              </a:rPr>
              <a:t>To bring our lives </a:t>
            </a:r>
            <a:endParaRPr b="0" lang="en-US" sz="4400" spc="-1" strike="noStrike">
              <a:solidFill>
                <a:srgbClr val="ffffff"/>
              </a:solidFill>
              <a:latin typeface="Arial"/>
            </a:endParaRPr>
          </a:p>
          <a:p>
            <a:pPr algn="ctr">
              <a:lnSpc>
                <a:spcPct val="100000"/>
              </a:lnSpc>
              <a:spcBef>
                <a:spcPts val="11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AU" sz="4400" spc="-1" strike="noStrike">
                <a:solidFill>
                  <a:srgbClr val="ffffff"/>
                </a:solidFill>
                <a:latin typeface="Calibri"/>
                <a:ea typeface="Lucida Sans Unicode"/>
              </a:rPr>
              <a:t>as a daily offering</a:t>
            </a:r>
            <a:endParaRPr b="0" lang="en-US" sz="4400" spc="-1" strike="noStrike">
              <a:solidFill>
                <a:srgbClr val="ffffff"/>
              </a:solidFill>
              <a:latin typeface="Arial"/>
            </a:endParaRPr>
          </a:p>
          <a:p>
            <a:pPr algn="ctr">
              <a:lnSpc>
                <a:spcPct val="100000"/>
              </a:lnSpc>
              <a:spcBef>
                <a:spcPts val="11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AU" sz="4400" spc="-1" strike="noStrike">
                <a:solidFill>
                  <a:srgbClr val="ffffff"/>
                </a:solidFill>
                <a:latin typeface="Calibri"/>
                <a:ea typeface="Lucida Sans Unicode"/>
              </a:rPr>
              <a:t>Of worship to </a:t>
            </a:r>
            <a:br>
              <a:rPr sz="4400"/>
            </a:br>
            <a:r>
              <a:rPr b="1" lang="en-AU" sz="4400" spc="-1" strike="noStrike">
                <a:solidFill>
                  <a:srgbClr val="ffffff"/>
                </a:solidFill>
                <a:latin typeface="Calibri"/>
                <a:ea typeface="Lucida Sans Unicode"/>
              </a:rPr>
              <a:t>the servant king.</a:t>
            </a:r>
            <a:endParaRPr b="0" lang="en-US" sz="44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65" name=""/>
          <p:cNvGrpSpPr/>
          <p:nvPr/>
        </p:nvGrpSpPr>
        <p:grpSpPr>
          <a:xfrm>
            <a:off x="290520" y="457200"/>
            <a:ext cx="8696160" cy="5942160"/>
            <a:chOff x="290520" y="457200"/>
            <a:chExt cx="8696160" cy="5942160"/>
          </a:xfrm>
        </p:grpSpPr>
        <p:sp>
          <p:nvSpPr>
            <p:cNvPr id="66" name=""/>
            <p:cNvSpPr/>
            <p:nvPr/>
          </p:nvSpPr>
          <p:spPr>
            <a:xfrm>
              <a:off x="290520" y="457200"/>
              <a:ext cx="8696160" cy="5942160"/>
            </a:xfrm>
            <a:prstGeom prst="roundRect">
              <a:avLst>
                <a:gd name="adj" fmla="val 23"/>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7" name=""/>
            <p:cNvSpPr/>
            <p:nvPr/>
          </p:nvSpPr>
          <p:spPr>
            <a:xfrm>
              <a:off x="290520" y="457200"/>
              <a:ext cx="8696160" cy="5218560"/>
            </a:xfrm>
            <a:prstGeom prst="rect">
              <a:avLst/>
            </a:prstGeom>
            <a:noFill/>
            <a:ln w="0">
              <a:noFill/>
            </a:ln>
          </p:spPr>
          <p:style>
            <a:lnRef idx="0"/>
            <a:fillRef idx="0"/>
            <a:effectRef idx="0"/>
            <a:fontRef idx="minor"/>
          </p:style>
          <p:txBody>
            <a:bodyPr lIns="90000" rIns="90000" tIns="46800" bIns="46800" anchor="t">
              <a:spAutoFit/>
            </a:bodyPr>
            <a:p>
              <a:pPr marL="355680" indent="-351000" algn="ctr">
                <a:lnSpc>
                  <a:spcPts val="5400"/>
                </a:lnSpc>
                <a:spcBef>
                  <a:spcPts val="499"/>
                </a:spcBef>
                <a:tabLst>
                  <a:tab algn="l" pos="0"/>
                  <a:tab algn="l" pos="355680"/>
                  <a:tab algn="l" pos="803160"/>
                  <a:tab algn="l" pos="1252440"/>
                  <a:tab algn="l" pos="1701720"/>
                  <a:tab algn="l" pos="2151000"/>
                  <a:tab algn="l" pos="2600280"/>
                  <a:tab algn="l" pos="3049560"/>
                  <a:tab algn="l" pos="3498840"/>
                  <a:tab algn="l" pos="3948120"/>
                  <a:tab algn="l" pos="4397400"/>
                  <a:tab algn="l" pos="4846680"/>
                  <a:tab algn="l" pos="5295960"/>
                  <a:tab algn="l" pos="5745240"/>
                  <a:tab algn="l" pos="6194520"/>
                  <a:tab algn="l" pos="6643800"/>
                  <a:tab algn="l" pos="7093080"/>
                  <a:tab algn="l" pos="7542360"/>
                  <a:tab algn="l" pos="7991640"/>
                  <a:tab algn="l" pos="8440560"/>
                  <a:tab algn="l" pos="8889840"/>
                  <a:tab algn="l" pos="9339120"/>
                  <a:tab algn="l" pos="9434520"/>
                  <a:tab algn="l" pos="9883800"/>
                  <a:tab algn="l" pos="10333080"/>
                  <a:tab algn="l" pos="10782360"/>
                </a:tabLst>
              </a:pPr>
              <a:r>
                <a:rPr b="1" lang="en-GB" sz="4400" spc="-1" strike="noStrike">
                  <a:solidFill>
                    <a:srgbClr val="ffffff"/>
                  </a:solidFill>
                  <a:latin typeface="Calibri"/>
                </a:rPr>
                <a:t>Verse 2:</a:t>
              </a:r>
              <a:endParaRPr b="0" lang="en-US" sz="4400" spc="-1" strike="noStrike">
                <a:solidFill>
                  <a:srgbClr val="ffffff"/>
                </a:solidFill>
                <a:latin typeface="Arial"/>
              </a:endParaRPr>
            </a:p>
            <a:p>
              <a:pPr marL="355680" indent="-351000" algn="ctr">
                <a:lnSpc>
                  <a:spcPct val="123000"/>
                </a:lnSpc>
                <a:spcBef>
                  <a:spcPts val="499"/>
                </a:spcBef>
                <a:tabLst>
                  <a:tab algn="l" pos="0"/>
                  <a:tab algn="l" pos="355680"/>
                  <a:tab algn="l" pos="803160"/>
                  <a:tab algn="l" pos="1252440"/>
                  <a:tab algn="l" pos="1701720"/>
                  <a:tab algn="l" pos="2151000"/>
                  <a:tab algn="l" pos="2600280"/>
                  <a:tab algn="l" pos="3049560"/>
                  <a:tab algn="l" pos="3498840"/>
                  <a:tab algn="l" pos="3948120"/>
                  <a:tab algn="l" pos="4397400"/>
                  <a:tab algn="l" pos="4846680"/>
                  <a:tab algn="l" pos="5295960"/>
                  <a:tab algn="l" pos="5745240"/>
                  <a:tab algn="l" pos="6194520"/>
                  <a:tab algn="l" pos="6643800"/>
                  <a:tab algn="l" pos="7093080"/>
                  <a:tab algn="l" pos="7542360"/>
                  <a:tab algn="l" pos="7991640"/>
                  <a:tab algn="l" pos="8440560"/>
                  <a:tab algn="l" pos="8889840"/>
                  <a:tab algn="l" pos="9339120"/>
                  <a:tab algn="l" pos="9434520"/>
                  <a:tab algn="l" pos="9883800"/>
                  <a:tab algn="l" pos="10333080"/>
                  <a:tab algn="l" pos="10782360"/>
                </a:tabLst>
              </a:pPr>
              <a:r>
                <a:rPr b="1" lang="en-GB" sz="4400" spc="-1" strike="noStrike">
                  <a:solidFill>
                    <a:srgbClr val="ffffff"/>
                  </a:solidFill>
                  <a:latin typeface="Calibri"/>
                </a:rPr>
                <a:t>There in the garden of tears, </a:t>
              </a:r>
              <a:endParaRPr b="0" lang="en-US" sz="4400" spc="-1" strike="noStrike">
                <a:solidFill>
                  <a:srgbClr val="ffffff"/>
                </a:solidFill>
                <a:latin typeface="Arial"/>
              </a:endParaRPr>
            </a:p>
            <a:p>
              <a:pPr marL="355680" indent="-351000" algn="ctr">
                <a:lnSpc>
                  <a:spcPct val="123000"/>
                </a:lnSpc>
                <a:spcBef>
                  <a:spcPts val="499"/>
                </a:spcBef>
                <a:tabLst>
                  <a:tab algn="l" pos="0"/>
                  <a:tab algn="l" pos="355680"/>
                  <a:tab algn="l" pos="803160"/>
                  <a:tab algn="l" pos="1252440"/>
                  <a:tab algn="l" pos="1701720"/>
                  <a:tab algn="l" pos="2151000"/>
                  <a:tab algn="l" pos="2600280"/>
                  <a:tab algn="l" pos="3049560"/>
                  <a:tab algn="l" pos="3498840"/>
                  <a:tab algn="l" pos="3948120"/>
                  <a:tab algn="l" pos="4397400"/>
                  <a:tab algn="l" pos="4846680"/>
                  <a:tab algn="l" pos="5295960"/>
                  <a:tab algn="l" pos="5745240"/>
                  <a:tab algn="l" pos="6194520"/>
                  <a:tab algn="l" pos="6643800"/>
                  <a:tab algn="l" pos="7093080"/>
                  <a:tab algn="l" pos="7542360"/>
                  <a:tab algn="l" pos="7991640"/>
                  <a:tab algn="l" pos="8440560"/>
                  <a:tab algn="l" pos="8889840"/>
                  <a:tab algn="l" pos="9339120"/>
                  <a:tab algn="l" pos="9434520"/>
                  <a:tab algn="l" pos="9883800"/>
                  <a:tab algn="l" pos="10333080"/>
                  <a:tab algn="l" pos="10782360"/>
                </a:tabLst>
              </a:pPr>
              <a:r>
                <a:rPr b="1" lang="en-GB" sz="4400" spc="-1" strike="noStrike">
                  <a:solidFill>
                    <a:srgbClr val="ffffff"/>
                  </a:solidFill>
                  <a:latin typeface="Calibri"/>
                </a:rPr>
                <a:t>My heavy load he chose to bear;</a:t>
              </a:r>
              <a:endParaRPr b="0" lang="en-US" sz="4400" spc="-1" strike="noStrike">
                <a:solidFill>
                  <a:srgbClr val="ffffff"/>
                </a:solidFill>
                <a:latin typeface="Arial"/>
              </a:endParaRPr>
            </a:p>
            <a:p>
              <a:pPr marL="355680" indent="-351000" algn="ctr">
                <a:lnSpc>
                  <a:spcPct val="123000"/>
                </a:lnSpc>
                <a:spcBef>
                  <a:spcPts val="499"/>
                </a:spcBef>
                <a:tabLst>
                  <a:tab algn="l" pos="0"/>
                  <a:tab algn="l" pos="355680"/>
                  <a:tab algn="l" pos="803160"/>
                  <a:tab algn="l" pos="1252440"/>
                  <a:tab algn="l" pos="1701720"/>
                  <a:tab algn="l" pos="2151000"/>
                  <a:tab algn="l" pos="2600280"/>
                  <a:tab algn="l" pos="3049560"/>
                  <a:tab algn="l" pos="3498840"/>
                  <a:tab algn="l" pos="3948120"/>
                  <a:tab algn="l" pos="4397400"/>
                  <a:tab algn="l" pos="4846680"/>
                  <a:tab algn="l" pos="5295960"/>
                  <a:tab algn="l" pos="5745240"/>
                  <a:tab algn="l" pos="6194520"/>
                  <a:tab algn="l" pos="6643800"/>
                  <a:tab algn="l" pos="7093080"/>
                  <a:tab algn="l" pos="7542360"/>
                  <a:tab algn="l" pos="7991640"/>
                  <a:tab algn="l" pos="8440560"/>
                  <a:tab algn="l" pos="8889840"/>
                  <a:tab algn="l" pos="9339120"/>
                  <a:tab algn="l" pos="9434520"/>
                  <a:tab algn="l" pos="9883800"/>
                  <a:tab algn="l" pos="10333080"/>
                  <a:tab algn="l" pos="10782360"/>
                </a:tabLst>
              </a:pPr>
              <a:r>
                <a:rPr b="1" lang="en-AU" sz="4400" spc="-1" strike="noStrike">
                  <a:solidFill>
                    <a:srgbClr val="ffffff"/>
                  </a:solidFill>
                  <a:latin typeface="Calibri"/>
                </a:rPr>
                <a:t>His heart with sorrow was torn,</a:t>
              </a:r>
              <a:endParaRPr b="0" lang="en-US" sz="4400" spc="-1" strike="noStrike">
                <a:solidFill>
                  <a:srgbClr val="ffffff"/>
                </a:solidFill>
                <a:latin typeface="Arial"/>
              </a:endParaRPr>
            </a:p>
            <a:p>
              <a:pPr marL="355680" indent="-351000" algn="ctr">
                <a:lnSpc>
                  <a:spcPct val="123000"/>
                </a:lnSpc>
                <a:spcBef>
                  <a:spcPts val="499"/>
                </a:spcBef>
                <a:tabLst>
                  <a:tab algn="l" pos="0"/>
                  <a:tab algn="l" pos="355680"/>
                  <a:tab algn="l" pos="803160"/>
                  <a:tab algn="l" pos="1252440"/>
                  <a:tab algn="l" pos="1701720"/>
                  <a:tab algn="l" pos="2151000"/>
                  <a:tab algn="l" pos="2600280"/>
                  <a:tab algn="l" pos="3049560"/>
                  <a:tab algn="l" pos="3498840"/>
                  <a:tab algn="l" pos="3948120"/>
                  <a:tab algn="l" pos="4397400"/>
                  <a:tab algn="l" pos="4846680"/>
                  <a:tab algn="l" pos="5295960"/>
                  <a:tab algn="l" pos="5745240"/>
                  <a:tab algn="l" pos="6194520"/>
                  <a:tab algn="l" pos="6643800"/>
                  <a:tab algn="l" pos="7093080"/>
                  <a:tab algn="l" pos="7542360"/>
                  <a:tab algn="l" pos="7991640"/>
                  <a:tab algn="l" pos="8440560"/>
                  <a:tab algn="l" pos="8889840"/>
                  <a:tab algn="l" pos="9339120"/>
                  <a:tab algn="l" pos="9434520"/>
                  <a:tab algn="l" pos="9883800"/>
                  <a:tab algn="l" pos="10333080"/>
                  <a:tab algn="l" pos="10782360"/>
                </a:tabLst>
              </a:pPr>
              <a:r>
                <a:rPr b="1" lang="en-AU" sz="4400" spc="-1" strike="noStrike">
                  <a:solidFill>
                    <a:srgbClr val="ffffff"/>
                  </a:solidFill>
                  <a:latin typeface="Calibri"/>
                </a:rPr>
                <a:t>'Yet not my will but yours,' he said.</a:t>
              </a:r>
              <a:endParaRPr b="0" lang="en-US" sz="4400" spc="-1" strike="noStrike">
                <a:solidFill>
                  <a:srgbClr val="ffffff"/>
                </a:solidFill>
                <a:latin typeface="Arial"/>
              </a:endParaRPr>
            </a:p>
            <a:p>
              <a:pPr marL="355680" indent="-351000" algn="ctr">
                <a:lnSpc>
                  <a:spcPct val="123000"/>
                </a:lnSpc>
                <a:spcBef>
                  <a:spcPts val="499"/>
                </a:spcBef>
                <a:tabLst>
                  <a:tab algn="l" pos="0"/>
                  <a:tab algn="l" pos="355680"/>
                  <a:tab algn="l" pos="803160"/>
                  <a:tab algn="l" pos="1252440"/>
                  <a:tab algn="l" pos="1701720"/>
                  <a:tab algn="l" pos="2151000"/>
                  <a:tab algn="l" pos="2600280"/>
                  <a:tab algn="l" pos="3049560"/>
                  <a:tab algn="l" pos="3498840"/>
                  <a:tab algn="l" pos="3948120"/>
                  <a:tab algn="l" pos="4397400"/>
                  <a:tab algn="l" pos="4846680"/>
                  <a:tab algn="l" pos="5295960"/>
                  <a:tab algn="l" pos="5745240"/>
                  <a:tab algn="l" pos="6194520"/>
                  <a:tab algn="l" pos="6643800"/>
                  <a:tab algn="l" pos="7093080"/>
                  <a:tab algn="l" pos="7542360"/>
                  <a:tab algn="l" pos="7991640"/>
                  <a:tab algn="l" pos="8440560"/>
                  <a:tab algn="l" pos="8889840"/>
                  <a:tab algn="l" pos="9339120"/>
                  <a:tab algn="l" pos="9434520"/>
                  <a:tab algn="l" pos="9883800"/>
                  <a:tab algn="l" pos="10333080"/>
                  <a:tab algn="l" pos="10782360"/>
                </a:tabLst>
              </a:pPr>
              <a:endParaRPr b="0" lang="en-US" sz="4400" spc="-1" strike="noStrike">
                <a:solidFill>
                  <a:srgbClr val="ffffff"/>
                </a:solidFill>
                <a:latin typeface="Arial"/>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8" name=""/>
          <p:cNvSpPr/>
          <p:nvPr/>
        </p:nvSpPr>
        <p:spPr>
          <a:xfrm>
            <a:off x="457200" y="260280"/>
            <a:ext cx="8229600" cy="5510160"/>
          </a:xfrm>
          <a:prstGeom prst="rect">
            <a:avLst/>
          </a:prstGeom>
          <a:noFill/>
          <a:ln w="0">
            <a:noFill/>
          </a:ln>
        </p:spPr>
        <p:style>
          <a:lnRef idx="0"/>
          <a:fillRef idx="0"/>
          <a:effectRef idx="0"/>
          <a:fontRef idx="minor"/>
        </p:style>
        <p:txBody>
          <a:bodyPr anchor="t">
            <a:noAutofit/>
          </a:bodyPr>
          <a:p>
            <a:pPr algn="ctr">
              <a:lnSpc>
                <a:spcPct val="100000"/>
              </a:lnSpc>
              <a:spcBef>
                <a:spcPts val="11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4400" spc="-1" strike="noStrike">
              <a:solidFill>
                <a:srgbClr val="ffffff"/>
              </a:solidFill>
              <a:latin typeface="Arial"/>
            </a:endParaRPr>
          </a:p>
          <a:p>
            <a:pPr algn="ctr">
              <a:lnSpc>
                <a:spcPct val="100000"/>
              </a:lnSpc>
              <a:spcBef>
                <a:spcPts val="11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AU" sz="4400" spc="-1" strike="noStrike">
                <a:solidFill>
                  <a:srgbClr val="ffffff"/>
                </a:solidFill>
                <a:latin typeface="Calibri"/>
                <a:ea typeface="Lucida Sans Unicode"/>
              </a:rPr>
              <a:t>This is our God, the servant king</a:t>
            </a:r>
            <a:endParaRPr b="0" lang="en-US" sz="4400" spc="-1" strike="noStrike">
              <a:solidFill>
                <a:srgbClr val="ffffff"/>
              </a:solidFill>
              <a:latin typeface="Arial"/>
            </a:endParaRPr>
          </a:p>
          <a:p>
            <a:pPr algn="ctr">
              <a:lnSpc>
                <a:spcPct val="100000"/>
              </a:lnSpc>
              <a:spcBef>
                <a:spcPts val="11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AU" sz="4400" spc="-1" strike="noStrike">
                <a:solidFill>
                  <a:srgbClr val="ffffff"/>
                </a:solidFill>
                <a:latin typeface="Calibri"/>
                <a:ea typeface="Lucida Sans Unicode"/>
              </a:rPr>
              <a:t>He calls us now to follow Him</a:t>
            </a:r>
            <a:endParaRPr b="0" lang="en-US" sz="4400" spc="-1" strike="noStrike">
              <a:solidFill>
                <a:srgbClr val="ffffff"/>
              </a:solidFill>
              <a:latin typeface="Arial"/>
            </a:endParaRPr>
          </a:p>
          <a:p>
            <a:pPr algn="ctr">
              <a:lnSpc>
                <a:spcPct val="100000"/>
              </a:lnSpc>
              <a:spcBef>
                <a:spcPts val="11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AU" sz="4400" spc="-1" strike="noStrike">
                <a:solidFill>
                  <a:srgbClr val="ffffff"/>
                </a:solidFill>
                <a:latin typeface="Calibri"/>
                <a:ea typeface="Lucida Sans Unicode"/>
              </a:rPr>
              <a:t>To bring our lives </a:t>
            </a:r>
            <a:endParaRPr b="0" lang="en-US" sz="4400" spc="-1" strike="noStrike">
              <a:solidFill>
                <a:srgbClr val="ffffff"/>
              </a:solidFill>
              <a:latin typeface="Arial"/>
            </a:endParaRPr>
          </a:p>
          <a:p>
            <a:pPr algn="ctr">
              <a:lnSpc>
                <a:spcPct val="100000"/>
              </a:lnSpc>
              <a:spcBef>
                <a:spcPts val="11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AU" sz="4400" spc="-1" strike="noStrike">
                <a:solidFill>
                  <a:srgbClr val="ffffff"/>
                </a:solidFill>
                <a:latin typeface="Calibri"/>
                <a:ea typeface="Lucida Sans Unicode"/>
              </a:rPr>
              <a:t>as a daily offering</a:t>
            </a:r>
            <a:endParaRPr b="0" lang="en-US" sz="4400" spc="-1" strike="noStrike">
              <a:solidFill>
                <a:srgbClr val="ffffff"/>
              </a:solidFill>
              <a:latin typeface="Arial"/>
            </a:endParaRPr>
          </a:p>
          <a:p>
            <a:pPr algn="ctr">
              <a:lnSpc>
                <a:spcPct val="100000"/>
              </a:lnSpc>
              <a:spcBef>
                <a:spcPts val="11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AU" sz="4400" spc="-1" strike="noStrike">
                <a:solidFill>
                  <a:srgbClr val="ffffff"/>
                </a:solidFill>
                <a:latin typeface="Calibri"/>
                <a:ea typeface="Lucida Sans Unicode"/>
              </a:rPr>
              <a:t>Of worship to </a:t>
            </a:r>
            <a:br>
              <a:rPr sz="4400"/>
            </a:br>
            <a:r>
              <a:rPr b="1" lang="en-AU" sz="4400" spc="-1" strike="noStrike">
                <a:solidFill>
                  <a:srgbClr val="ffffff"/>
                </a:solidFill>
                <a:latin typeface="Calibri"/>
                <a:ea typeface="Lucida Sans Unicode"/>
              </a:rPr>
              <a:t>the servant king.</a:t>
            </a:r>
            <a:endParaRPr b="0" lang="en-US" sz="44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69" name=""/>
          <p:cNvGrpSpPr/>
          <p:nvPr/>
        </p:nvGrpSpPr>
        <p:grpSpPr>
          <a:xfrm>
            <a:off x="290520" y="457200"/>
            <a:ext cx="8696160" cy="5330880"/>
            <a:chOff x="290520" y="457200"/>
            <a:chExt cx="8696160" cy="5330880"/>
          </a:xfrm>
        </p:grpSpPr>
        <p:sp>
          <p:nvSpPr>
            <p:cNvPr id="70" name=""/>
            <p:cNvSpPr/>
            <p:nvPr/>
          </p:nvSpPr>
          <p:spPr>
            <a:xfrm>
              <a:off x="290520" y="457200"/>
              <a:ext cx="8696160" cy="5330880"/>
            </a:xfrm>
            <a:prstGeom prst="roundRect">
              <a:avLst>
                <a:gd name="adj" fmla="val 28"/>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1" name=""/>
            <p:cNvSpPr/>
            <p:nvPr/>
          </p:nvSpPr>
          <p:spPr>
            <a:xfrm>
              <a:off x="290520" y="457200"/>
              <a:ext cx="8696160" cy="4636080"/>
            </a:xfrm>
            <a:prstGeom prst="rect">
              <a:avLst/>
            </a:prstGeom>
            <a:noFill/>
            <a:ln w="0">
              <a:noFill/>
            </a:ln>
          </p:spPr>
          <p:style>
            <a:lnRef idx="0"/>
            <a:fillRef idx="0"/>
            <a:effectRef idx="0"/>
            <a:fontRef idx="minor"/>
          </p:style>
          <p:txBody>
            <a:bodyPr lIns="90000" rIns="90000" tIns="46800" bIns="46800" anchor="t">
              <a:spAutoFit/>
            </a:bodyPr>
            <a:p>
              <a:pPr algn="ctr">
                <a:lnSpc>
                  <a:spcPts val="5400"/>
                </a:lnSpc>
                <a:spcBef>
                  <a:spcPts val="11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400" spc="-1" strike="noStrike">
                  <a:solidFill>
                    <a:srgbClr val="ffffff"/>
                  </a:solidFill>
                  <a:latin typeface="Calibri"/>
                </a:rPr>
                <a:t>Verse 3:</a:t>
              </a:r>
              <a:endParaRPr b="0" lang="en-US" sz="4400" spc="-1" strike="noStrike">
                <a:solidFill>
                  <a:srgbClr val="ffffff"/>
                </a:solidFill>
                <a:latin typeface="Arial"/>
              </a:endParaRPr>
            </a:p>
            <a:p>
              <a:pPr lvl="4" algn="ctr">
                <a:lnSpc>
                  <a:spcPct val="123000"/>
                </a:lnSpc>
                <a:spcBef>
                  <a:spcPts val="11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400" spc="-1" strike="noStrike">
                  <a:solidFill>
                    <a:srgbClr val="ffffff"/>
                  </a:solidFill>
                  <a:latin typeface="Calibri"/>
                  <a:ea typeface="Arial"/>
                </a:rPr>
                <a:t>Come, see His hands and His feet,</a:t>
              </a:r>
              <a:endParaRPr b="0" lang="en-US" sz="4400" spc="-1" strike="noStrike">
                <a:solidFill>
                  <a:srgbClr val="ffffff"/>
                </a:solidFill>
                <a:latin typeface="Arial"/>
              </a:endParaRPr>
            </a:p>
            <a:p>
              <a:pPr algn="ctr">
                <a:lnSpc>
                  <a:spcPct val="123000"/>
                </a:lnSpc>
                <a:spcBef>
                  <a:spcPts val="11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400" spc="-1" strike="noStrike">
                  <a:solidFill>
                    <a:srgbClr val="ffffff"/>
                  </a:solidFill>
                  <a:latin typeface="Calibri"/>
                </a:rPr>
                <a:t>the scars that speak of sacrifice,</a:t>
              </a:r>
              <a:endParaRPr b="0" lang="en-US" sz="4400" spc="-1" strike="noStrike">
                <a:solidFill>
                  <a:srgbClr val="ffffff"/>
                </a:solidFill>
                <a:latin typeface="Arial"/>
              </a:endParaRPr>
            </a:p>
            <a:p>
              <a:pPr algn="ctr">
                <a:lnSpc>
                  <a:spcPct val="123000"/>
                </a:lnSpc>
                <a:spcBef>
                  <a:spcPts val="11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AU" sz="4400" spc="-1" strike="noStrike">
                  <a:solidFill>
                    <a:srgbClr val="ffffff"/>
                  </a:solidFill>
                  <a:latin typeface="Calibri"/>
                </a:rPr>
                <a:t>hands that flung stars into space,</a:t>
              </a:r>
              <a:endParaRPr b="0" lang="en-US" sz="4400" spc="-1" strike="noStrike">
                <a:solidFill>
                  <a:srgbClr val="ffffff"/>
                </a:solidFill>
                <a:latin typeface="Arial"/>
              </a:endParaRPr>
            </a:p>
            <a:p>
              <a:pPr algn="ctr">
                <a:lnSpc>
                  <a:spcPct val="123000"/>
                </a:lnSpc>
                <a:spcBef>
                  <a:spcPts val="11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AU" sz="4400" spc="-1" strike="noStrike">
                  <a:solidFill>
                    <a:srgbClr val="ffffff"/>
                  </a:solidFill>
                  <a:latin typeface="Calibri"/>
                </a:rPr>
                <a:t>To cruel nails surrendered.</a:t>
              </a:r>
              <a:endParaRPr b="0" lang="en-US" sz="4400" spc="-1" strike="noStrike">
                <a:solidFill>
                  <a:srgbClr val="ffffff"/>
                </a:solidFill>
                <a:latin typeface="Arial"/>
              </a:endParaRPr>
            </a:p>
          </p:txBody>
        </p:sp>
      </p:gr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2" name=""/>
          <p:cNvSpPr/>
          <p:nvPr/>
        </p:nvSpPr>
        <p:spPr>
          <a:xfrm>
            <a:off x="457200" y="260280"/>
            <a:ext cx="8229600" cy="5510160"/>
          </a:xfrm>
          <a:prstGeom prst="rect">
            <a:avLst/>
          </a:prstGeom>
          <a:noFill/>
          <a:ln w="0">
            <a:noFill/>
          </a:ln>
        </p:spPr>
        <p:style>
          <a:lnRef idx="0"/>
          <a:fillRef idx="0"/>
          <a:effectRef idx="0"/>
          <a:fontRef idx="minor"/>
        </p:style>
        <p:txBody>
          <a:bodyPr anchor="t">
            <a:noAutofit/>
          </a:bodyPr>
          <a:p>
            <a:pPr algn="ctr">
              <a:lnSpc>
                <a:spcPct val="100000"/>
              </a:lnSpc>
              <a:spcBef>
                <a:spcPts val="11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4400" spc="-1" strike="noStrike">
              <a:solidFill>
                <a:srgbClr val="ffffff"/>
              </a:solidFill>
              <a:latin typeface="Arial"/>
            </a:endParaRPr>
          </a:p>
          <a:p>
            <a:pPr algn="ctr">
              <a:lnSpc>
                <a:spcPct val="100000"/>
              </a:lnSpc>
              <a:spcBef>
                <a:spcPts val="11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AU" sz="4400" spc="-1" strike="noStrike">
                <a:solidFill>
                  <a:srgbClr val="ffffff"/>
                </a:solidFill>
                <a:latin typeface="Calibri"/>
                <a:ea typeface="Lucida Sans Unicode"/>
              </a:rPr>
              <a:t>This is our God, the servant king</a:t>
            </a:r>
            <a:endParaRPr b="0" lang="en-US" sz="4400" spc="-1" strike="noStrike">
              <a:solidFill>
                <a:srgbClr val="ffffff"/>
              </a:solidFill>
              <a:latin typeface="Arial"/>
            </a:endParaRPr>
          </a:p>
          <a:p>
            <a:pPr algn="ctr">
              <a:lnSpc>
                <a:spcPct val="100000"/>
              </a:lnSpc>
              <a:spcBef>
                <a:spcPts val="11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AU" sz="4400" spc="-1" strike="noStrike">
                <a:solidFill>
                  <a:srgbClr val="ffffff"/>
                </a:solidFill>
                <a:latin typeface="Calibri"/>
                <a:ea typeface="Lucida Sans Unicode"/>
              </a:rPr>
              <a:t>He calls us now to follow Him</a:t>
            </a:r>
            <a:endParaRPr b="0" lang="en-US" sz="4400" spc="-1" strike="noStrike">
              <a:solidFill>
                <a:srgbClr val="ffffff"/>
              </a:solidFill>
              <a:latin typeface="Arial"/>
            </a:endParaRPr>
          </a:p>
          <a:p>
            <a:pPr algn="ctr">
              <a:lnSpc>
                <a:spcPct val="100000"/>
              </a:lnSpc>
              <a:spcBef>
                <a:spcPts val="11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AU" sz="4400" spc="-1" strike="noStrike">
                <a:solidFill>
                  <a:srgbClr val="ffffff"/>
                </a:solidFill>
                <a:latin typeface="Calibri"/>
                <a:ea typeface="Lucida Sans Unicode"/>
              </a:rPr>
              <a:t>To bring our lives </a:t>
            </a:r>
            <a:endParaRPr b="0" lang="en-US" sz="4400" spc="-1" strike="noStrike">
              <a:solidFill>
                <a:srgbClr val="ffffff"/>
              </a:solidFill>
              <a:latin typeface="Arial"/>
            </a:endParaRPr>
          </a:p>
          <a:p>
            <a:pPr algn="ctr">
              <a:lnSpc>
                <a:spcPct val="100000"/>
              </a:lnSpc>
              <a:spcBef>
                <a:spcPts val="11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AU" sz="4400" spc="-1" strike="noStrike">
                <a:solidFill>
                  <a:srgbClr val="ffffff"/>
                </a:solidFill>
                <a:latin typeface="Calibri"/>
                <a:ea typeface="Lucida Sans Unicode"/>
              </a:rPr>
              <a:t>as a daily offering</a:t>
            </a:r>
            <a:endParaRPr b="0" lang="en-US" sz="4400" spc="-1" strike="noStrike">
              <a:solidFill>
                <a:srgbClr val="ffffff"/>
              </a:solidFill>
              <a:latin typeface="Arial"/>
            </a:endParaRPr>
          </a:p>
          <a:p>
            <a:pPr algn="ctr">
              <a:lnSpc>
                <a:spcPct val="100000"/>
              </a:lnSpc>
              <a:spcBef>
                <a:spcPts val="11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AU" sz="4400" spc="-1" strike="noStrike">
                <a:solidFill>
                  <a:srgbClr val="ffffff"/>
                </a:solidFill>
                <a:latin typeface="Calibri"/>
                <a:ea typeface="Lucida Sans Unicode"/>
              </a:rPr>
              <a:t>Of worship to </a:t>
            </a:r>
            <a:br>
              <a:rPr sz="4400"/>
            </a:br>
            <a:r>
              <a:rPr b="1" lang="en-AU" sz="4400" spc="-1" strike="noStrike">
                <a:solidFill>
                  <a:srgbClr val="ffffff"/>
                </a:solidFill>
                <a:latin typeface="Calibri"/>
                <a:ea typeface="Lucida Sans Unicode"/>
              </a:rPr>
              <a:t>the servant king.</a:t>
            </a:r>
            <a:endParaRPr b="0" lang="en-US" sz="44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3" name=""/>
          <p:cNvSpPr/>
          <p:nvPr/>
        </p:nvSpPr>
        <p:spPr>
          <a:xfrm>
            <a:off x="685800" y="2228760"/>
            <a:ext cx="7772400" cy="19386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AU" sz="7200" spc="-1" strike="noStrike">
                <a:solidFill>
                  <a:srgbClr val="ffffff"/>
                </a:solidFill>
                <a:latin typeface="Calibri"/>
                <a:ea typeface="Lucida Sans Unicode"/>
              </a:rPr>
              <a:t>Hands</a:t>
            </a:r>
            <a:br>
              <a:rPr sz="7200"/>
            </a:br>
            <a:r>
              <a:rPr b="1" lang="en-AU" sz="4800" spc="-1" strike="noStrike">
                <a:solidFill>
                  <a:srgbClr val="ffffff"/>
                </a:solidFill>
                <a:latin typeface="Calibri"/>
                <a:ea typeface="Lucida Sans Unicode"/>
              </a:rPr>
              <a:t>(Matthew 27:24-26)</a:t>
            </a:r>
            <a:endParaRPr b="0" lang="en-US" sz="4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2" name=""/>
          <p:cNvSpPr/>
          <p:nvPr/>
        </p:nvSpPr>
        <p:spPr>
          <a:xfrm>
            <a:off x="685800" y="1020600"/>
            <a:ext cx="7772400" cy="5018400"/>
          </a:xfrm>
          <a:prstGeom prst="rect">
            <a:avLst/>
          </a:prstGeom>
          <a:noFill/>
          <a:ln w="0">
            <a:noFill/>
          </a:ln>
        </p:spPr>
        <p:style>
          <a:lnRef idx="0"/>
          <a:fillRef idx="0"/>
          <a:effectRef idx="0"/>
          <a:fontRef idx="minor"/>
        </p:style>
        <p:txBody>
          <a:bodyPr anchor="ctr">
            <a:noAutofit/>
          </a:bodyPr>
          <a:p>
            <a:pPr marL="353880" indent="-349200">
              <a:lnSpc>
                <a:spcPct val="100000"/>
              </a:lnSpc>
              <a:tabLst>
                <a:tab algn="l" pos="0"/>
                <a:tab algn="l" pos="353880"/>
                <a:tab algn="l" pos="801720"/>
                <a:tab algn="l" pos="1251000"/>
                <a:tab algn="l" pos="1700280"/>
                <a:tab algn="l" pos="2149560"/>
                <a:tab algn="l" pos="2598840"/>
                <a:tab algn="l" pos="3048120"/>
                <a:tab algn="l" pos="3497400"/>
                <a:tab algn="l" pos="3946680"/>
                <a:tab algn="l" pos="4395960"/>
                <a:tab algn="l" pos="4844880"/>
                <a:tab algn="l" pos="5294160"/>
                <a:tab algn="l" pos="5743440"/>
                <a:tab algn="l" pos="6192720"/>
                <a:tab algn="l" pos="6642000"/>
                <a:tab algn="l" pos="7091280"/>
                <a:tab algn="l" pos="7540560"/>
                <a:tab algn="l" pos="7989840"/>
                <a:tab algn="l" pos="8439120"/>
                <a:tab algn="l" pos="8888400"/>
                <a:tab algn="l" pos="9337680"/>
                <a:tab algn="l" pos="9434520"/>
                <a:tab algn="l" pos="9883800"/>
                <a:tab algn="l" pos="10333080"/>
                <a:tab algn="l" pos="10782360"/>
              </a:tabLst>
            </a:pPr>
            <a:r>
              <a:rPr b="0" lang="en-AU" sz="4000" spc="-1" strike="noStrike">
                <a:solidFill>
                  <a:srgbClr val="ffffff"/>
                </a:solidFill>
                <a:latin typeface="Calibri"/>
                <a:ea typeface="Lucida Sans Unicode"/>
              </a:rPr>
              <a:t>When Judas, who had betrayed him, saw that Jesus was condemned, </a:t>
            </a:r>
            <a:br>
              <a:rPr sz="4000"/>
            </a:br>
            <a:r>
              <a:rPr b="0" lang="en-AU" sz="4000" spc="-1" strike="noStrike">
                <a:solidFill>
                  <a:srgbClr val="ffffff"/>
                </a:solidFill>
                <a:latin typeface="Calibri"/>
                <a:ea typeface="Lucida Sans Unicode"/>
              </a:rPr>
              <a:t>he was seized with remorse and returned the thirty pieces of silver to the chief priests and the elders. </a:t>
            </a:r>
            <a:br>
              <a:rPr sz="4000"/>
            </a:br>
            <a:r>
              <a:rPr b="0" lang="en-AU" sz="4000" spc="-1" strike="noStrike">
                <a:solidFill>
                  <a:srgbClr val="ffffff"/>
                </a:solidFill>
                <a:latin typeface="Calibri"/>
                <a:ea typeface="Lucida Sans Unicode"/>
              </a:rPr>
              <a:t>“I have sinned,” he said, “for I have betrayed innocent blood.” </a:t>
            </a:r>
            <a:br>
              <a:rPr sz="4000"/>
            </a:br>
            <a:r>
              <a:rPr b="0" lang="en-AU" sz="4000" spc="-1" strike="noStrike">
                <a:solidFill>
                  <a:srgbClr val="ffffff"/>
                </a:solidFill>
                <a:latin typeface="Calibri"/>
                <a:ea typeface="Lucida Sans Unicode"/>
              </a:rPr>
              <a:t>   </a:t>
            </a:r>
            <a:endParaRPr b="0" lang="en-US" sz="40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4" name=""/>
          <p:cNvSpPr/>
          <p:nvPr/>
        </p:nvSpPr>
        <p:spPr>
          <a:xfrm>
            <a:off x="457200" y="765000"/>
            <a:ext cx="8229600" cy="5361120"/>
          </a:xfrm>
          <a:prstGeom prst="rect">
            <a:avLst/>
          </a:prstGeom>
          <a:noFill/>
          <a:ln w="0">
            <a:noFill/>
          </a:ln>
        </p:spPr>
        <p:style>
          <a:lnRef idx="0"/>
          <a:fillRef idx="0"/>
          <a:effectRef idx="0"/>
          <a:fontRef idx="minor"/>
        </p:style>
        <p:txBody>
          <a:bodyPr anchor="t">
            <a:noAutofit/>
          </a:bodyPr>
          <a:p>
            <a:pPr marL="343080" indent="-338400">
              <a:lnSpc>
                <a:spcPct val="100000"/>
              </a:lnSpc>
              <a:spcBef>
                <a:spcPts val="10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en-AU" sz="4000" spc="-1" strike="noStrike">
                <a:solidFill>
                  <a:srgbClr val="ffffff"/>
                </a:solidFill>
                <a:latin typeface="Calibri"/>
                <a:ea typeface="Lucida Sans Unicode"/>
              </a:rPr>
              <a:t>When Pilate saw that he was getting nowhere, but that instead an uproar was starting, he took water and washed his hands in front of the crowd. “I am innocent of this man’s blood,” he said. “It is your responsibility!”</a:t>
            </a:r>
            <a:endParaRPr b="0" lang="en-US" sz="40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5" name=""/>
          <p:cNvSpPr/>
          <p:nvPr/>
        </p:nvSpPr>
        <p:spPr>
          <a:xfrm>
            <a:off x="457200" y="1500120"/>
            <a:ext cx="8229600" cy="4626000"/>
          </a:xfrm>
          <a:prstGeom prst="rect">
            <a:avLst/>
          </a:prstGeom>
          <a:noFill/>
          <a:ln w="0">
            <a:noFill/>
          </a:ln>
        </p:spPr>
        <p:style>
          <a:lnRef idx="0"/>
          <a:fillRef idx="0"/>
          <a:effectRef idx="0"/>
          <a:fontRef idx="minor"/>
        </p:style>
        <p:txBody>
          <a:bodyPr anchor="t">
            <a:noAutofit/>
          </a:bodyPr>
          <a:p>
            <a:pPr marL="343080" indent="-338400">
              <a:lnSpc>
                <a:spcPct val="100000"/>
              </a:lnSpc>
              <a:spcBef>
                <a:spcPts val="1001"/>
              </a:spcBef>
              <a:tabLst>
                <a:tab algn="l" pos="0"/>
                <a:tab algn="l" pos="343080"/>
                <a:tab algn="l" pos="909720"/>
                <a:tab algn="l" pos="1824120"/>
                <a:tab algn="l" pos="2738520"/>
                <a:tab algn="l" pos="3652920"/>
                <a:tab algn="l" pos="4567320"/>
                <a:tab algn="l" pos="5481720"/>
                <a:tab algn="l" pos="6396120"/>
                <a:tab algn="l" pos="7310520"/>
                <a:tab algn="l" pos="8224920"/>
                <a:tab algn="l" pos="9139320"/>
                <a:tab algn="l" pos="10053720"/>
                <a:tab algn="l" pos="10329840"/>
                <a:tab algn="l" pos="10779120"/>
                <a:tab algn="l" pos="10780560"/>
                <a:tab algn="l" pos="10782360"/>
              </a:tabLst>
            </a:pPr>
            <a:r>
              <a:rPr b="0" lang="en-AU" sz="4000" spc="-1" strike="noStrike">
                <a:solidFill>
                  <a:srgbClr val="ffffff"/>
                </a:solidFill>
                <a:latin typeface="Calibri"/>
                <a:ea typeface="Lucida Sans Unicode"/>
              </a:rPr>
              <a:t>	</a:t>
            </a:r>
            <a:r>
              <a:rPr b="0" lang="en-AU" sz="4000" spc="-1" strike="noStrike">
                <a:solidFill>
                  <a:srgbClr val="ffffff"/>
                </a:solidFill>
                <a:latin typeface="Calibri"/>
                <a:ea typeface="Lucida Sans Unicode"/>
              </a:rPr>
              <a:t>All the people answered, “His blood is on us and on our children!” </a:t>
            </a:r>
            <a:endParaRPr b="0" lang="en-US" sz="4000" spc="-1" strike="noStrike">
              <a:solidFill>
                <a:srgbClr val="ffffff"/>
              </a:solidFill>
              <a:latin typeface="Arial"/>
            </a:endParaRPr>
          </a:p>
          <a:p>
            <a:pPr marL="343080" indent="-338400">
              <a:lnSpc>
                <a:spcPct val="100000"/>
              </a:lnSpc>
              <a:spcBef>
                <a:spcPts val="1001"/>
              </a:spcBef>
              <a:tabLst>
                <a:tab algn="l" pos="0"/>
                <a:tab algn="l" pos="343080"/>
                <a:tab algn="l" pos="909720"/>
                <a:tab algn="l" pos="1824120"/>
                <a:tab algn="l" pos="2738520"/>
                <a:tab algn="l" pos="3652920"/>
                <a:tab algn="l" pos="4567320"/>
                <a:tab algn="l" pos="5481720"/>
                <a:tab algn="l" pos="6396120"/>
                <a:tab algn="l" pos="7310520"/>
                <a:tab algn="l" pos="8224920"/>
                <a:tab algn="l" pos="9139320"/>
                <a:tab algn="l" pos="10053720"/>
                <a:tab algn="l" pos="10329840"/>
                <a:tab algn="l" pos="10779120"/>
                <a:tab algn="l" pos="10780560"/>
                <a:tab algn="l" pos="10782360"/>
              </a:tabLst>
            </a:pPr>
            <a:r>
              <a:rPr b="0" lang="en-AU" sz="4000" spc="-1" strike="noStrike">
                <a:solidFill>
                  <a:srgbClr val="ffffff"/>
                </a:solidFill>
                <a:latin typeface="Calibri"/>
                <a:ea typeface="Lucida Sans Unicode"/>
              </a:rPr>
              <a:t>	</a:t>
            </a:r>
            <a:r>
              <a:rPr b="0" lang="en-AU" sz="4000" spc="-1" strike="noStrike">
                <a:solidFill>
                  <a:srgbClr val="ffffff"/>
                </a:solidFill>
                <a:latin typeface="Calibri"/>
                <a:ea typeface="Lucida Sans Unicode"/>
              </a:rPr>
              <a:t>Then he released Barabbas to them. But he had Jesus flogged, and handed him over to be crucified.</a:t>
            </a:r>
            <a:endParaRPr b="0" lang="en-US" sz="40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6" name=""/>
          <p:cNvSpPr/>
          <p:nvPr/>
        </p:nvSpPr>
        <p:spPr>
          <a:xfrm>
            <a:off x="685800" y="2228760"/>
            <a:ext cx="7772400" cy="19386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AU" sz="7200" spc="-1" strike="noStrike">
                <a:solidFill>
                  <a:srgbClr val="ffffff"/>
                </a:solidFill>
                <a:latin typeface="Calibri"/>
                <a:ea typeface="Lucida Sans Unicode"/>
              </a:rPr>
              <a:t>Crown</a:t>
            </a:r>
            <a:br>
              <a:rPr sz="7200"/>
            </a:br>
            <a:r>
              <a:rPr b="1" lang="en-AU" sz="4800" spc="-1" strike="noStrike">
                <a:solidFill>
                  <a:srgbClr val="ffffff"/>
                </a:solidFill>
                <a:latin typeface="Calibri"/>
                <a:ea typeface="Lucida Sans Unicode"/>
              </a:rPr>
              <a:t>(Matthew 27:27-29)</a:t>
            </a:r>
            <a:endParaRPr b="0" lang="en-US" sz="48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7" name=""/>
          <p:cNvSpPr/>
          <p:nvPr/>
        </p:nvSpPr>
        <p:spPr>
          <a:xfrm>
            <a:off x="468360" y="549360"/>
            <a:ext cx="8229600" cy="5340240"/>
          </a:xfrm>
          <a:prstGeom prst="rect">
            <a:avLst/>
          </a:prstGeom>
          <a:noFill/>
          <a:ln w="0">
            <a:noFill/>
          </a:ln>
        </p:spPr>
        <p:style>
          <a:lnRef idx="0"/>
          <a:fillRef idx="0"/>
          <a:effectRef idx="0"/>
          <a:fontRef idx="minor"/>
        </p:style>
        <p:txBody>
          <a:bodyPr anchor="t">
            <a:noAutofit/>
          </a:bodyPr>
          <a:p>
            <a:pPr marL="343080" indent="-338400">
              <a:lnSpc>
                <a:spcPct val="100000"/>
              </a:lnSpc>
              <a:spcBef>
                <a:spcPts val="10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en-AU" sz="4000" spc="-1" strike="noStrike">
                <a:solidFill>
                  <a:srgbClr val="ffffff"/>
                </a:solidFill>
                <a:latin typeface="Calibri"/>
                <a:ea typeface="Lucida Sans Unicode"/>
              </a:rPr>
              <a:t>Then the governor’s soldiers took Jesus into the Praetorium and gathered the whole company of soldiers around him. They stripped him and put a scarlet robe on him, and then twisted together a crown of thorns and set it on his head. </a:t>
            </a:r>
            <a:endParaRPr b="0" lang="en-US" sz="40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8" name=""/>
          <p:cNvSpPr/>
          <p:nvPr/>
        </p:nvSpPr>
        <p:spPr>
          <a:xfrm>
            <a:off x="457200" y="571680"/>
            <a:ext cx="8229600" cy="5554440"/>
          </a:xfrm>
          <a:prstGeom prst="rect">
            <a:avLst/>
          </a:prstGeom>
          <a:noFill/>
          <a:ln w="0">
            <a:noFill/>
          </a:ln>
        </p:spPr>
        <p:style>
          <a:lnRef idx="0"/>
          <a:fillRef idx="0"/>
          <a:effectRef idx="0"/>
          <a:fontRef idx="minor"/>
        </p:style>
        <p:txBody>
          <a:bodyPr anchor="t">
            <a:noAutofit/>
          </a:bodyPr>
          <a:p>
            <a:pPr marL="343080" indent="-338400">
              <a:lnSpc>
                <a:spcPct val="100000"/>
              </a:lnSpc>
              <a:spcBef>
                <a:spcPts val="10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en-AU" sz="4000" spc="-1" strike="noStrike">
                <a:solidFill>
                  <a:srgbClr val="ffffff"/>
                </a:solidFill>
                <a:latin typeface="Calibri"/>
                <a:ea typeface="Lucida Sans Unicode"/>
              </a:rPr>
              <a:t>They put a staff in his right hand.</a:t>
            </a:r>
            <a:endParaRPr b="0" lang="en-US" sz="4000" spc="-1" strike="noStrike">
              <a:solidFill>
                <a:srgbClr val="ffffff"/>
              </a:solidFill>
              <a:latin typeface="Arial"/>
            </a:endParaRPr>
          </a:p>
          <a:p>
            <a:pPr marL="343080" indent="-338400">
              <a:lnSpc>
                <a:spcPct val="100000"/>
              </a:lnSpc>
              <a:spcBef>
                <a:spcPts val="10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en-AU" sz="4000" spc="-1" strike="noStrike">
                <a:solidFill>
                  <a:srgbClr val="ffffff"/>
                </a:solidFill>
                <a:latin typeface="Calibri"/>
                <a:ea typeface="Lucida Sans Unicode"/>
              </a:rPr>
              <a:t>Then they knelt in front of him and mocked him. “Hail, king of the Jews!” they said. </a:t>
            </a:r>
            <a:endParaRPr b="0" lang="en-US" sz="40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9" name=""/>
          <p:cNvSpPr/>
          <p:nvPr/>
        </p:nvSpPr>
        <p:spPr>
          <a:xfrm>
            <a:off x="685800" y="2597040"/>
            <a:ext cx="7772400" cy="1201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AU" sz="7200" spc="-1" strike="noStrike">
                <a:solidFill>
                  <a:srgbClr val="ffffff"/>
                </a:solidFill>
                <a:latin typeface="Calibri"/>
                <a:ea typeface="Lucida Sans Unicode"/>
              </a:rPr>
              <a:t>Old Rugged Cross</a:t>
            </a:r>
            <a:endParaRPr b="0" lang="en-US" sz="72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0" name=""/>
          <p:cNvSpPr/>
          <p:nvPr/>
        </p:nvSpPr>
        <p:spPr>
          <a:xfrm>
            <a:off x="457200" y="331920"/>
            <a:ext cx="8229600" cy="5897520"/>
          </a:xfrm>
          <a:prstGeom prst="rect">
            <a:avLst/>
          </a:prstGeom>
          <a:noFill/>
          <a:ln w="0">
            <a:noFill/>
          </a:ln>
        </p:spPr>
        <p:style>
          <a:lnRef idx="0"/>
          <a:fillRef idx="0"/>
          <a:effectRef idx="0"/>
          <a:fontRef idx="minor"/>
        </p:style>
        <p:txBody>
          <a:bodyPr anchor="t">
            <a:noAutofit/>
          </a:bodyPr>
          <a:p>
            <a:pPr marL="355680" indent="-351000" algn="ctr">
              <a:lnSpc>
                <a:spcPct val="100000"/>
              </a:lnSpc>
              <a:spcBef>
                <a:spcPts val="499"/>
              </a:spcBef>
              <a:tabLst>
                <a:tab algn="l" pos="0"/>
                <a:tab algn="l" pos="355680"/>
                <a:tab algn="l" pos="803160"/>
                <a:tab algn="l" pos="1252440"/>
                <a:tab algn="l" pos="1701720"/>
                <a:tab algn="l" pos="2151000"/>
                <a:tab algn="l" pos="2600280"/>
                <a:tab algn="l" pos="3049560"/>
                <a:tab algn="l" pos="3498840"/>
                <a:tab algn="l" pos="3948120"/>
                <a:tab algn="l" pos="4397400"/>
                <a:tab algn="l" pos="4846680"/>
                <a:tab algn="l" pos="5295960"/>
                <a:tab algn="l" pos="5745240"/>
                <a:tab algn="l" pos="6194520"/>
                <a:tab algn="l" pos="6643800"/>
                <a:tab algn="l" pos="7093080"/>
                <a:tab algn="l" pos="7542360"/>
                <a:tab algn="l" pos="7991640"/>
                <a:tab algn="l" pos="8440560"/>
                <a:tab algn="l" pos="8889840"/>
                <a:tab algn="l" pos="9339120"/>
                <a:tab algn="l" pos="9434520"/>
                <a:tab algn="l" pos="9883800"/>
                <a:tab algn="l" pos="10333080"/>
                <a:tab algn="l" pos="10782360"/>
              </a:tabLst>
            </a:pPr>
            <a:r>
              <a:rPr b="1" lang="en-AU" sz="4400" spc="-1" strike="noStrike">
                <a:solidFill>
                  <a:srgbClr val="ffffff"/>
                </a:solidFill>
                <a:latin typeface="Calibri"/>
                <a:ea typeface="Lucida Sans Unicode"/>
              </a:rPr>
              <a:t>On a hill far away </a:t>
            </a:r>
            <a:endParaRPr b="0" lang="en-US" sz="4400" spc="-1" strike="noStrike">
              <a:solidFill>
                <a:srgbClr val="ffffff"/>
              </a:solidFill>
              <a:latin typeface="Arial"/>
            </a:endParaRPr>
          </a:p>
          <a:p>
            <a:pPr marL="355680" indent="-351000" algn="ctr">
              <a:lnSpc>
                <a:spcPct val="100000"/>
              </a:lnSpc>
              <a:spcBef>
                <a:spcPts val="499"/>
              </a:spcBef>
              <a:tabLst>
                <a:tab algn="l" pos="0"/>
                <a:tab algn="l" pos="355680"/>
                <a:tab algn="l" pos="803160"/>
                <a:tab algn="l" pos="1252440"/>
                <a:tab algn="l" pos="1701720"/>
                <a:tab algn="l" pos="2151000"/>
                <a:tab algn="l" pos="2600280"/>
                <a:tab algn="l" pos="3049560"/>
                <a:tab algn="l" pos="3498840"/>
                <a:tab algn="l" pos="3948120"/>
                <a:tab algn="l" pos="4397400"/>
                <a:tab algn="l" pos="4846680"/>
                <a:tab algn="l" pos="5295960"/>
                <a:tab algn="l" pos="5745240"/>
                <a:tab algn="l" pos="6194520"/>
                <a:tab algn="l" pos="6643800"/>
                <a:tab algn="l" pos="7093080"/>
                <a:tab algn="l" pos="7542360"/>
                <a:tab algn="l" pos="7991640"/>
                <a:tab algn="l" pos="8440560"/>
                <a:tab algn="l" pos="8889840"/>
                <a:tab algn="l" pos="9339120"/>
                <a:tab algn="l" pos="9434520"/>
                <a:tab algn="l" pos="9883800"/>
                <a:tab algn="l" pos="10333080"/>
                <a:tab algn="l" pos="10782360"/>
              </a:tabLst>
            </a:pPr>
            <a:r>
              <a:rPr b="1" lang="en-AU" sz="4400" spc="-1" strike="noStrike">
                <a:solidFill>
                  <a:srgbClr val="ffffff"/>
                </a:solidFill>
                <a:latin typeface="Calibri"/>
                <a:ea typeface="Lucida Sans Unicode"/>
              </a:rPr>
              <a:t>stood an old rugged cross,</a:t>
            </a:r>
            <a:endParaRPr b="0" lang="en-US" sz="4400" spc="-1" strike="noStrike">
              <a:solidFill>
                <a:srgbClr val="ffffff"/>
              </a:solidFill>
              <a:latin typeface="Arial"/>
            </a:endParaRPr>
          </a:p>
          <a:p>
            <a:pPr marL="355680" indent="-351000" algn="ctr">
              <a:lnSpc>
                <a:spcPct val="100000"/>
              </a:lnSpc>
              <a:spcBef>
                <a:spcPts val="499"/>
              </a:spcBef>
              <a:tabLst>
                <a:tab algn="l" pos="0"/>
                <a:tab algn="l" pos="355680"/>
                <a:tab algn="l" pos="803160"/>
                <a:tab algn="l" pos="1252440"/>
                <a:tab algn="l" pos="1701720"/>
                <a:tab algn="l" pos="2151000"/>
                <a:tab algn="l" pos="2600280"/>
                <a:tab algn="l" pos="3049560"/>
                <a:tab algn="l" pos="3498840"/>
                <a:tab algn="l" pos="3948120"/>
                <a:tab algn="l" pos="4397400"/>
                <a:tab algn="l" pos="4846680"/>
                <a:tab algn="l" pos="5295960"/>
                <a:tab algn="l" pos="5745240"/>
                <a:tab algn="l" pos="6194520"/>
                <a:tab algn="l" pos="6643800"/>
                <a:tab algn="l" pos="7093080"/>
                <a:tab algn="l" pos="7542360"/>
                <a:tab algn="l" pos="7991640"/>
                <a:tab algn="l" pos="8440560"/>
                <a:tab algn="l" pos="8889840"/>
                <a:tab algn="l" pos="9339120"/>
                <a:tab algn="l" pos="9434520"/>
                <a:tab algn="l" pos="9883800"/>
                <a:tab algn="l" pos="10333080"/>
                <a:tab algn="l" pos="10782360"/>
              </a:tabLst>
            </a:pPr>
            <a:r>
              <a:rPr b="1" lang="en-AU" sz="4400" spc="-1" strike="noStrike">
                <a:solidFill>
                  <a:srgbClr val="ffffff"/>
                </a:solidFill>
                <a:latin typeface="Calibri"/>
                <a:ea typeface="Lucida Sans Unicode"/>
              </a:rPr>
              <a:t>The emblem of suff'ring </a:t>
            </a:r>
            <a:endParaRPr b="0" lang="en-US" sz="4400" spc="-1" strike="noStrike">
              <a:solidFill>
                <a:srgbClr val="ffffff"/>
              </a:solidFill>
              <a:latin typeface="Arial"/>
            </a:endParaRPr>
          </a:p>
          <a:p>
            <a:pPr marL="355680" indent="-351000" algn="ctr">
              <a:lnSpc>
                <a:spcPct val="100000"/>
              </a:lnSpc>
              <a:spcBef>
                <a:spcPts val="499"/>
              </a:spcBef>
              <a:tabLst>
                <a:tab algn="l" pos="0"/>
                <a:tab algn="l" pos="355680"/>
                <a:tab algn="l" pos="803160"/>
                <a:tab algn="l" pos="1252440"/>
                <a:tab algn="l" pos="1701720"/>
                <a:tab algn="l" pos="2151000"/>
                <a:tab algn="l" pos="2600280"/>
                <a:tab algn="l" pos="3049560"/>
                <a:tab algn="l" pos="3498840"/>
                <a:tab algn="l" pos="3948120"/>
                <a:tab algn="l" pos="4397400"/>
                <a:tab algn="l" pos="4846680"/>
                <a:tab algn="l" pos="5295960"/>
                <a:tab algn="l" pos="5745240"/>
                <a:tab algn="l" pos="6194520"/>
                <a:tab algn="l" pos="6643800"/>
                <a:tab algn="l" pos="7093080"/>
                <a:tab algn="l" pos="7542360"/>
                <a:tab algn="l" pos="7991640"/>
                <a:tab algn="l" pos="8440560"/>
                <a:tab algn="l" pos="8889840"/>
                <a:tab algn="l" pos="9339120"/>
                <a:tab algn="l" pos="9434520"/>
                <a:tab algn="l" pos="9883800"/>
                <a:tab algn="l" pos="10333080"/>
                <a:tab algn="l" pos="10782360"/>
              </a:tabLst>
            </a:pPr>
            <a:r>
              <a:rPr b="1" lang="en-AU" sz="4400" spc="-1" strike="noStrike">
                <a:solidFill>
                  <a:srgbClr val="ffffff"/>
                </a:solidFill>
                <a:latin typeface="Calibri"/>
                <a:ea typeface="Lucida Sans Unicode"/>
              </a:rPr>
              <a:t>and shame;</a:t>
            </a:r>
            <a:endParaRPr b="0" lang="en-US" sz="4400" spc="-1" strike="noStrike">
              <a:solidFill>
                <a:srgbClr val="ffffff"/>
              </a:solidFill>
              <a:latin typeface="Arial"/>
            </a:endParaRPr>
          </a:p>
          <a:p>
            <a:pPr marL="355680" indent="-351000" algn="ctr">
              <a:lnSpc>
                <a:spcPct val="100000"/>
              </a:lnSpc>
              <a:spcBef>
                <a:spcPts val="499"/>
              </a:spcBef>
              <a:tabLst>
                <a:tab algn="l" pos="0"/>
                <a:tab algn="l" pos="355680"/>
                <a:tab algn="l" pos="803160"/>
                <a:tab algn="l" pos="1252440"/>
                <a:tab algn="l" pos="1701720"/>
                <a:tab algn="l" pos="2151000"/>
                <a:tab algn="l" pos="2600280"/>
                <a:tab algn="l" pos="3049560"/>
                <a:tab algn="l" pos="3498840"/>
                <a:tab algn="l" pos="3948120"/>
                <a:tab algn="l" pos="4397400"/>
                <a:tab algn="l" pos="4846680"/>
                <a:tab algn="l" pos="5295960"/>
                <a:tab algn="l" pos="5745240"/>
                <a:tab algn="l" pos="6194520"/>
                <a:tab algn="l" pos="6643800"/>
                <a:tab algn="l" pos="7093080"/>
                <a:tab algn="l" pos="7542360"/>
                <a:tab algn="l" pos="7991640"/>
                <a:tab algn="l" pos="8440560"/>
                <a:tab algn="l" pos="8889840"/>
                <a:tab algn="l" pos="9339120"/>
                <a:tab algn="l" pos="9434520"/>
                <a:tab algn="l" pos="9883800"/>
                <a:tab algn="l" pos="10333080"/>
                <a:tab algn="l" pos="10782360"/>
              </a:tabLst>
            </a:pPr>
            <a:r>
              <a:rPr b="1" lang="en-AU" sz="4400" spc="-1" strike="noStrike">
                <a:solidFill>
                  <a:srgbClr val="ffffff"/>
                </a:solidFill>
                <a:latin typeface="Calibri"/>
                <a:ea typeface="Lucida Sans Unicode"/>
              </a:rPr>
              <a:t>And I love that old cross </a:t>
            </a:r>
            <a:endParaRPr b="0" lang="en-US" sz="4400" spc="-1" strike="noStrike">
              <a:solidFill>
                <a:srgbClr val="ffffff"/>
              </a:solidFill>
              <a:latin typeface="Arial"/>
            </a:endParaRPr>
          </a:p>
          <a:p>
            <a:pPr marL="355680" indent="-351000" algn="ctr">
              <a:lnSpc>
                <a:spcPct val="100000"/>
              </a:lnSpc>
              <a:spcBef>
                <a:spcPts val="499"/>
              </a:spcBef>
              <a:tabLst>
                <a:tab algn="l" pos="0"/>
                <a:tab algn="l" pos="355680"/>
                <a:tab algn="l" pos="803160"/>
                <a:tab algn="l" pos="1252440"/>
                <a:tab algn="l" pos="1701720"/>
                <a:tab algn="l" pos="2151000"/>
                <a:tab algn="l" pos="2600280"/>
                <a:tab algn="l" pos="3049560"/>
                <a:tab algn="l" pos="3498840"/>
                <a:tab algn="l" pos="3948120"/>
                <a:tab algn="l" pos="4397400"/>
                <a:tab algn="l" pos="4846680"/>
                <a:tab algn="l" pos="5295960"/>
                <a:tab algn="l" pos="5745240"/>
                <a:tab algn="l" pos="6194520"/>
                <a:tab algn="l" pos="6643800"/>
                <a:tab algn="l" pos="7093080"/>
                <a:tab algn="l" pos="7542360"/>
                <a:tab algn="l" pos="7991640"/>
                <a:tab algn="l" pos="8440560"/>
                <a:tab algn="l" pos="8889840"/>
                <a:tab algn="l" pos="9339120"/>
                <a:tab algn="l" pos="9434520"/>
                <a:tab algn="l" pos="9883800"/>
                <a:tab algn="l" pos="10333080"/>
                <a:tab algn="l" pos="10782360"/>
              </a:tabLst>
            </a:pPr>
            <a:r>
              <a:rPr b="1" lang="en-AU" sz="4400" spc="-1" strike="noStrike">
                <a:solidFill>
                  <a:srgbClr val="ffffff"/>
                </a:solidFill>
                <a:latin typeface="Calibri"/>
                <a:ea typeface="Lucida Sans Unicode"/>
              </a:rPr>
              <a:t>where the dearest and best</a:t>
            </a:r>
            <a:endParaRPr b="0" lang="en-US" sz="4400" spc="-1" strike="noStrike">
              <a:solidFill>
                <a:srgbClr val="ffffff"/>
              </a:solidFill>
              <a:latin typeface="Arial"/>
            </a:endParaRPr>
          </a:p>
          <a:p>
            <a:pPr marL="355680" indent="-351000" algn="ctr">
              <a:lnSpc>
                <a:spcPct val="100000"/>
              </a:lnSpc>
              <a:spcBef>
                <a:spcPts val="499"/>
              </a:spcBef>
              <a:tabLst>
                <a:tab algn="l" pos="0"/>
                <a:tab algn="l" pos="355680"/>
                <a:tab algn="l" pos="803160"/>
                <a:tab algn="l" pos="1252440"/>
                <a:tab algn="l" pos="1701720"/>
                <a:tab algn="l" pos="2151000"/>
                <a:tab algn="l" pos="2600280"/>
                <a:tab algn="l" pos="3049560"/>
                <a:tab algn="l" pos="3498840"/>
                <a:tab algn="l" pos="3948120"/>
                <a:tab algn="l" pos="4397400"/>
                <a:tab algn="l" pos="4846680"/>
                <a:tab algn="l" pos="5295960"/>
                <a:tab algn="l" pos="5745240"/>
                <a:tab algn="l" pos="6194520"/>
                <a:tab algn="l" pos="6643800"/>
                <a:tab algn="l" pos="7093080"/>
                <a:tab algn="l" pos="7542360"/>
                <a:tab algn="l" pos="7991640"/>
                <a:tab algn="l" pos="8440560"/>
                <a:tab algn="l" pos="8889840"/>
                <a:tab algn="l" pos="9339120"/>
                <a:tab algn="l" pos="9434520"/>
                <a:tab algn="l" pos="9883800"/>
                <a:tab algn="l" pos="10333080"/>
                <a:tab algn="l" pos="10782360"/>
              </a:tabLst>
            </a:pPr>
            <a:r>
              <a:rPr b="1" lang="en-AU" sz="4400" spc="-1" strike="noStrike">
                <a:solidFill>
                  <a:srgbClr val="ffffff"/>
                </a:solidFill>
                <a:latin typeface="Calibri"/>
                <a:ea typeface="Lucida Sans Unicode"/>
              </a:rPr>
              <a:t>For a world of lost sinners </a:t>
            </a:r>
            <a:endParaRPr b="0" lang="en-US" sz="4400" spc="-1" strike="noStrike">
              <a:solidFill>
                <a:srgbClr val="ffffff"/>
              </a:solidFill>
              <a:latin typeface="Arial"/>
            </a:endParaRPr>
          </a:p>
          <a:p>
            <a:pPr marL="355680" indent="-351000" algn="ctr">
              <a:lnSpc>
                <a:spcPct val="100000"/>
              </a:lnSpc>
              <a:spcBef>
                <a:spcPts val="499"/>
              </a:spcBef>
              <a:tabLst>
                <a:tab algn="l" pos="0"/>
                <a:tab algn="l" pos="355680"/>
                <a:tab algn="l" pos="803160"/>
                <a:tab algn="l" pos="1252440"/>
                <a:tab algn="l" pos="1701720"/>
                <a:tab algn="l" pos="2151000"/>
                <a:tab algn="l" pos="2600280"/>
                <a:tab algn="l" pos="3049560"/>
                <a:tab algn="l" pos="3498840"/>
                <a:tab algn="l" pos="3948120"/>
                <a:tab algn="l" pos="4397400"/>
                <a:tab algn="l" pos="4846680"/>
                <a:tab algn="l" pos="5295960"/>
                <a:tab algn="l" pos="5745240"/>
                <a:tab algn="l" pos="6194520"/>
                <a:tab algn="l" pos="6643800"/>
                <a:tab algn="l" pos="7093080"/>
                <a:tab algn="l" pos="7542360"/>
                <a:tab algn="l" pos="7991640"/>
                <a:tab algn="l" pos="8440560"/>
                <a:tab algn="l" pos="8889840"/>
                <a:tab algn="l" pos="9339120"/>
                <a:tab algn="l" pos="9434520"/>
                <a:tab algn="l" pos="9883800"/>
                <a:tab algn="l" pos="10333080"/>
                <a:tab algn="l" pos="10782360"/>
              </a:tabLst>
            </a:pPr>
            <a:r>
              <a:rPr b="1" lang="en-AU" sz="4400" spc="-1" strike="noStrike">
                <a:solidFill>
                  <a:srgbClr val="ffffff"/>
                </a:solidFill>
                <a:latin typeface="Calibri"/>
                <a:ea typeface="Lucida Sans Unicode"/>
              </a:rPr>
              <a:t>was slain.</a:t>
            </a:r>
            <a:endParaRPr b="0" lang="en-US" sz="44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1" name=""/>
          <p:cNvSpPr/>
          <p:nvPr/>
        </p:nvSpPr>
        <p:spPr>
          <a:xfrm>
            <a:off x="457200" y="907920"/>
            <a:ext cx="8229600" cy="5164200"/>
          </a:xfrm>
          <a:prstGeom prst="rect">
            <a:avLst/>
          </a:prstGeom>
          <a:noFill/>
          <a:ln w="0">
            <a:noFill/>
          </a:ln>
        </p:spPr>
        <p:style>
          <a:lnRef idx="0"/>
          <a:fillRef idx="0"/>
          <a:effectRef idx="0"/>
          <a:fontRef idx="minor"/>
        </p:style>
        <p:txBody>
          <a:bodyPr anchor="t">
            <a:noAutofit/>
          </a:bodyPr>
          <a:p>
            <a:pPr marL="355680" indent="-351000" algn="ctr">
              <a:lnSpc>
                <a:spcPct val="100000"/>
              </a:lnSpc>
              <a:spcBef>
                <a:spcPts val="499"/>
              </a:spcBef>
              <a:tabLst>
                <a:tab algn="l" pos="0"/>
                <a:tab algn="l" pos="355680"/>
                <a:tab algn="l" pos="803160"/>
                <a:tab algn="l" pos="1252440"/>
                <a:tab algn="l" pos="1701720"/>
                <a:tab algn="l" pos="2151000"/>
                <a:tab algn="l" pos="2600280"/>
                <a:tab algn="l" pos="3049560"/>
                <a:tab algn="l" pos="3498840"/>
                <a:tab algn="l" pos="3948120"/>
                <a:tab algn="l" pos="4397400"/>
                <a:tab algn="l" pos="4846680"/>
                <a:tab algn="l" pos="5295960"/>
                <a:tab algn="l" pos="5745240"/>
                <a:tab algn="l" pos="6194520"/>
                <a:tab algn="l" pos="6643800"/>
                <a:tab algn="l" pos="7093080"/>
                <a:tab algn="l" pos="7542360"/>
                <a:tab algn="l" pos="7991640"/>
                <a:tab algn="l" pos="8440560"/>
                <a:tab algn="l" pos="8889840"/>
                <a:tab algn="l" pos="9339120"/>
                <a:tab algn="l" pos="9434520"/>
                <a:tab algn="l" pos="9883800"/>
                <a:tab algn="l" pos="10333080"/>
                <a:tab algn="l" pos="10782360"/>
              </a:tabLst>
            </a:pPr>
            <a:endParaRPr b="0" lang="en-US" sz="4400" spc="-1" strike="noStrike">
              <a:solidFill>
                <a:srgbClr val="ffffff"/>
              </a:solidFill>
              <a:latin typeface="Arial"/>
            </a:endParaRPr>
          </a:p>
          <a:p>
            <a:pPr marL="355680" indent="-351000" algn="ctr">
              <a:lnSpc>
                <a:spcPct val="100000"/>
              </a:lnSpc>
              <a:spcBef>
                <a:spcPts val="499"/>
              </a:spcBef>
              <a:tabLst>
                <a:tab algn="l" pos="0"/>
                <a:tab algn="l" pos="355680"/>
                <a:tab algn="l" pos="803160"/>
                <a:tab algn="l" pos="1252440"/>
                <a:tab algn="l" pos="1701720"/>
                <a:tab algn="l" pos="2151000"/>
                <a:tab algn="l" pos="2600280"/>
                <a:tab algn="l" pos="3049560"/>
                <a:tab algn="l" pos="3498840"/>
                <a:tab algn="l" pos="3948120"/>
                <a:tab algn="l" pos="4397400"/>
                <a:tab algn="l" pos="4846680"/>
                <a:tab algn="l" pos="5295960"/>
                <a:tab algn="l" pos="5745240"/>
                <a:tab algn="l" pos="6194520"/>
                <a:tab algn="l" pos="6643800"/>
                <a:tab algn="l" pos="7093080"/>
                <a:tab algn="l" pos="7542360"/>
                <a:tab algn="l" pos="7991640"/>
                <a:tab algn="l" pos="8440560"/>
                <a:tab algn="l" pos="8889840"/>
                <a:tab algn="l" pos="9339120"/>
                <a:tab algn="l" pos="9434520"/>
                <a:tab algn="l" pos="9883800"/>
                <a:tab algn="l" pos="10333080"/>
                <a:tab algn="l" pos="10782360"/>
              </a:tabLst>
            </a:pPr>
            <a:r>
              <a:rPr b="1" lang="en-AU" sz="4400" spc="-1" strike="noStrike">
                <a:solidFill>
                  <a:srgbClr val="ffffff"/>
                </a:solidFill>
                <a:latin typeface="Calibri"/>
                <a:ea typeface="Lucida Sans Unicode"/>
              </a:rPr>
              <a:t>So I'll cherish the old rugged cross.</a:t>
            </a:r>
            <a:endParaRPr b="0" lang="en-US" sz="4400" spc="-1" strike="noStrike">
              <a:solidFill>
                <a:srgbClr val="ffffff"/>
              </a:solidFill>
              <a:latin typeface="Arial"/>
            </a:endParaRPr>
          </a:p>
          <a:p>
            <a:pPr marL="355680" indent="-351000" algn="ctr">
              <a:lnSpc>
                <a:spcPct val="100000"/>
              </a:lnSpc>
              <a:spcBef>
                <a:spcPts val="499"/>
              </a:spcBef>
              <a:tabLst>
                <a:tab algn="l" pos="0"/>
                <a:tab algn="l" pos="355680"/>
                <a:tab algn="l" pos="803160"/>
                <a:tab algn="l" pos="1252440"/>
                <a:tab algn="l" pos="1701720"/>
                <a:tab algn="l" pos="2151000"/>
                <a:tab algn="l" pos="2600280"/>
                <a:tab algn="l" pos="3049560"/>
                <a:tab algn="l" pos="3498840"/>
                <a:tab algn="l" pos="3948120"/>
                <a:tab algn="l" pos="4397400"/>
                <a:tab algn="l" pos="4846680"/>
                <a:tab algn="l" pos="5295960"/>
                <a:tab algn="l" pos="5745240"/>
                <a:tab algn="l" pos="6194520"/>
                <a:tab algn="l" pos="6643800"/>
                <a:tab algn="l" pos="7093080"/>
                <a:tab algn="l" pos="7542360"/>
                <a:tab algn="l" pos="7991640"/>
                <a:tab algn="l" pos="8440560"/>
                <a:tab algn="l" pos="8889840"/>
                <a:tab algn="l" pos="9339120"/>
                <a:tab algn="l" pos="9434520"/>
                <a:tab algn="l" pos="9883800"/>
                <a:tab algn="l" pos="10333080"/>
                <a:tab algn="l" pos="10782360"/>
              </a:tabLst>
            </a:pPr>
            <a:r>
              <a:rPr b="1" lang="en-AU" sz="4400" spc="-1" strike="noStrike">
                <a:solidFill>
                  <a:srgbClr val="ffffff"/>
                </a:solidFill>
                <a:latin typeface="Calibri"/>
                <a:ea typeface="Lucida Sans Unicode"/>
              </a:rPr>
              <a:t>Till my trophies at last I lay down;</a:t>
            </a:r>
            <a:endParaRPr b="0" lang="en-US" sz="4400" spc="-1" strike="noStrike">
              <a:solidFill>
                <a:srgbClr val="ffffff"/>
              </a:solidFill>
              <a:latin typeface="Arial"/>
            </a:endParaRPr>
          </a:p>
          <a:p>
            <a:pPr marL="355680" indent="-351000" algn="ctr">
              <a:lnSpc>
                <a:spcPct val="100000"/>
              </a:lnSpc>
              <a:spcBef>
                <a:spcPts val="499"/>
              </a:spcBef>
              <a:tabLst>
                <a:tab algn="l" pos="0"/>
                <a:tab algn="l" pos="355680"/>
                <a:tab algn="l" pos="803160"/>
                <a:tab algn="l" pos="1252440"/>
                <a:tab algn="l" pos="1701720"/>
                <a:tab algn="l" pos="2151000"/>
                <a:tab algn="l" pos="2600280"/>
                <a:tab algn="l" pos="3049560"/>
                <a:tab algn="l" pos="3498840"/>
                <a:tab algn="l" pos="3948120"/>
                <a:tab algn="l" pos="4397400"/>
                <a:tab algn="l" pos="4846680"/>
                <a:tab algn="l" pos="5295960"/>
                <a:tab algn="l" pos="5745240"/>
                <a:tab algn="l" pos="6194520"/>
                <a:tab algn="l" pos="6643800"/>
                <a:tab algn="l" pos="7093080"/>
                <a:tab algn="l" pos="7542360"/>
                <a:tab algn="l" pos="7991640"/>
                <a:tab algn="l" pos="8440560"/>
                <a:tab algn="l" pos="8889840"/>
                <a:tab algn="l" pos="9339120"/>
                <a:tab algn="l" pos="9434520"/>
                <a:tab algn="l" pos="9883800"/>
                <a:tab algn="l" pos="10333080"/>
                <a:tab algn="l" pos="10782360"/>
              </a:tabLst>
            </a:pPr>
            <a:r>
              <a:rPr b="1" lang="en-AU" sz="4400" spc="-1" strike="noStrike">
                <a:solidFill>
                  <a:srgbClr val="ffffff"/>
                </a:solidFill>
                <a:latin typeface="Calibri"/>
                <a:ea typeface="Lucida Sans Unicode"/>
              </a:rPr>
              <a:t>I will cling to the old rugged cross,</a:t>
            </a:r>
            <a:endParaRPr b="0" lang="en-US" sz="4400" spc="-1" strike="noStrike">
              <a:solidFill>
                <a:srgbClr val="ffffff"/>
              </a:solidFill>
              <a:latin typeface="Arial"/>
            </a:endParaRPr>
          </a:p>
          <a:p>
            <a:pPr marL="355680" indent="-351000" algn="ctr">
              <a:lnSpc>
                <a:spcPct val="100000"/>
              </a:lnSpc>
              <a:spcBef>
                <a:spcPts val="499"/>
              </a:spcBef>
              <a:tabLst>
                <a:tab algn="l" pos="0"/>
                <a:tab algn="l" pos="355680"/>
                <a:tab algn="l" pos="803160"/>
                <a:tab algn="l" pos="1252440"/>
                <a:tab algn="l" pos="1701720"/>
                <a:tab algn="l" pos="2151000"/>
                <a:tab algn="l" pos="2600280"/>
                <a:tab algn="l" pos="3049560"/>
                <a:tab algn="l" pos="3498840"/>
                <a:tab algn="l" pos="3948120"/>
                <a:tab algn="l" pos="4397400"/>
                <a:tab algn="l" pos="4846680"/>
                <a:tab algn="l" pos="5295960"/>
                <a:tab algn="l" pos="5745240"/>
                <a:tab algn="l" pos="6194520"/>
                <a:tab algn="l" pos="6643800"/>
                <a:tab algn="l" pos="7093080"/>
                <a:tab algn="l" pos="7542360"/>
                <a:tab algn="l" pos="7991640"/>
                <a:tab algn="l" pos="8440560"/>
                <a:tab algn="l" pos="8889840"/>
                <a:tab algn="l" pos="9339120"/>
                <a:tab algn="l" pos="9434520"/>
                <a:tab algn="l" pos="9883800"/>
                <a:tab algn="l" pos="10333080"/>
                <a:tab algn="l" pos="10782360"/>
              </a:tabLst>
            </a:pPr>
            <a:r>
              <a:rPr b="1" lang="en-AU" sz="4400" spc="-1" strike="noStrike">
                <a:solidFill>
                  <a:srgbClr val="ffffff"/>
                </a:solidFill>
                <a:latin typeface="Calibri"/>
                <a:ea typeface="Lucida Sans Unicode"/>
              </a:rPr>
              <a:t>And exchange it some day </a:t>
            </a:r>
            <a:endParaRPr b="0" lang="en-US" sz="4400" spc="-1" strike="noStrike">
              <a:solidFill>
                <a:srgbClr val="ffffff"/>
              </a:solidFill>
              <a:latin typeface="Arial"/>
            </a:endParaRPr>
          </a:p>
          <a:p>
            <a:pPr marL="355680" indent="-351000" algn="ctr">
              <a:lnSpc>
                <a:spcPct val="100000"/>
              </a:lnSpc>
              <a:spcBef>
                <a:spcPts val="499"/>
              </a:spcBef>
              <a:tabLst>
                <a:tab algn="l" pos="0"/>
                <a:tab algn="l" pos="355680"/>
                <a:tab algn="l" pos="803160"/>
                <a:tab algn="l" pos="1252440"/>
                <a:tab algn="l" pos="1701720"/>
                <a:tab algn="l" pos="2151000"/>
                <a:tab algn="l" pos="2600280"/>
                <a:tab algn="l" pos="3049560"/>
                <a:tab algn="l" pos="3498840"/>
                <a:tab algn="l" pos="3948120"/>
                <a:tab algn="l" pos="4397400"/>
                <a:tab algn="l" pos="4846680"/>
                <a:tab algn="l" pos="5295960"/>
                <a:tab algn="l" pos="5745240"/>
                <a:tab algn="l" pos="6194520"/>
                <a:tab algn="l" pos="6643800"/>
                <a:tab algn="l" pos="7093080"/>
                <a:tab algn="l" pos="7542360"/>
                <a:tab algn="l" pos="7991640"/>
                <a:tab algn="l" pos="8440560"/>
                <a:tab algn="l" pos="8889840"/>
                <a:tab algn="l" pos="9339120"/>
                <a:tab algn="l" pos="9434520"/>
                <a:tab algn="l" pos="9883800"/>
                <a:tab algn="l" pos="10333080"/>
                <a:tab algn="l" pos="10782360"/>
              </a:tabLst>
            </a:pPr>
            <a:r>
              <a:rPr b="1" lang="en-AU" sz="4400" spc="-1" strike="noStrike">
                <a:solidFill>
                  <a:srgbClr val="ffffff"/>
                </a:solidFill>
                <a:latin typeface="Calibri"/>
                <a:ea typeface="Lucida Sans Unicode"/>
              </a:rPr>
              <a:t>for a crown.</a:t>
            </a:r>
            <a:endParaRPr b="0" lang="en-US" sz="4400" spc="-1" strike="noStrike">
              <a:solidFill>
                <a:srgbClr val="ffffff"/>
              </a:solidFill>
              <a:latin typeface="Arial"/>
            </a:endParaRPr>
          </a:p>
          <a:p>
            <a:pPr marL="355680" indent="-351000" algn="ctr">
              <a:lnSpc>
                <a:spcPct val="100000"/>
              </a:lnSpc>
              <a:spcBef>
                <a:spcPts val="499"/>
              </a:spcBef>
              <a:tabLst>
                <a:tab algn="l" pos="0"/>
                <a:tab algn="l" pos="355680"/>
                <a:tab algn="l" pos="803160"/>
                <a:tab algn="l" pos="1252440"/>
                <a:tab algn="l" pos="1701720"/>
                <a:tab algn="l" pos="2151000"/>
                <a:tab algn="l" pos="2600280"/>
                <a:tab algn="l" pos="3049560"/>
                <a:tab algn="l" pos="3498840"/>
                <a:tab algn="l" pos="3948120"/>
                <a:tab algn="l" pos="4397400"/>
                <a:tab algn="l" pos="4846680"/>
                <a:tab algn="l" pos="5295960"/>
                <a:tab algn="l" pos="5745240"/>
                <a:tab algn="l" pos="6194520"/>
                <a:tab algn="l" pos="6643800"/>
                <a:tab algn="l" pos="7093080"/>
                <a:tab algn="l" pos="7542360"/>
                <a:tab algn="l" pos="7991640"/>
                <a:tab algn="l" pos="8440560"/>
                <a:tab algn="l" pos="8889840"/>
                <a:tab algn="l" pos="9339120"/>
                <a:tab algn="l" pos="9434520"/>
                <a:tab algn="l" pos="9883800"/>
                <a:tab algn="l" pos="10333080"/>
                <a:tab algn="l" pos="10782360"/>
              </a:tabLst>
            </a:pPr>
            <a:endParaRPr b="0" lang="en-US" sz="4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2" name=""/>
          <p:cNvSpPr/>
          <p:nvPr/>
        </p:nvSpPr>
        <p:spPr>
          <a:xfrm>
            <a:off x="457200" y="863640"/>
            <a:ext cx="8229600" cy="5164200"/>
          </a:xfrm>
          <a:prstGeom prst="rect">
            <a:avLst/>
          </a:prstGeom>
          <a:noFill/>
          <a:ln w="0">
            <a:noFill/>
          </a:ln>
        </p:spPr>
        <p:style>
          <a:lnRef idx="0"/>
          <a:fillRef idx="0"/>
          <a:effectRef idx="0"/>
          <a:fontRef idx="minor"/>
        </p:style>
        <p:txBody>
          <a:bodyPr anchor="t">
            <a:noAutofit/>
          </a:bodyPr>
          <a:p>
            <a:pPr marL="355680" indent="-351000" algn="ctr">
              <a:lnSpc>
                <a:spcPct val="100000"/>
              </a:lnSpc>
              <a:spcBef>
                <a:spcPts val="499"/>
              </a:spcBef>
              <a:tabLst>
                <a:tab algn="l" pos="0"/>
                <a:tab algn="l" pos="355680"/>
                <a:tab algn="l" pos="803160"/>
                <a:tab algn="l" pos="1252440"/>
                <a:tab algn="l" pos="1701720"/>
                <a:tab algn="l" pos="2151000"/>
                <a:tab algn="l" pos="2600280"/>
                <a:tab algn="l" pos="3049560"/>
                <a:tab algn="l" pos="3498840"/>
                <a:tab algn="l" pos="3948120"/>
                <a:tab algn="l" pos="4397400"/>
                <a:tab algn="l" pos="4846680"/>
                <a:tab algn="l" pos="5295960"/>
                <a:tab algn="l" pos="5745240"/>
                <a:tab algn="l" pos="6194520"/>
                <a:tab algn="l" pos="6643800"/>
                <a:tab algn="l" pos="7093080"/>
                <a:tab algn="l" pos="7542360"/>
                <a:tab algn="l" pos="7991640"/>
                <a:tab algn="l" pos="8440560"/>
                <a:tab algn="l" pos="8889840"/>
                <a:tab algn="l" pos="9339120"/>
                <a:tab algn="l" pos="9434520"/>
                <a:tab algn="l" pos="9883800"/>
                <a:tab algn="l" pos="10333080"/>
                <a:tab algn="l" pos="10782360"/>
              </a:tabLst>
            </a:pPr>
            <a:r>
              <a:rPr b="1" lang="en-AU" sz="4400" spc="-1" strike="noStrike">
                <a:solidFill>
                  <a:srgbClr val="ffffff"/>
                </a:solidFill>
                <a:latin typeface="Calibri"/>
                <a:ea typeface="Lucida Sans Unicode"/>
              </a:rPr>
              <a:t>O, that old rugged cross, </a:t>
            </a:r>
            <a:endParaRPr b="0" lang="en-US" sz="4400" spc="-1" strike="noStrike">
              <a:solidFill>
                <a:srgbClr val="ffffff"/>
              </a:solidFill>
              <a:latin typeface="Arial"/>
            </a:endParaRPr>
          </a:p>
          <a:p>
            <a:pPr marL="355680" indent="-351000" algn="ctr">
              <a:lnSpc>
                <a:spcPct val="100000"/>
              </a:lnSpc>
              <a:spcBef>
                <a:spcPts val="499"/>
              </a:spcBef>
              <a:tabLst>
                <a:tab algn="l" pos="0"/>
                <a:tab algn="l" pos="355680"/>
                <a:tab algn="l" pos="803160"/>
                <a:tab algn="l" pos="1252440"/>
                <a:tab algn="l" pos="1701720"/>
                <a:tab algn="l" pos="2151000"/>
                <a:tab algn="l" pos="2600280"/>
                <a:tab algn="l" pos="3049560"/>
                <a:tab algn="l" pos="3498840"/>
                <a:tab algn="l" pos="3948120"/>
                <a:tab algn="l" pos="4397400"/>
                <a:tab algn="l" pos="4846680"/>
                <a:tab algn="l" pos="5295960"/>
                <a:tab algn="l" pos="5745240"/>
                <a:tab algn="l" pos="6194520"/>
                <a:tab algn="l" pos="6643800"/>
                <a:tab algn="l" pos="7093080"/>
                <a:tab algn="l" pos="7542360"/>
                <a:tab algn="l" pos="7991640"/>
                <a:tab algn="l" pos="8440560"/>
                <a:tab algn="l" pos="8889840"/>
                <a:tab algn="l" pos="9339120"/>
                <a:tab algn="l" pos="9434520"/>
                <a:tab algn="l" pos="9883800"/>
                <a:tab algn="l" pos="10333080"/>
                <a:tab algn="l" pos="10782360"/>
              </a:tabLst>
            </a:pPr>
            <a:r>
              <a:rPr b="1" lang="en-AU" sz="4400" spc="-1" strike="noStrike">
                <a:solidFill>
                  <a:srgbClr val="ffffff"/>
                </a:solidFill>
                <a:latin typeface="Calibri"/>
                <a:ea typeface="Lucida Sans Unicode"/>
              </a:rPr>
              <a:t>so despised by the world</a:t>
            </a:r>
            <a:endParaRPr b="0" lang="en-US" sz="4400" spc="-1" strike="noStrike">
              <a:solidFill>
                <a:srgbClr val="ffffff"/>
              </a:solidFill>
              <a:latin typeface="Arial"/>
            </a:endParaRPr>
          </a:p>
          <a:p>
            <a:pPr marL="355680" indent="-351000" algn="ctr">
              <a:lnSpc>
                <a:spcPct val="100000"/>
              </a:lnSpc>
              <a:spcBef>
                <a:spcPts val="499"/>
              </a:spcBef>
              <a:tabLst>
                <a:tab algn="l" pos="0"/>
                <a:tab algn="l" pos="355680"/>
                <a:tab algn="l" pos="803160"/>
                <a:tab algn="l" pos="1252440"/>
                <a:tab algn="l" pos="1701720"/>
                <a:tab algn="l" pos="2151000"/>
                <a:tab algn="l" pos="2600280"/>
                <a:tab algn="l" pos="3049560"/>
                <a:tab algn="l" pos="3498840"/>
                <a:tab algn="l" pos="3948120"/>
                <a:tab algn="l" pos="4397400"/>
                <a:tab algn="l" pos="4846680"/>
                <a:tab algn="l" pos="5295960"/>
                <a:tab algn="l" pos="5745240"/>
                <a:tab algn="l" pos="6194520"/>
                <a:tab algn="l" pos="6643800"/>
                <a:tab algn="l" pos="7093080"/>
                <a:tab algn="l" pos="7542360"/>
                <a:tab algn="l" pos="7991640"/>
                <a:tab algn="l" pos="8440560"/>
                <a:tab algn="l" pos="8889840"/>
                <a:tab algn="l" pos="9339120"/>
                <a:tab algn="l" pos="9434520"/>
                <a:tab algn="l" pos="9883800"/>
                <a:tab algn="l" pos="10333080"/>
                <a:tab algn="l" pos="10782360"/>
              </a:tabLst>
            </a:pPr>
            <a:r>
              <a:rPr b="1" lang="en-AU" sz="4400" spc="-1" strike="noStrike">
                <a:solidFill>
                  <a:srgbClr val="ffffff"/>
                </a:solidFill>
                <a:latin typeface="Calibri"/>
                <a:ea typeface="Lucida Sans Unicode"/>
              </a:rPr>
              <a:t>Has a wondrous attraction for me</a:t>
            </a:r>
            <a:endParaRPr b="0" lang="en-US" sz="4400" spc="-1" strike="noStrike">
              <a:solidFill>
                <a:srgbClr val="ffffff"/>
              </a:solidFill>
              <a:latin typeface="Arial"/>
            </a:endParaRPr>
          </a:p>
          <a:p>
            <a:pPr marL="355680" indent="-351000" algn="ctr">
              <a:lnSpc>
                <a:spcPct val="100000"/>
              </a:lnSpc>
              <a:spcBef>
                <a:spcPts val="499"/>
              </a:spcBef>
              <a:tabLst>
                <a:tab algn="l" pos="0"/>
                <a:tab algn="l" pos="355680"/>
                <a:tab algn="l" pos="803160"/>
                <a:tab algn="l" pos="1252440"/>
                <a:tab algn="l" pos="1701720"/>
                <a:tab algn="l" pos="2151000"/>
                <a:tab algn="l" pos="2600280"/>
                <a:tab algn="l" pos="3049560"/>
                <a:tab algn="l" pos="3498840"/>
                <a:tab algn="l" pos="3948120"/>
                <a:tab algn="l" pos="4397400"/>
                <a:tab algn="l" pos="4846680"/>
                <a:tab algn="l" pos="5295960"/>
                <a:tab algn="l" pos="5745240"/>
                <a:tab algn="l" pos="6194520"/>
                <a:tab algn="l" pos="6643800"/>
                <a:tab algn="l" pos="7093080"/>
                <a:tab algn="l" pos="7542360"/>
                <a:tab algn="l" pos="7991640"/>
                <a:tab algn="l" pos="8440560"/>
                <a:tab algn="l" pos="8889840"/>
                <a:tab algn="l" pos="9339120"/>
                <a:tab algn="l" pos="9434520"/>
                <a:tab algn="l" pos="9883800"/>
                <a:tab algn="l" pos="10333080"/>
                <a:tab algn="l" pos="10782360"/>
              </a:tabLst>
            </a:pPr>
            <a:r>
              <a:rPr b="1" lang="en-AU" sz="4400" spc="-1" strike="noStrike">
                <a:solidFill>
                  <a:srgbClr val="ffffff"/>
                </a:solidFill>
                <a:latin typeface="Calibri"/>
                <a:ea typeface="Lucida Sans Unicode"/>
              </a:rPr>
              <a:t>For the dear Lamb of God </a:t>
            </a:r>
            <a:endParaRPr b="0" lang="en-US" sz="4400" spc="-1" strike="noStrike">
              <a:solidFill>
                <a:srgbClr val="ffffff"/>
              </a:solidFill>
              <a:latin typeface="Arial"/>
            </a:endParaRPr>
          </a:p>
          <a:p>
            <a:pPr marL="355680" indent="-351000" algn="ctr">
              <a:lnSpc>
                <a:spcPct val="100000"/>
              </a:lnSpc>
              <a:spcBef>
                <a:spcPts val="499"/>
              </a:spcBef>
              <a:tabLst>
                <a:tab algn="l" pos="0"/>
                <a:tab algn="l" pos="355680"/>
                <a:tab algn="l" pos="803160"/>
                <a:tab algn="l" pos="1252440"/>
                <a:tab algn="l" pos="1701720"/>
                <a:tab algn="l" pos="2151000"/>
                <a:tab algn="l" pos="2600280"/>
                <a:tab algn="l" pos="3049560"/>
                <a:tab algn="l" pos="3498840"/>
                <a:tab algn="l" pos="3948120"/>
                <a:tab algn="l" pos="4397400"/>
                <a:tab algn="l" pos="4846680"/>
                <a:tab algn="l" pos="5295960"/>
                <a:tab algn="l" pos="5745240"/>
                <a:tab algn="l" pos="6194520"/>
                <a:tab algn="l" pos="6643800"/>
                <a:tab algn="l" pos="7093080"/>
                <a:tab algn="l" pos="7542360"/>
                <a:tab algn="l" pos="7991640"/>
                <a:tab algn="l" pos="8440560"/>
                <a:tab algn="l" pos="8889840"/>
                <a:tab algn="l" pos="9339120"/>
                <a:tab algn="l" pos="9434520"/>
                <a:tab algn="l" pos="9883800"/>
                <a:tab algn="l" pos="10333080"/>
                <a:tab algn="l" pos="10782360"/>
              </a:tabLst>
            </a:pPr>
            <a:r>
              <a:rPr b="1" lang="en-AU" sz="4400" spc="-1" strike="noStrike">
                <a:solidFill>
                  <a:srgbClr val="ffffff"/>
                </a:solidFill>
                <a:latin typeface="Calibri"/>
                <a:ea typeface="Lucida Sans Unicode"/>
              </a:rPr>
              <a:t>left his glory above</a:t>
            </a:r>
            <a:endParaRPr b="0" lang="en-US" sz="4400" spc="-1" strike="noStrike">
              <a:solidFill>
                <a:srgbClr val="ffffff"/>
              </a:solidFill>
              <a:latin typeface="Arial"/>
            </a:endParaRPr>
          </a:p>
          <a:p>
            <a:pPr marL="355680" indent="-351000" algn="ctr">
              <a:lnSpc>
                <a:spcPct val="100000"/>
              </a:lnSpc>
              <a:spcBef>
                <a:spcPts val="499"/>
              </a:spcBef>
              <a:tabLst>
                <a:tab algn="l" pos="0"/>
                <a:tab algn="l" pos="355680"/>
                <a:tab algn="l" pos="803160"/>
                <a:tab algn="l" pos="1252440"/>
                <a:tab algn="l" pos="1701720"/>
                <a:tab algn="l" pos="2151000"/>
                <a:tab algn="l" pos="2600280"/>
                <a:tab algn="l" pos="3049560"/>
                <a:tab algn="l" pos="3498840"/>
                <a:tab algn="l" pos="3948120"/>
                <a:tab algn="l" pos="4397400"/>
                <a:tab algn="l" pos="4846680"/>
                <a:tab algn="l" pos="5295960"/>
                <a:tab algn="l" pos="5745240"/>
                <a:tab algn="l" pos="6194520"/>
                <a:tab algn="l" pos="6643800"/>
                <a:tab algn="l" pos="7093080"/>
                <a:tab algn="l" pos="7542360"/>
                <a:tab algn="l" pos="7991640"/>
                <a:tab algn="l" pos="8440560"/>
                <a:tab algn="l" pos="8889840"/>
                <a:tab algn="l" pos="9339120"/>
                <a:tab algn="l" pos="9434520"/>
                <a:tab algn="l" pos="9883800"/>
                <a:tab algn="l" pos="10333080"/>
                <a:tab algn="l" pos="10782360"/>
              </a:tabLst>
            </a:pPr>
            <a:r>
              <a:rPr b="1" lang="en-AU" sz="4400" spc="-1" strike="noStrike">
                <a:solidFill>
                  <a:srgbClr val="ffffff"/>
                </a:solidFill>
                <a:latin typeface="Calibri"/>
                <a:ea typeface="Lucida Sans Unicode"/>
              </a:rPr>
              <a:t>To bear it to dark Calvary</a:t>
            </a:r>
            <a:endParaRPr b="0" lang="en-US" sz="4400" spc="-1" strike="noStrike">
              <a:solidFill>
                <a:srgbClr val="ffffff"/>
              </a:solidFill>
              <a:latin typeface="Arial"/>
            </a:endParaRPr>
          </a:p>
          <a:p>
            <a:pPr marL="355680" indent="-351000" algn="ctr">
              <a:lnSpc>
                <a:spcPct val="100000"/>
              </a:lnSpc>
              <a:spcBef>
                <a:spcPts val="499"/>
              </a:spcBef>
              <a:tabLst>
                <a:tab algn="l" pos="0"/>
                <a:tab algn="l" pos="355680"/>
                <a:tab algn="l" pos="803160"/>
                <a:tab algn="l" pos="1252440"/>
                <a:tab algn="l" pos="1701720"/>
                <a:tab algn="l" pos="2151000"/>
                <a:tab algn="l" pos="2600280"/>
                <a:tab algn="l" pos="3049560"/>
                <a:tab algn="l" pos="3498840"/>
                <a:tab algn="l" pos="3948120"/>
                <a:tab algn="l" pos="4397400"/>
                <a:tab algn="l" pos="4846680"/>
                <a:tab algn="l" pos="5295960"/>
                <a:tab algn="l" pos="5745240"/>
                <a:tab algn="l" pos="6194520"/>
                <a:tab algn="l" pos="6643800"/>
                <a:tab algn="l" pos="7093080"/>
                <a:tab algn="l" pos="7542360"/>
                <a:tab algn="l" pos="7991640"/>
                <a:tab algn="l" pos="8440560"/>
                <a:tab algn="l" pos="8889840"/>
                <a:tab algn="l" pos="9339120"/>
                <a:tab algn="l" pos="9434520"/>
                <a:tab algn="l" pos="9883800"/>
                <a:tab algn="l" pos="10333080"/>
                <a:tab algn="l" pos="10782360"/>
              </a:tabLst>
            </a:pPr>
            <a:r>
              <a:rPr b="1" lang="en-AU" sz="4400" spc="-1" strike="noStrike">
                <a:solidFill>
                  <a:srgbClr val="ffffff"/>
                </a:solidFill>
                <a:latin typeface="Calibri"/>
                <a:ea typeface="Lucida Sans Unicode"/>
              </a:rPr>
              <a:t>     </a:t>
            </a:r>
            <a:endParaRPr b="0" lang="en-US" sz="44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3" name=""/>
          <p:cNvSpPr/>
          <p:nvPr/>
        </p:nvSpPr>
        <p:spPr>
          <a:xfrm>
            <a:off x="928800" y="1714680"/>
            <a:ext cx="7215120" cy="3750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AU" sz="4000" spc="-1" strike="noStrike">
                <a:solidFill>
                  <a:srgbClr val="ffffff"/>
                </a:solidFill>
                <a:latin typeface="Calibri"/>
              </a:rPr>
              <a:t>“</a:t>
            </a:r>
            <a:r>
              <a:rPr b="0" lang="en-AU" sz="4000" spc="-1" strike="noStrike">
                <a:solidFill>
                  <a:srgbClr val="ffffff"/>
                </a:solidFill>
                <a:latin typeface="Calibri"/>
              </a:rPr>
              <a:t>What is that to us?” they replied. “That’s your responsibility.” </a:t>
            </a:r>
            <a:br>
              <a:rPr sz="4000"/>
            </a:br>
            <a:r>
              <a:rPr b="0" lang="en-AU" sz="4000" spc="-1" strike="noStrike">
                <a:solidFill>
                  <a:srgbClr val="ffffff"/>
                </a:solidFill>
                <a:latin typeface="Calibri"/>
              </a:rPr>
              <a:t> So Judas threw the money into the temple and left. Then he went away and hanged himself. </a:t>
            </a:r>
            <a:endParaRPr b="0" lang="en-US" sz="4000" spc="-1" strike="noStrike">
              <a:solidFill>
                <a:srgbClr val="ffffff"/>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3" name=""/>
          <p:cNvSpPr/>
          <p:nvPr/>
        </p:nvSpPr>
        <p:spPr>
          <a:xfrm>
            <a:off x="457200" y="907920"/>
            <a:ext cx="8229600" cy="5164200"/>
          </a:xfrm>
          <a:prstGeom prst="rect">
            <a:avLst/>
          </a:prstGeom>
          <a:noFill/>
          <a:ln w="0">
            <a:noFill/>
          </a:ln>
        </p:spPr>
        <p:style>
          <a:lnRef idx="0"/>
          <a:fillRef idx="0"/>
          <a:effectRef idx="0"/>
          <a:fontRef idx="minor"/>
        </p:style>
        <p:txBody>
          <a:bodyPr anchor="t">
            <a:noAutofit/>
          </a:bodyPr>
          <a:p>
            <a:pPr marL="355680" indent="-351000" algn="ctr">
              <a:lnSpc>
                <a:spcPct val="100000"/>
              </a:lnSpc>
              <a:spcBef>
                <a:spcPts val="499"/>
              </a:spcBef>
              <a:tabLst>
                <a:tab algn="l" pos="0"/>
                <a:tab algn="l" pos="355680"/>
                <a:tab algn="l" pos="803160"/>
                <a:tab algn="l" pos="1252440"/>
                <a:tab algn="l" pos="1701720"/>
                <a:tab algn="l" pos="2151000"/>
                <a:tab algn="l" pos="2600280"/>
                <a:tab algn="l" pos="3049560"/>
                <a:tab algn="l" pos="3498840"/>
                <a:tab algn="l" pos="3948120"/>
                <a:tab algn="l" pos="4397400"/>
                <a:tab algn="l" pos="4846680"/>
                <a:tab algn="l" pos="5295960"/>
                <a:tab algn="l" pos="5745240"/>
                <a:tab algn="l" pos="6194520"/>
                <a:tab algn="l" pos="6643800"/>
                <a:tab algn="l" pos="7093080"/>
                <a:tab algn="l" pos="7542360"/>
                <a:tab algn="l" pos="7991640"/>
                <a:tab algn="l" pos="8440560"/>
                <a:tab algn="l" pos="8889840"/>
                <a:tab algn="l" pos="9339120"/>
                <a:tab algn="l" pos="9434520"/>
                <a:tab algn="l" pos="9883800"/>
                <a:tab algn="l" pos="10333080"/>
                <a:tab algn="l" pos="10782360"/>
              </a:tabLst>
            </a:pPr>
            <a:endParaRPr b="0" lang="en-US" sz="4400" spc="-1" strike="noStrike">
              <a:solidFill>
                <a:srgbClr val="ffffff"/>
              </a:solidFill>
              <a:latin typeface="Arial"/>
            </a:endParaRPr>
          </a:p>
          <a:p>
            <a:pPr marL="355680" indent="-351000" algn="ctr">
              <a:lnSpc>
                <a:spcPct val="100000"/>
              </a:lnSpc>
              <a:spcBef>
                <a:spcPts val="499"/>
              </a:spcBef>
              <a:tabLst>
                <a:tab algn="l" pos="0"/>
                <a:tab algn="l" pos="355680"/>
                <a:tab algn="l" pos="803160"/>
                <a:tab algn="l" pos="1252440"/>
                <a:tab algn="l" pos="1701720"/>
                <a:tab algn="l" pos="2151000"/>
                <a:tab algn="l" pos="2600280"/>
                <a:tab algn="l" pos="3049560"/>
                <a:tab algn="l" pos="3498840"/>
                <a:tab algn="l" pos="3948120"/>
                <a:tab algn="l" pos="4397400"/>
                <a:tab algn="l" pos="4846680"/>
                <a:tab algn="l" pos="5295960"/>
                <a:tab algn="l" pos="5745240"/>
                <a:tab algn="l" pos="6194520"/>
                <a:tab algn="l" pos="6643800"/>
                <a:tab algn="l" pos="7093080"/>
                <a:tab algn="l" pos="7542360"/>
                <a:tab algn="l" pos="7991640"/>
                <a:tab algn="l" pos="8440560"/>
                <a:tab algn="l" pos="8889840"/>
                <a:tab algn="l" pos="9339120"/>
                <a:tab algn="l" pos="9434520"/>
                <a:tab algn="l" pos="9883800"/>
                <a:tab algn="l" pos="10333080"/>
                <a:tab algn="l" pos="10782360"/>
              </a:tabLst>
            </a:pPr>
            <a:r>
              <a:rPr b="1" lang="en-AU" sz="4400" spc="-1" strike="noStrike">
                <a:solidFill>
                  <a:srgbClr val="ffffff"/>
                </a:solidFill>
                <a:latin typeface="Calibri"/>
                <a:ea typeface="Lucida Sans Unicode"/>
              </a:rPr>
              <a:t>So I'll cherish the old rugged cross.</a:t>
            </a:r>
            <a:endParaRPr b="0" lang="en-US" sz="4400" spc="-1" strike="noStrike">
              <a:solidFill>
                <a:srgbClr val="ffffff"/>
              </a:solidFill>
              <a:latin typeface="Arial"/>
            </a:endParaRPr>
          </a:p>
          <a:p>
            <a:pPr marL="355680" indent="-351000" algn="ctr">
              <a:lnSpc>
                <a:spcPct val="100000"/>
              </a:lnSpc>
              <a:spcBef>
                <a:spcPts val="499"/>
              </a:spcBef>
              <a:tabLst>
                <a:tab algn="l" pos="0"/>
                <a:tab algn="l" pos="355680"/>
                <a:tab algn="l" pos="803160"/>
                <a:tab algn="l" pos="1252440"/>
                <a:tab algn="l" pos="1701720"/>
                <a:tab algn="l" pos="2151000"/>
                <a:tab algn="l" pos="2600280"/>
                <a:tab algn="l" pos="3049560"/>
                <a:tab algn="l" pos="3498840"/>
                <a:tab algn="l" pos="3948120"/>
                <a:tab algn="l" pos="4397400"/>
                <a:tab algn="l" pos="4846680"/>
                <a:tab algn="l" pos="5295960"/>
                <a:tab algn="l" pos="5745240"/>
                <a:tab algn="l" pos="6194520"/>
                <a:tab algn="l" pos="6643800"/>
                <a:tab algn="l" pos="7093080"/>
                <a:tab algn="l" pos="7542360"/>
                <a:tab algn="l" pos="7991640"/>
                <a:tab algn="l" pos="8440560"/>
                <a:tab algn="l" pos="8889840"/>
                <a:tab algn="l" pos="9339120"/>
                <a:tab algn="l" pos="9434520"/>
                <a:tab algn="l" pos="9883800"/>
                <a:tab algn="l" pos="10333080"/>
                <a:tab algn="l" pos="10782360"/>
              </a:tabLst>
            </a:pPr>
            <a:r>
              <a:rPr b="1" lang="en-AU" sz="4400" spc="-1" strike="noStrike">
                <a:solidFill>
                  <a:srgbClr val="ffffff"/>
                </a:solidFill>
                <a:latin typeface="Calibri"/>
                <a:ea typeface="Lucida Sans Unicode"/>
              </a:rPr>
              <a:t>Till my trophies at last I lay down;</a:t>
            </a:r>
            <a:endParaRPr b="0" lang="en-US" sz="4400" spc="-1" strike="noStrike">
              <a:solidFill>
                <a:srgbClr val="ffffff"/>
              </a:solidFill>
              <a:latin typeface="Arial"/>
            </a:endParaRPr>
          </a:p>
          <a:p>
            <a:pPr marL="355680" indent="-351000" algn="ctr">
              <a:lnSpc>
                <a:spcPct val="100000"/>
              </a:lnSpc>
              <a:spcBef>
                <a:spcPts val="499"/>
              </a:spcBef>
              <a:tabLst>
                <a:tab algn="l" pos="0"/>
                <a:tab algn="l" pos="355680"/>
                <a:tab algn="l" pos="803160"/>
                <a:tab algn="l" pos="1252440"/>
                <a:tab algn="l" pos="1701720"/>
                <a:tab algn="l" pos="2151000"/>
                <a:tab algn="l" pos="2600280"/>
                <a:tab algn="l" pos="3049560"/>
                <a:tab algn="l" pos="3498840"/>
                <a:tab algn="l" pos="3948120"/>
                <a:tab algn="l" pos="4397400"/>
                <a:tab algn="l" pos="4846680"/>
                <a:tab algn="l" pos="5295960"/>
                <a:tab algn="l" pos="5745240"/>
                <a:tab algn="l" pos="6194520"/>
                <a:tab algn="l" pos="6643800"/>
                <a:tab algn="l" pos="7093080"/>
                <a:tab algn="l" pos="7542360"/>
                <a:tab algn="l" pos="7991640"/>
                <a:tab algn="l" pos="8440560"/>
                <a:tab algn="l" pos="8889840"/>
                <a:tab algn="l" pos="9339120"/>
                <a:tab algn="l" pos="9434520"/>
                <a:tab algn="l" pos="9883800"/>
                <a:tab algn="l" pos="10333080"/>
                <a:tab algn="l" pos="10782360"/>
              </a:tabLst>
            </a:pPr>
            <a:r>
              <a:rPr b="1" lang="en-AU" sz="4400" spc="-1" strike="noStrike">
                <a:solidFill>
                  <a:srgbClr val="ffffff"/>
                </a:solidFill>
                <a:latin typeface="Calibri"/>
                <a:ea typeface="Lucida Sans Unicode"/>
              </a:rPr>
              <a:t>I will cling to the old rugged cross,</a:t>
            </a:r>
            <a:endParaRPr b="0" lang="en-US" sz="4400" spc="-1" strike="noStrike">
              <a:solidFill>
                <a:srgbClr val="ffffff"/>
              </a:solidFill>
              <a:latin typeface="Arial"/>
            </a:endParaRPr>
          </a:p>
          <a:p>
            <a:pPr marL="355680" indent="-351000" algn="ctr">
              <a:lnSpc>
                <a:spcPct val="100000"/>
              </a:lnSpc>
              <a:spcBef>
                <a:spcPts val="499"/>
              </a:spcBef>
              <a:tabLst>
                <a:tab algn="l" pos="0"/>
                <a:tab algn="l" pos="355680"/>
                <a:tab algn="l" pos="803160"/>
                <a:tab algn="l" pos="1252440"/>
                <a:tab algn="l" pos="1701720"/>
                <a:tab algn="l" pos="2151000"/>
                <a:tab algn="l" pos="2600280"/>
                <a:tab algn="l" pos="3049560"/>
                <a:tab algn="l" pos="3498840"/>
                <a:tab algn="l" pos="3948120"/>
                <a:tab algn="l" pos="4397400"/>
                <a:tab algn="l" pos="4846680"/>
                <a:tab algn="l" pos="5295960"/>
                <a:tab algn="l" pos="5745240"/>
                <a:tab algn="l" pos="6194520"/>
                <a:tab algn="l" pos="6643800"/>
                <a:tab algn="l" pos="7093080"/>
                <a:tab algn="l" pos="7542360"/>
                <a:tab algn="l" pos="7991640"/>
                <a:tab algn="l" pos="8440560"/>
                <a:tab algn="l" pos="8889840"/>
                <a:tab algn="l" pos="9339120"/>
                <a:tab algn="l" pos="9434520"/>
                <a:tab algn="l" pos="9883800"/>
                <a:tab algn="l" pos="10333080"/>
                <a:tab algn="l" pos="10782360"/>
              </a:tabLst>
            </a:pPr>
            <a:r>
              <a:rPr b="1" lang="en-AU" sz="4400" spc="-1" strike="noStrike">
                <a:solidFill>
                  <a:srgbClr val="ffffff"/>
                </a:solidFill>
                <a:latin typeface="Calibri"/>
                <a:ea typeface="Lucida Sans Unicode"/>
              </a:rPr>
              <a:t>And exchange it some day </a:t>
            </a:r>
            <a:endParaRPr b="0" lang="en-US" sz="4400" spc="-1" strike="noStrike">
              <a:solidFill>
                <a:srgbClr val="ffffff"/>
              </a:solidFill>
              <a:latin typeface="Arial"/>
            </a:endParaRPr>
          </a:p>
          <a:p>
            <a:pPr marL="355680" indent="-351000" algn="ctr">
              <a:lnSpc>
                <a:spcPct val="100000"/>
              </a:lnSpc>
              <a:spcBef>
                <a:spcPts val="499"/>
              </a:spcBef>
              <a:tabLst>
                <a:tab algn="l" pos="0"/>
                <a:tab algn="l" pos="355680"/>
                <a:tab algn="l" pos="803160"/>
                <a:tab algn="l" pos="1252440"/>
                <a:tab algn="l" pos="1701720"/>
                <a:tab algn="l" pos="2151000"/>
                <a:tab algn="l" pos="2600280"/>
                <a:tab algn="l" pos="3049560"/>
                <a:tab algn="l" pos="3498840"/>
                <a:tab algn="l" pos="3948120"/>
                <a:tab algn="l" pos="4397400"/>
                <a:tab algn="l" pos="4846680"/>
                <a:tab algn="l" pos="5295960"/>
                <a:tab algn="l" pos="5745240"/>
                <a:tab algn="l" pos="6194520"/>
                <a:tab algn="l" pos="6643800"/>
                <a:tab algn="l" pos="7093080"/>
                <a:tab algn="l" pos="7542360"/>
                <a:tab algn="l" pos="7991640"/>
                <a:tab algn="l" pos="8440560"/>
                <a:tab algn="l" pos="8889840"/>
                <a:tab algn="l" pos="9339120"/>
                <a:tab algn="l" pos="9434520"/>
                <a:tab algn="l" pos="9883800"/>
                <a:tab algn="l" pos="10333080"/>
                <a:tab algn="l" pos="10782360"/>
              </a:tabLst>
            </a:pPr>
            <a:r>
              <a:rPr b="1" lang="en-AU" sz="4400" spc="-1" strike="noStrike">
                <a:solidFill>
                  <a:srgbClr val="ffffff"/>
                </a:solidFill>
                <a:latin typeface="Calibri"/>
                <a:ea typeface="Lucida Sans Unicode"/>
              </a:rPr>
              <a:t>for a crown.</a:t>
            </a:r>
            <a:endParaRPr b="0" lang="en-US" sz="4400" spc="-1" strike="noStrike">
              <a:solidFill>
                <a:srgbClr val="ffffff"/>
              </a:solidFill>
              <a:latin typeface="Arial"/>
            </a:endParaRPr>
          </a:p>
          <a:p>
            <a:pPr marL="355680" indent="-351000" algn="ctr">
              <a:lnSpc>
                <a:spcPct val="100000"/>
              </a:lnSpc>
              <a:spcBef>
                <a:spcPts val="499"/>
              </a:spcBef>
              <a:tabLst>
                <a:tab algn="l" pos="0"/>
                <a:tab algn="l" pos="355680"/>
                <a:tab algn="l" pos="803160"/>
                <a:tab algn="l" pos="1252440"/>
                <a:tab algn="l" pos="1701720"/>
                <a:tab algn="l" pos="2151000"/>
                <a:tab algn="l" pos="2600280"/>
                <a:tab algn="l" pos="3049560"/>
                <a:tab algn="l" pos="3498840"/>
                <a:tab algn="l" pos="3948120"/>
                <a:tab algn="l" pos="4397400"/>
                <a:tab algn="l" pos="4846680"/>
                <a:tab algn="l" pos="5295960"/>
                <a:tab algn="l" pos="5745240"/>
                <a:tab algn="l" pos="6194520"/>
                <a:tab algn="l" pos="6643800"/>
                <a:tab algn="l" pos="7093080"/>
                <a:tab algn="l" pos="7542360"/>
                <a:tab algn="l" pos="7991640"/>
                <a:tab algn="l" pos="8440560"/>
                <a:tab algn="l" pos="8889840"/>
                <a:tab algn="l" pos="9339120"/>
                <a:tab algn="l" pos="9434520"/>
                <a:tab algn="l" pos="9883800"/>
                <a:tab algn="l" pos="10333080"/>
                <a:tab algn="l" pos="10782360"/>
              </a:tabLst>
            </a:pPr>
            <a:endParaRPr b="0" lang="en-US" sz="4400" spc="-1" strike="noStrike">
              <a:solidFill>
                <a:srgbClr val="ffffff"/>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4" name=""/>
          <p:cNvSpPr/>
          <p:nvPr/>
        </p:nvSpPr>
        <p:spPr>
          <a:xfrm>
            <a:off x="457200" y="979560"/>
            <a:ext cx="8229600" cy="4779720"/>
          </a:xfrm>
          <a:prstGeom prst="rect">
            <a:avLst/>
          </a:prstGeom>
          <a:noFill/>
          <a:ln w="0">
            <a:noFill/>
          </a:ln>
        </p:spPr>
        <p:style>
          <a:lnRef idx="0"/>
          <a:fillRef idx="0"/>
          <a:effectRef idx="0"/>
          <a:fontRef idx="minor"/>
        </p:style>
        <p:txBody>
          <a:bodyPr anchor="t">
            <a:noAutofit/>
          </a:bodyPr>
          <a:p>
            <a:pPr marL="355680" indent="-351000" algn="ctr">
              <a:lnSpc>
                <a:spcPct val="100000"/>
              </a:lnSpc>
              <a:spcBef>
                <a:spcPts val="499"/>
              </a:spcBef>
              <a:tabLst>
                <a:tab algn="l" pos="0"/>
                <a:tab algn="l" pos="355680"/>
                <a:tab algn="l" pos="803160"/>
                <a:tab algn="l" pos="1252440"/>
                <a:tab algn="l" pos="1701720"/>
                <a:tab algn="l" pos="2151000"/>
                <a:tab algn="l" pos="2600280"/>
                <a:tab algn="l" pos="3049560"/>
                <a:tab algn="l" pos="3498840"/>
                <a:tab algn="l" pos="3948120"/>
                <a:tab algn="l" pos="4397400"/>
                <a:tab algn="l" pos="4846680"/>
                <a:tab algn="l" pos="5295960"/>
                <a:tab algn="l" pos="5745240"/>
                <a:tab algn="l" pos="6194520"/>
                <a:tab algn="l" pos="6643800"/>
                <a:tab algn="l" pos="7093080"/>
                <a:tab algn="l" pos="7542360"/>
                <a:tab algn="l" pos="7991640"/>
                <a:tab algn="l" pos="8440560"/>
                <a:tab algn="l" pos="8889840"/>
                <a:tab algn="l" pos="9339120"/>
                <a:tab algn="l" pos="9434520"/>
                <a:tab algn="l" pos="9883800"/>
                <a:tab algn="l" pos="10333080"/>
                <a:tab algn="l" pos="10782360"/>
              </a:tabLst>
            </a:pPr>
            <a:r>
              <a:rPr b="1" lang="en-AU" sz="4400" spc="-1" strike="noStrike">
                <a:solidFill>
                  <a:srgbClr val="ffffff"/>
                </a:solidFill>
                <a:latin typeface="Calibri"/>
                <a:ea typeface="Lucida Sans Unicode"/>
              </a:rPr>
              <a:t>In the old rugged cross, stained with blood so divine</a:t>
            </a:r>
            <a:endParaRPr b="0" lang="en-US" sz="4400" spc="-1" strike="noStrike">
              <a:solidFill>
                <a:srgbClr val="ffffff"/>
              </a:solidFill>
              <a:latin typeface="Arial"/>
            </a:endParaRPr>
          </a:p>
          <a:p>
            <a:pPr marL="355680" indent="-351000" algn="ctr">
              <a:lnSpc>
                <a:spcPct val="100000"/>
              </a:lnSpc>
              <a:spcBef>
                <a:spcPts val="499"/>
              </a:spcBef>
              <a:tabLst>
                <a:tab algn="l" pos="0"/>
                <a:tab algn="l" pos="355680"/>
                <a:tab algn="l" pos="803160"/>
                <a:tab algn="l" pos="1252440"/>
                <a:tab algn="l" pos="1701720"/>
                <a:tab algn="l" pos="2151000"/>
                <a:tab algn="l" pos="2600280"/>
                <a:tab algn="l" pos="3049560"/>
                <a:tab algn="l" pos="3498840"/>
                <a:tab algn="l" pos="3948120"/>
                <a:tab algn="l" pos="4397400"/>
                <a:tab algn="l" pos="4846680"/>
                <a:tab algn="l" pos="5295960"/>
                <a:tab algn="l" pos="5745240"/>
                <a:tab algn="l" pos="6194520"/>
                <a:tab algn="l" pos="6643800"/>
                <a:tab algn="l" pos="7093080"/>
                <a:tab algn="l" pos="7542360"/>
                <a:tab algn="l" pos="7991640"/>
                <a:tab algn="l" pos="8440560"/>
                <a:tab algn="l" pos="8889840"/>
                <a:tab algn="l" pos="9339120"/>
                <a:tab algn="l" pos="9434520"/>
                <a:tab algn="l" pos="9883800"/>
                <a:tab algn="l" pos="10333080"/>
                <a:tab algn="l" pos="10782360"/>
              </a:tabLst>
            </a:pPr>
            <a:r>
              <a:rPr b="1" lang="en-AU" sz="4400" spc="-1" strike="noStrike">
                <a:solidFill>
                  <a:srgbClr val="ffffff"/>
                </a:solidFill>
                <a:latin typeface="Calibri"/>
                <a:ea typeface="Lucida Sans Unicode"/>
              </a:rPr>
              <a:t>A wondrous beauty I see</a:t>
            </a:r>
            <a:endParaRPr b="0" lang="en-US" sz="4400" spc="-1" strike="noStrike">
              <a:solidFill>
                <a:srgbClr val="ffffff"/>
              </a:solidFill>
              <a:latin typeface="Arial"/>
            </a:endParaRPr>
          </a:p>
          <a:p>
            <a:pPr marL="355680" indent="-351000" algn="ctr">
              <a:lnSpc>
                <a:spcPct val="100000"/>
              </a:lnSpc>
              <a:spcBef>
                <a:spcPts val="499"/>
              </a:spcBef>
              <a:tabLst>
                <a:tab algn="l" pos="0"/>
                <a:tab algn="l" pos="355680"/>
                <a:tab algn="l" pos="803160"/>
                <a:tab algn="l" pos="1252440"/>
                <a:tab algn="l" pos="1701720"/>
                <a:tab algn="l" pos="2151000"/>
                <a:tab algn="l" pos="2600280"/>
                <a:tab algn="l" pos="3049560"/>
                <a:tab algn="l" pos="3498840"/>
                <a:tab algn="l" pos="3948120"/>
                <a:tab algn="l" pos="4397400"/>
                <a:tab algn="l" pos="4846680"/>
                <a:tab algn="l" pos="5295960"/>
                <a:tab algn="l" pos="5745240"/>
                <a:tab algn="l" pos="6194520"/>
                <a:tab algn="l" pos="6643800"/>
                <a:tab algn="l" pos="7093080"/>
                <a:tab algn="l" pos="7542360"/>
                <a:tab algn="l" pos="7991640"/>
                <a:tab algn="l" pos="8440560"/>
                <a:tab algn="l" pos="8889840"/>
                <a:tab algn="l" pos="9339120"/>
                <a:tab algn="l" pos="9434520"/>
                <a:tab algn="l" pos="9883800"/>
                <a:tab algn="l" pos="10333080"/>
                <a:tab algn="l" pos="10782360"/>
              </a:tabLst>
            </a:pPr>
            <a:r>
              <a:rPr b="1" lang="en-AU" sz="4400" spc="-1" strike="noStrike">
                <a:solidFill>
                  <a:srgbClr val="ffffff"/>
                </a:solidFill>
                <a:latin typeface="Calibri"/>
                <a:ea typeface="Lucida Sans Unicode"/>
              </a:rPr>
              <a:t>For ‘twas on that old cross Jesus suffered and died</a:t>
            </a:r>
            <a:endParaRPr b="0" lang="en-US" sz="4400" spc="-1" strike="noStrike">
              <a:solidFill>
                <a:srgbClr val="ffffff"/>
              </a:solidFill>
              <a:latin typeface="Arial"/>
            </a:endParaRPr>
          </a:p>
          <a:p>
            <a:pPr marL="355680" indent="-351000" algn="ctr">
              <a:lnSpc>
                <a:spcPct val="100000"/>
              </a:lnSpc>
              <a:spcBef>
                <a:spcPts val="499"/>
              </a:spcBef>
              <a:tabLst>
                <a:tab algn="l" pos="0"/>
                <a:tab algn="l" pos="355680"/>
                <a:tab algn="l" pos="803160"/>
                <a:tab algn="l" pos="1252440"/>
                <a:tab algn="l" pos="1701720"/>
                <a:tab algn="l" pos="2151000"/>
                <a:tab algn="l" pos="2600280"/>
                <a:tab algn="l" pos="3049560"/>
                <a:tab algn="l" pos="3498840"/>
                <a:tab algn="l" pos="3948120"/>
                <a:tab algn="l" pos="4397400"/>
                <a:tab algn="l" pos="4846680"/>
                <a:tab algn="l" pos="5295960"/>
                <a:tab algn="l" pos="5745240"/>
                <a:tab algn="l" pos="6194520"/>
                <a:tab algn="l" pos="6643800"/>
                <a:tab algn="l" pos="7093080"/>
                <a:tab algn="l" pos="7542360"/>
                <a:tab algn="l" pos="7991640"/>
                <a:tab algn="l" pos="8440560"/>
                <a:tab algn="l" pos="8889840"/>
                <a:tab algn="l" pos="9339120"/>
                <a:tab algn="l" pos="9434520"/>
                <a:tab algn="l" pos="9883800"/>
                <a:tab algn="l" pos="10333080"/>
                <a:tab algn="l" pos="10782360"/>
              </a:tabLst>
            </a:pPr>
            <a:r>
              <a:rPr b="1" lang="en-AU" sz="4400" spc="-1" strike="noStrike">
                <a:solidFill>
                  <a:srgbClr val="ffffff"/>
                </a:solidFill>
                <a:latin typeface="Calibri"/>
                <a:ea typeface="Lucida Sans Unicode"/>
              </a:rPr>
              <a:t>To pardon and sanctify me   </a:t>
            </a:r>
            <a:endParaRPr b="0" lang="en-US" sz="4400" spc="-1" strike="noStrike">
              <a:solidFill>
                <a:srgbClr val="ffffff"/>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5" name=""/>
          <p:cNvSpPr/>
          <p:nvPr/>
        </p:nvSpPr>
        <p:spPr>
          <a:xfrm>
            <a:off x="457200" y="907920"/>
            <a:ext cx="8229600" cy="5164200"/>
          </a:xfrm>
          <a:prstGeom prst="rect">
            <a:avLst/>
          </a:prstGeom>
          <a:noFill/>
          <a:ln w="0">
            <a:noFill/>
          </a:ln>
        </p:spPr>
        <p:style>
          <a:lnRef idx="0"/>
          <a:fillRef idx="0"/>
          <a:effectRef idx="0"/>
          <a:fontRef idx="minor"/>
        </p:style>
        <p:txBody>
          <a:bodyPr anchor="t">
            <a:noAutofit/>
          </a:bodyPr>
          <a:p>
            <a:pPr marL="355680" indent="-351000" algn="ctr">
              <a:lnSpc>
                <a:spcPct val="100000"/>
              </a:lnSpc>
              <a:spcBef>
                <a:spcPts val="499"/>
              </a:spcBef>
              <a:tabLst>
                <a:tab algn="l" pos="0"/>
                <a:tab algn="l" pos="355680"/>
                <a:tab algn="l" pos="803160"/>
                <a:tab algn="l" pos="1252440"/>
                <a:tab algn="l" pos="1701720"/>
                <a:tab algn="l" pos="2151000"/>
                <a:tab algn="l" pos="2600280"/>
                <a:tab algn="l" pos="3049560"/>
                <a:tab algn="l" pos="3498840"/>
                <a:tab algn="l" pos="3948120"/>
                <a:tab algn="l" pos="4397400"/>
                <a:tab algn="l" pos="4846680"/>
                <a:tab algn="l" pos="5295960"/>
                <a:tab algn="l" pos="5745240"/>
                <a:tab algn="l" pos="6194520"/>
                <a:tab algn="l" pos="6643800"/>
                <a:tab algn="l" pos="7093080"/>
                <a:tab algn="l" pos="7542360"/>
                <a:tab algn="l" pos="7991640"/>
                <a:tab algn="l" pos="8440560"/>
                <a:tab algn="l" pos="8889840"/>
                <a:tab algn="l" pos="9339120"/>
                <a:tab algn="l" pos="9434520"/>
                <a:tab algn="l" pos="9883800"/>
                <a:tab algn="l" pos="10333080"/>
                <a:tab algn="l" pos="10782360"/>
              </a:tabLst>
            </a:pPr>
            <a:endParaRPr b="0" lang="en-US" sz="4400" spc="-1" strike="noStrike">
              <a:solidFill>
                <a:srgbClr val="ffffff"/>
              </a:solidFill>
              <a:latin typeface="Arial"/>
            </a:endParaRPr>
          </a:p>
          <a:p>
            <a:pPr marL="355680" indent="-351000" algn="ctr">
              <a:lnSpc>
                <a:spcPct val="100000"/>
              </a:lnSpc>
              <a:spcBef>
                <a:spcPts val="499"/>
              </a:spcBef>
              <a:tabLst>
                <a:tab algn="l" pos="0"/>
                <a:tab algn="l" pos="355680"/>
                <a:tab algn="l" pos="803160"/>
                <a:tab algn="l" pos="1252440"/>
                <a:tab algn="l" pos="1701720"/>
                <a:tab algn="l" pos="2151000"/>
                <a:tab algn="l" pos="2600280"/>
                <a:tab algn="l" pos="3049560"/>
                <a:tab algn="l" pos="3498840"/>
                <a:tab algn="l" pos="3948120"/>
                <a:tab algn="l" pos="4397400"/>
                <a:tab algn="l" pos="4846680"/>
                <a:tab algn="l" pos="5295960"/>
                <a:tab algn="l" pos="5745240"/>
                <a:tab algn="l" pos="6194520"/>
                <a:tab algn="l" pos="6643800"/>
                <a:tab algn="l" pos="7093080"/>
                <a:tab algn="l" pos="7542360"/>
                <a:tab algn="l" pos="7991640"/>
                <a:tab algn="l" pos="8440560"/>
                <a:tab algn="l" pos="8889840"/>
                <a:tab algn="l" pos="9339120"/>
                <a:tab algn="l" pos="9434520"/>
                <a:tab algn="l" pos="9883800"/>
                <a:tab algn="l" pos="10333080"/>
                <a:tab algn="l" pos="10782360"/>
              </a:tabLst>
            </a:pPr>
            <a:r>
              <a:rPr b="1" lang="en-AU" sz="4400" spc="-1" strike="noStrike">
                <a:solidFill>
                  <a:srgbClr val="ffffff"/>
                </a:solidFill>
                <a:latin typeface="Calibri"/>
                <a:ea typeface="Lucida Sans Unicode"/>
              </a:rPr>
              <a:t>So I'll cherish the old rugged cross.</a:t>
            </a:r>
            <a:endParaRPr b="0" lang="en-US" sz="4400" spc="-1" strike="noStrike">
              <a:solidFill>
                <a:srgbClr val="ffffff"/>
              </a:solidFill>
              <a:latin typeface="Arial"/>
            </a:endParaRPr>
          </a:p>
          <a:p>
            <a:pPr marL="355680" indent="-351000" algn="ctr">
              <a:lnSpc>
                <a:spcPct val="100000"/>
              </a:lnSpc>
              <a:spcBef>
                <a:spcPts val="499"/>
              </a:spcBef>
              <a:tabLst>
                <a:tab algn="l" pos="0"/>
                <a:tab algn="l" pos="355680"/>
                <a:tab algn="l" pos="803160"/>
                <a:tab algn="l" pos="1252440"/>
                <a:tab algn="l" pos="1701720"/>
                <a:tab algn="l" pos="2151000"/>
                <a:tab algn="l" pos="2600280"/>
                <a:tab algn="l" pos="3049560"/>
                <a:tab algn="l" pos="3498840"/>
                <a:tab algn="l" pos="3948120"/>
                <a:tab algn="l" pos="4397400"/>
                <a:tab algn="l" pos="4846680"/>
                <a:tab algn="l" pos="5295960"/>
                <a:tab algn="l" pos="5745240"/>
                <a:tab algn="l" pos="6194520"/>
                <a:tab algn="l" pos="6643800"/>
                <a:tab algn="l" pos="7093080"/>
                <a:tab algn="l" pos="7542360"/>
                <a:tab algn="l" pos="7991640"/>
                <a:tab algn="l" pos="8440560"/>
                <a:tab algn="l" pos="8889840"/>
                <a:tab algn="l" pos="9339120"/>
                <a:tab algn="l" pos="9434520"/>
                <a:tab algn="l" pos="9883800"/>
                <a:tab algn="l" pos="10333080"/>
                <a:tab algn="l" pos="10782360"/>
              </a:tabLst>
            </a:pPr>
            <a:r>
              <a:rPr b="1" lang="en-AU" sz="4400" spc="-1" strike="noStrike">
                <a:solidFill>
                  <a:srgbClr val="ffffff"/>
                </a:solidFill>
                <a:latin typeface="Calibri"/>
                <a:ea typeface="Lucida Sans Unicode"/>
              </a:rPr>
              <a:t>Till my trophies at last I lay down;</a:t>
            </a:r>
            <a:endParaRPr b="0" lang="en-US" sz="4400" spc="-1" strike="noStrike">
              <a:solidFill>
                <a:srgbClr val="ffffff"/>
              </a:solidFill>
              <a:latin typeface="Arial"/>
            </a:endParaRPr>
          </a:p>
          <a:p>
            <a:pPr marL="355680" indent="-351000" algn="ctr">
              <a:lnSpc>
                <a:spcPct val="100000"/>
              </a:lnSpc>
              <a:spcBef>
                <a:spcPts val="499"/>
              </a:spcBef>
              <a:tabLst>
                <a:tab algn="l" pos="0"/>
                <a:tab algn="l" pos="355680"/>
                <a:tab algn="l" pos="803160"/>
                <a:tab algn="l" pos="1252440"/>
                <a:tab algn="l" pos="1701720"/>
                <a:tab algn="l" pos="2151000"/>
                <a:tab algn="l" pos="2600280"/>
                <a:tab algn="l" pos="3049560"/>
                <a:tab algn="l" pos="3498840"/>
                <a:tab algn="l" pos="3948120"/>
                <a:tab algn="l" pos="4397400"/>
                <a:tab algn="l" pos="4846680"/>
                <a:tab algn="l" pos="5295960"/>
                <a:tab algn="l" pos="5745240"/>
                <a:tab algn="l" pos="6194520"/>
                <a:tab algn="l" pos="6643800"/>
                <a:tab algn="l" pos="7093080"/>
                <a:tab algn="l" pos="7542360"/>
                <a:tab algn="l" pos="7991640"/>
                <a:tab algn="l" pos="8440560"/>
                <a:tab algn="l" pos="8889840"/>
                <a:tab algn="l" pos="9339120"/>
                <a:tab algn="l" pos="9434520"/>
                <a:tab algn="l" pos="9883800"/>
                <a:tab algn="l" pos="10333080"/>
                <a:tab algn="l" pos="10782360"/>
              </a:tabLst>
            </a:pPr>
            <a:r>
              <a:rPr b="1" lang="en-AU" sz="4400" spc="-1" strike="noStrike">
                <a:solidFill>
                  <a:srgbClr val="ffffff"/>
                </a:solidFill>
                <a:latin typeface="Calibri"/>
                <a:ea typeface="Lucida Sans Unicode"/>
              </a:rPr>
              <a:t>I will cling to the old rugged cross,</a:t>
            </a:r>
            <a:endParaRPr b="0" lang="en-US" sz="4400" spc="-1" strike="noStrike">
              <a:solidFill>
                <a:srgbClr val="ffffff"/>
              </a:solidFill>
              <a:latin typeface="Arial"/>
            </a:endParaRPr>
          </a:p>
          <a:p>
            <a:pPr marL="355680" indent="-351000" algn="ctr">
              <a:lnSpc>
                <a:spcPct val="100000"/>
              </a:lnSpc>
              <a:spcBef>
                <a:spcPts val="499"/>
              </a:spcBef>
              <a:tabLst>
                <a:tab algn="l" pos="0"/>
                <a:tab algn="l" pos="355680"/>
                <a:tab algn="l" pos="803160"/>
                <a:tab algn="l" pos="1252440"/>
                <a:tab algn="l" pos="1701720"/>
                <a:tab algn="l" pos="2151000"/>
                <a:tab algn="l" pos="2600280"/>
                <a:tab algn="l" pos="3049560"/>
                <a:tab algn="l" pos="3498840"/>
                <a:tab algn="l" pos="3948120"/>
                <a:tab algn="l" pos="4397400"/>
                <a:tab algn="l" pos="4846680"/>
                <a:tab algn="l" pos="5295960"/>
                <a:tab algn="l" pos="5745240"/>
                <a:tab algn="l" pos="6194520"/>
                <a:tab algn="l" pos="6643800"/>
                <a:tab algn="l" pos="7093080"/>
                <a:tab algn="l" pos="7542360"/>
                <a:tab algn="l" pos="7991640"/>
                <a:tab algn="l" pos="8440560"/>
                <a:tab algn="l" pos="8889840"/>
                <a:tab algn="l" pos="9339120"/>
                <a:tab algn="l" pos="9434520"/>
                <a:tab algn="l" pos="9883800"/>
                <a:tab algn="l" pos="10333080"/>
                <a:tab algn="l" pos="10782360"/>
              </a:tabLst>
            </a:pPr>
            <a:r>
              <a:rPr b="1" lang="en-AU" sz="4400" spc="-1" strike="noStrike">
                <a:solidFill>
                  <a:srgbClr val="ffffff"/>
                </a:solidFill>
                <a:latin typeface="Calibri"/>
                <a:ea typeface="Lucida Sans Unicode"/>
              </a:rPr>
              <a:t>And exchange it some day </a:t>
            </a:r>
            <a:endParaRPr b="0" lang="en-US" sz="4400" spc="-1" strike="noStrike">
              <a:solidFill>
                <a:srgbClr val="ffffff"/>
              </a:solidFill>
              <a:latin typeface="Arial"/>
            </a:endParaRPr>
          </a:p>
          <a:p>
            <a:pPr marL="355680" indent="-351000" algn="ctr">
              <a:lnSpc>
                <a:spcPct val="100000"/>
              </a:lnSpc>
              <a:spcBef>
                <a:spcPts val="499"/>
              </a:spcBef>
              <a:tabLst>
                <a:tab algn="l" pos="0"/>
                <a:tab algn="l" pos="355680"/>
                <a:tab algn="l" pos="803160"/>
                <a:tab algn="l" pos="1252440"/>
                <a:tab algn="l" pos="1701720"/>
                <a:tab algn="l" pos="2151000"/>
                <a:tab algn="l" pos="2600280"/>
                <a:tab algn="l" pos="3049560"/>
                <a:tab algn="l" pos="3498840"/>
                <a:tab algn="l" pos="3948120"/>
                <a:tab algn="l" pos="4397400"/>
                <a:tab algn="l" pos="4846680"/>
                <a:tab algn="l" pos="5295960"/>
                <a:tab algn="l" pos="5745240"/>
                <a:tab algn="l" pos="6194520"/>
                <a:tab algn="l" pos="6643800"/>
                <a:tab algn="l" pos="7093080"/>
                <a:tab algn="l" pos="7542360"/>
                <a:tab algn="l" pos="7991640"/>
                <a:tab algn="l" pos="8440560"/>
                <a:tab algn="l" pos="8889840"/>
                <a:tab algn="l" pos="9339120"/>
                <a:tab algn="l" pos="9434520"/>
                <a:tab algn="l" pos="9883800"/>
                <a:tab algn="l" pos="10333080"/>
                <a:tab algn="l" pos="10782360"/>
              </a:tabLst>
            </a:pPr>
            <a:r>
              <a:rPr b="1" lang="en-AU" sz="4400" spc="-1" strike="noStrike">
                <a:solidFill>
                  <a:srgbClr val="ffffff"/>
                </a:solidFill>
                <a:latin typeface="Calibri"/>
                <a:ea typeface="Lucida Sans Unicode"/>
              </a:rPr>
              <a:t>for a crown.</a:t>
            </a:r>
            <a:endParaRPr b="0" lang="en-US" sz="4400" spc="-1" strike="noStrike">
              <a:solidFill>
                <a:srgbClr val="ffffff"/>
              </a:solidFill>
              <a:latin typeface="Arial"/>
            </a:endParaRPr>
          </a:p>
          <a:p>
            <a:pPr marL="355680" indent="-351000" algn="ctr">
              <a:lnSpc>
                <a:spcPct val="100000"/>
              </a:lnSpc>
              <a:spcBef>
                <a:spcPts val="499"/>
              </a:spcBef>
              <a:tabLst>
                <a:tab algn="l" pos="0"/>
                <a:tab algn="l" pos="355680"/>
                <a:tab algn="l" pos="803160"/>
                <a:tab algn="l" pos="1252440"/>
                <a:tab algn="l" pos="1701720"/>
                <a:tab algn="l" pos="2151000"/>
                <a:tab algn="l" pos="2600280"/>
                <a:tab algn="l" pos="3049560"/>
                <a:tab algn="l" pos="3498840"/>
                <a:tab algn="l" pos="3948120"/>
                <a:tab algn="l" pos="4397400"/>
                <a:tab algn="l" pos="4846680"/>
                <a:tab algn="l" pos="5295960"/>
                <a:tab algn="l" pos="5745240"/>
                <a:tab algn="l" pos="6194520"/>
                <a:tab algn="l" pos="6643800"/>
                <a:tab algn="l" pos="7093080"/>
                <a:tab algn="l" pos="7542360"/>
                <a:tab algn="l" pos="7991640"/>
                <a:tab algn="l" pos="8440560"/>
                <a:tab algn="l" pos="8889840"/>
                <a:tab algn="l" pos="9339120"/>
                <a:tab algn="l" pos="9434520"/>
                <a:tab algn="l" pos="9883800"/>
                <a:tab algn="l" pos="10333080"/>
                <a:tab algn="l" pos="10782360"/>
              </a:tabLst>
            </a:pPr>
            <a:endParaRPr b="0" lang="en-US" sz="4400" spc="-1" strike="noStrike">
              <a:solidFill>
                <a:srgbClr val="ffffff"/>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6" name=""/>
          <p:cNvSpPr/>
          <p:nvPr/>
        </p:nvSpPr>
        <p:spPr>
          <a:xfrm>
            <a:off x="685800" y="2228760"/>
            <a:ext cx="7772400" cy="19386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AU" sz="7200" spc="-1" strike="noStrike">
                <a:solidFill>
                  <a:srgbClr val="ffffff"/>
                </a:solidFill>
                <a:latin typeface="Calibri"/>
                <a:ea typeface="Lucida Sans Unicode"/>
              </a:rPr>
              <a:t>Lots</a:t>
            </a:r>
            <a:br>
              <a:rPr sz="7200"/>
            </a:br>
            <a:r>
              <a:rPr b="1" lang="en-AU" sz="4800" spc="-1" strike="noStrike">
                <a:solidFill>
                  <a:srgbClr val="ffffff"/>
                </a:solidFill>
                <a:latin typeface="Calibri"/>
                <a:ea typeface="Lucida Sans Unicode"/>
              </a:rPr>
              <a:t>(Matthew 27:33-40)</a:t>
            </a:r>
            <a:endParaRPr b="0" lang="en-US" sz="4800" spc="-1" strike="noStrike">
              <a:solidFill>
                <a:srgbClr val="ffffff"/>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7" name=""/>
          <p:cNvSpPr/>
          <p:nvPr/>
        </p:nvSpPr>
        <p:spPr>
          <a:xfrm>
            <a:off x="457200" y="620640"/>
            <a:ext cx="8229600" cy="5830920"/>
          </a:xfrm>
          <a:prstGeom prst="rect">
            <a:avLst/>
          </a:prstGeom>
          <a:noFill/>
          <a:ln w="0">
            <a:noFill/>
          </a:ln>
        </p:spPr>
        <p:style>
          <a:lnRef idx="0"/>
          <a:fillRef idx="0"/>
          <a:effectRef idx="0"/>
          <a:fontRef idx="minor"/>
        </p:style>
        <p:txBody>
          <a:bodyPr anchor="t">
            <a:noAutofit/>
          </a:bodyPr>
          <a:p>
            <a:pPr marL="343080" indent="-338400">
              <a:lnSpc>
                <a:spcPct val="100000"/>
              </a:lnSpc>
              <a:spcBef>
                <a:spcPts val="1001"/>
              </a:spcBef>
              <a:tabLst>
                <a:tab algn="l" pos="0"/>
                <a:tab algn="l" pos="343080"/>
                <a:tab algn="l" pos="909720"/>
                <a:tab algn="l" pos="1824120"/>
                <a:tab algn="l" pos="2738520"/>
                <a:tab algn="l" pos="3652920"/>
                <a:tab algn="l" pos="4567320"/>
                <a:tab algn="l" pos="5481720"/>
                <a:tab algn="l" pos="6396120"/>
                <a:tab algn="l" pos="7310520"/>
                <a:tab algn="l" pos="8224920"/>
                <a:tab algn="l" pos="9139320"/>
                <a:tab algn="l" pos="10053720"/>
                <a:tab algn="l" pos="10329840"/>
                <a:tab algn="l" pos="10779120"/>
                <a:tab algn="l" pos="10780560"/>
                <a:tab algn="l" pos="10782360"/>
              </a:tabLst>
            </a:pPr>
            <a:r>
              <a:rPr b="0" lang="en-AU" sz="4000" spc="-1" strike="noStrike">
                <a:solidFill>
                  <a:srgbClr val="ffffff"/>
                </a:solidFill>
                <a:latin typeface="Calibri"/>
                <a:ea typeface="Lucida Sans Unicode"/>
              </a:rPr>
              <a:t>	</a:t>
            </a:r>
            <a:endParaRPr b="0" lang="en-US" sz="4000" spc="-1" strike="noStrike">
              <a:solidFill>
                <a:srgbClr val="ffffff"/>
              </a:solidFill>
              <a:latin typeface="Arial"/>
            </a:endParaRPr>
          </a:p>
          <a:p>
            <a:pPr marL="343080" indent="-338400">
              <a:lnSpc>
                <a:spcPct val="100000"/>
              </a:lnSpc>
              <a:spcBef>
                <a:spcPts val="1001"/>
              </a:spcBef>
              <a:tabLst>
                <a:tab algn="l" pos="0"/>
                <a:tab algn="l" pos="343080"/>
                <a:tab algn="l" pos="909720"/>
                <a:tab algn="l" pos="1824120"/>
                <a:tab algn="l" pos="2738520"/>
                <a:tab algn="l" pos="3652920"/>
                <a:tab algn="l" pos="4567320"/>
                <a:tab algn="l" pos="5481720"/>
                <a:tab algn="l" pos="6396120"/>
                <a:tab algn="l" pos="7310520"/>
                <a:tab algn="l" pos="8224920"/>
                <a:tab algn="l" pos="9139320"/>
                <a:tab algn="l" pos="10053720"/>
                <a:tab algn="l" pos="10329840"/>
                <a:tab algn="l" pos="10779120"/>
                <a:tab algn="l" pos="10780560"/>
                <a:tab algn="l" pos="10782360"/>
              </a:tabLst>
            </a:pPr>
            <a:r>
              <a:rPr b="0" lang="en-AU" sz="4000" spc="-1" strike="noStrike">
                <a:solidFill>
                  <a:srgbClr val="ffffff"/>
                </a:solidFill>
                <a:latin typeface="Calibri"/>
                <a:ea typeface="Lucida Sans Unicode"/>
              </a:rPr>
              <a:t> </a:t>
            </a:r>
            <a:r>
              <a:rPr b="0" lang="en-AU" sz="4000" spc="-1" strike="noStrike">
                <a:solidFill>
                  <a:srgbClr val="ffffff"/>
                </a:solidFill>
                <a:latin typeface="Calibri"/>
                <a:ea typeface="Lucida Sans Unicode"/>
              </a:rPr>
              <a:t>They came to a place called Golgotha (which means “the place of the skull”). There they offered Jesus wine to drink, mixed with gall; but after tasting it, he refused to drink it. When they had crucified him, they divided up his clothes by casting lots. </a:t>
            </a:r>
            <a:endParaRPr b="0" lang="en-US" sz="4000" spc="-1" strike="noStrike">
              <a:solidFill>
                <a:srgbClr val="ffffff"/>
              </a:solidFill>
              <a:latin typeface="Arial"/>
            </a:endParaRPr>
          </a:p>
          <a:p>
            <a:pPr marL="343080" indent="-338400">
              <a:lnSpc>
                <a:spcPct val="100000"/>
              </a:lnSpc>
              <a:spcBef>
                <a:spcPts val="1001"/>
              </a:spcBef>
              <a:tabLst>
                <a:tab algn="l" pos="0"/>
                <a:tab algn="l" pos="343080"/>
                <a:tab algn="l" pos="909720"/>
                <a:tab algn="l" pos="1824120"/>
                <a:tab algn="l" pos="2738520"/>
                <a:tab algn="l" pos="3652920"/>
                <a:tab algn="l" pos="4567320"/>
                <a:tab algn="l" pos="5481720"/>
                <a:tab algn="l" pos="6396120"/>
                <a:tab algn="l" pos="7310520"/>
                <a:tab algn="l" pos="8224920"/>
                <a:tab algn="l" pos="9139320"/>
                <a:tab algn="l" pos="10053720"/>
                <a:tab algn="l" pos="10329840"/>
                <a:tab algn="l" pos="10779120"/>
                <a:tab algn="l" pos="10780560"/>
                <a:tab algn="l" pos="10782360"/>
              </a:tabLst>
            </a:pPr>
            <a:endParaRPr b="0" lang="en-US" sz="4000" spc="-1" strike="noStrike">
              <a:solidFill>
                <a:srgbClr val="ffffff"/>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8" name=""/>
          <p:cNvSpPr/>
          <p:nvPr/>
        </p:nvSpPr>
        <p:spPr>
          <a:xfrm>
            <a:off x="457200" y="1071720"/>
            <a:ext cx="8229600" cy="5054400"/>
          </a:xfrm>
          <a:prstGeom prst="rect">
            <a:avLst/>
          </a:prstGeom>
          <a:noFill/>
          <a:ln w="0">
            <a:noFill/>
          </a:ln>
        </p:spPr>
        <p:style>
          <a:lnRef idx="0"/>
          <a:fillRef idx="0"/>
          <a:effectRef idx="0"/>
          <a:fontRef idx="minor"/>
        </p:style>
        <p:txBody>
          <a:bodyPr anchor="t">
            <a:noAutofit/>
          </a:bodyPr>
          <a:p>
            <a:pPr marL="343080" indent="-338400">
              <a:lnSpc>
                <a:spcPct val="100000"/>
              </a:lnSpc>
              <a:spcBef>
                <a:spcPts val="10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en-AU" sz="4000" spc="-1" strike="noStrike">
                <a:solidFill>
                  <a:srgbClr val="ffffff"/>
                </a:solidFill>
                <a:latin typeface="Calibri"/>
                <a:ea typeface="Lucida Sans Unicode"/>
              </a:rPr>
              <a:t>And sitting down, they kept watch over him there. Above his head they placed the written charge against him: THIS IS JESUS, THE KING OF THE JEWS.  Two rebels were crucified with him, one on his right and one on his left.</a:t>
            </a:r>
            <a:endParaRPr b="0" lang="en-US" sz="4000" spc="-1" strike="noStrike">
              <a:solidFill>
                <a:srgbClr val="ffffff"/>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9" name=""/>
          <p:cNvSpPr/>
          <p:nvPr/>
        </p:nvSpPr>
        <p:spPr>
          <a:xfrm>
            <a:off x="457200" y="1285920"/>
            <a:ext cx="8229600" cy="4840200"/>
          </a:xfrm>
          <a:prstGeom prst="rect">
            <a:avLst/>
          </a:prstGeom>
          <a:noFill/>
          <a:ln w="0">
            <a:noFill/>
          </a:ln>
        </p:spPr>
        <p:style>
          <a:lnRef idx="0"/>
          <a:fillRef idx="0"/>
          <a:effectRef idx="0"/>
          <a:fontRef idx="minor"/>
        </p:style>
        <p:txBody>
          <a:bodyPr anchor="t">
            <a:noAutofit/>
          </a:bodyPr>
          <a:p>
            <a:pPr marL="343080" indent="-338400">
              <a:lnSpc>
                <a:spcPct val="100000"/>
              </a:lnSpc>
              <a:spcBef>
                <a:spcPts val="1001"/>
              </a:spcBef>
              <a:tabLst>
                <a:tab algn="l" pos="0"/>
                <a:tab algn="l" pos="343080"/>
                <a:tab algn="l" pos="909720"/>
                <a:tab algn="l" pos="1824120"/>
                <a:tab algn="l" pos="2738520"/>
                <a:tab algn="l" pos="3652920"/>
                <a:tab algn="l" pos="4567320"/>
                <a:tab algn="l" pos="5481720"/>
                <a:tab algn="l" pos="6396120"/>
                <a:tab algn="l" pos="7310520"/>
                <a:tab algn="l" pos="8224920"/>
                <a:tab algn="l" pos="9139320"/>
                <a:tab algn="l" pos="10053720"/>
                <a:tab algn="l" pos="10329840"/>
                <a:tab algn="l" pos="10779120"/>
                <a:tab algn="l" pos="10780560"/>
                <a:tab algn="l" pos="10782360"/>
              </a:tabLst>
            </a:pPr>
            <a:r>
              <a:rPr b="0" lang="en-AU" sz="4000" spc="-1" strike="noStrike">
                <a:solidFill>
                  <a:srgbClr val="ffffff"/>
                </a:solidFill>
                <a:latin typeface="Calibri"/>
                <a:ea typeface="Lucida Sans Unicode"/>
              </a:rPr>
              <a:t>	</a:t>
            </a:r>
            <a:r>
              <a:rPr b="0" lang="en-AU" sz="4000" spc="-1" strike="noStrike">
                <a:solidFill>
                  <a:srgbClr val="ffffff"/>
                </a:solidFill>
                <a:latin typeface="Calibri"/>
                <a:ea typeface="Lucida Sans Unicode"/>
              </a:rPr>
              <a:t>Those who passed by hurled insults at him, shaking their heads and saying, “You who are going to destroy the temple and build it in three days, save yourself! Come down from the cross, if you are the Son of God!”</a:t>
            </a:r>
            <a:endParaRPr b="0" lang="en-US" sz="4000" spc="-1" strike="noStrike">
              <a:solidFill>
                <a:srgbClr val="ffffff"/>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0" name=""/>
          <p:cNvSpPr/>
          <p:nvPr/>
        </p:nvSpPr>
        <p:spPr>
          <a:xfrm>
            <a:off x="685800" y="2238480"/>
            <a:ext cx="7772400" cy="19206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AU" sz="7200" spc="-1" strike="noStrike">
                <a:solidFill>
                  <a:srgbClr val="ffffff"/>
                </a:solidFill>
                <a:latin typeface="Calibri"/>
                <a:ea typeface="Lucida Sans Unicode"/>
              </a:rPr>
              <a:t>Wine/Vinegar</a:t>
            </a:r>
            <a:br>
              <a:rPr sz="7200"/>
            </a:br>
            <a:r>
              <a:rPr b="1" lang="en-AU" sz="4800" spc="-1" strike="noStrike">
                <a:solidFill>
                  <a:srgbClr val="ffffff"/>
                </a:solidFill>
                <a:latin typeface="Calibri"/>
                <a:ea typeface="Lucida Sans Unicode"/>
              </a:rPr>
              <a:t>(Matthew 27:48-49)</a:t>
            </a:r>
            <a:endParaRPr b="0" lang="en-US" sz="4800" spc="-1" strike="noStrike">
              <a:solidFill>
                <a:srgbClr val="ffffff"/>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1" name=""/>
          <p:cNvSpPr/>
          <p:nvPr/>
        </p:nvSpPr>
        <p:spPr>
          <a:xfrm>
            <a:off x="457200" y="1428840"/>
            <a:ext cx="8229600" cy="4697280"/>
          </a:xfrm>
          <a:prstGeom prst="rect">
            <a:avLst/>
          </a:prstGeom>
          <a:noFill/>
          <a:ln w="0">
            <a:noFill/>
          </a:ln>
        </p:spPr>
        <p:style>
          <a:lnRef idx="0"/>
          <a:fillRef idx="0"/>
          <a:effectRef idx="0"/>
          <a:fontRef idx="minor"/>
        </p:style>
        <p:txBody>
          <a:bodyPr anchor="t">
            <a:noAutofit/>
          </a:bodyPr>
          <a:p>
            <a:pPr marL="343080" indent="-338400">
              <a:lnSpc>
                <a:spcPct val="100000"/>
              </a:lnSpc>
              <a:spcBef>
                <a:spcPts val="10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en-AU" sz="4000" spc="-1" strike="noStrike">
                <a:solidFill>
                  <a:srgbClr val="ffffff"/>
                </a:solidFill>
                <a:latin typeface="Calibri"/>
                <a:ea typeface="Lucida Sans Unicode"/>
              </a:rPr>
              <a:t>Immediately one of them ran and got a sponge. He filled it with wine vinegar, put it on a staff, and offered it to Jesus to drink. The rest said, “Now leave him alone. Let’s see if Elijah comes to save him.” </a:t>
            </a:r>
            <a:endParaRPr b="0" lang="en-US" sz="40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4" name=""/>
          <p:cNvSpPr/>
          <p:nvPr/>
        </p:nvSpPr>
        <p:spPr>
          <a:xfrm>
            <a:off x="457200" y="1165320"/>
            <a:ext cx="8229600" cy="5000400"/>
          </a:xfrm>
          <a:prstGeom prst="rect">
            <a:avLst/>
          </a:prstGeom>
          <a:noFill/>
          <a:ln w="0">
            <a:noFill/>
          </a:ln>
        </p:spPr>
        <p:style>
          <a:lnRef idx="0"/>
          <a:fillRef idx="0"/>
          <a:effectRef idx="0"/>
          <a:fontRef idx="minor"/>
        </p:style>
        <p:txBody>
          <a:bodyPr anchor="t">
            <a:noAutofit/>
          </a:bodyPr>
          <a:p>
            <a:pPr marL="343080" indent="-338400">
              <a:lnSpc>
                <a:spcPct val="100000"/>
              </a:lnSpc>
              <a:spcBef>
                <a:spcPts val="10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en-AU" sz="4000" spc="-1" strike="noStrike">
                <a:solidFill>
                  <a:srgbClr val="ffffff"/>
                </a:solidFill>
                <a:latin typeface="Calibri"/>
                <a:ea typeface="Lucida Sans Unicode"/>
              </a:rPr>
              <a:t>The chief priests picked up the coins and said, “It is against the law to put this into the treasury, since it is blood money.” So they decided to use the money to buy the potter’s field as a burial place for foreigners. That is why it has been called the Field of Blood to this day. </a:t>
            </a:r>
            <a:endParaRPr b="0" lang="en-US" sz="4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2" name=""/>
          <p:cNvSpPr/>
          <p:nvPr/>
        </p:nvSpPr>
        <p:spPr>
          <a:xfrm>
            <a:off x="685800" y="2228760"/>
            <a:ext cx="7772400" cy="19386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AU" sz="7200" spc="-1" strike="noStrike">
                <a:solidFill>
                  <a:srgbClr val="ffffff"/>
                </a:solidFill>
                <a:latin typeface="Calibri"/>
                <a:ea typeface="Lucida Sans Unicode"/>
              </a:rPr>
              <a:t>Cloth</a:t>
            </a:r>
            <a:br>
              <a:rPr sz="7200"/>
            </a:br>
            <a:r>
              <a:rPr b="1" lang="en-AU" sz="4800" spc="-1" strike="noStrike">
                <a:solidFill>
                  <a:srgbClr val="ffffff"/>
                </a:solidFill>
                <a:latin typeface="Calibri"/>
                <a:ea typeface="Lucida Sans Unicode"/>
              </a:rPr>
              <a:t>(Matthew 27:57-60)</a:t>
            </a:r>
            <a:endParaRPr b="0" lang="en-US" sz="4800" spc="-1" strike="noStrike">
              <a:solidFill>
                <a:srgbClr val="ffffff"/>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3" name=""/>
          <p:cNvSpPr/>
          <p:nvPr/>
        </p:nvSpPr>
        <p:spPr>
          <a:xfrm>
            <a:off x="457200" y="981000"/>
            <a:ext cx="8229600" cy="5145120"/>
          </a:xfrm>
          <a:prstGeom prst="rect">
            <a:avLst/>
          </a:prstGeom>
          <a:noFill/>
          <a:ln w="0">
            <a:noFill/>
          </a:ln>
        </p:spPr>
        <p:style>
          <a:lnRef idx="0"/>
          <a:fillRef idx="0"/>
          <a:effectRef idx="0"/>
          <a:fontRef idx="minor"/>
        </p:style>
        <p:txBody>
          <a:bodyPr anchor="t">
            <a:noAutofit/>
          </a:bodyPr>
          <a:p>
            <a:pPr marL="343080" indent="-338400">
              <a:lnSpc>
                <a:spcPct val="100000"/>
              </a:lnSpc>
              <a:spcBef>
                <a:spcPts val="10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en-AU" sz="4000" spc="-1" strike="noStrike">
                <a:solidFill>
                  <a:srgbClr val="ffffff"/>
                </a:solidFill>
                <a:latin typeface="Calibri"/>
                <a:ea typeface="Lucida Sans Unicode"/>
              </a:rPr>
              <a:t>As evening approached, there came a rich man from Arimathea, named Joseph, who had himself become a disciple of Jesus. Going to Pilate, he asked for Jesus’ body, and Pilate ordered that it be given to him.</a:t>
            </a:r>
            <a:endParaRPr b="0" lang="en-US" sz="4000" spc="-1" strike="noStrike">
              <a:solidFill>
                <a:srgbClr val="ffffff"/>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4" name=""/>
          <p:cNvSpPr/>
          <p:nvPr/>
        </p:nvSpPr>
        <p:spPr>
          <a:xfrm>
            <a:off x="457200" y="1428840"/>
            <a:ext cx="8229600" cy="4697280"/>
          </a:xfrm>
          <a:prstGeom prst="rect">
            <a:avLst/>
          </a:prstGeom>
          <a:noFill/>
          <a:ln w="0">
            <a:noFill/>
          </a:ln>
        </p:spPr>
        <p:style>
          <a:lnRef idx="0"/>
          <a:fillRef idx="0"/>
          <a:effectRef idx="0"/>
          <a:fontRef idx="minor"/>
        </p:style>
        <p:txBody>
          <a:bodyPr anchor="t">
            <a:noAutofit/>
          </a:bodyPr>
          <a:p>
            <a:pPr marL="343080" indent="-338400">
              <a:lnSpc>
                <a:spcPct val="100000"/>
              </a:lnSpc>
              <a:spcBef>
                <a:spcPts val="1001"/>
              </a:spcBef>
              <a:tabLst>
                <a:tab algn="l" pos="0"/>
                <a:tab algn="l" pos="343080"/>
                <a:tab algn="l" pos="909720"/>
                <a:tab algn="l" pos="1824120"/>
                <a:tab algn="l" pos="2738520"/>
                <a:tab algn="l" pos="3652920"/>
                <a:tab algn="l" pos="4567320"/>
                <a:tab algn="l" pos="5481720"/>
                <a:tab algn="l" pos="6396120"/>
                <a:tab algn="l" pos="7310520"/>
                <a:tab algn="l" pos="8224920"/>
                <a:tab algn="l" pos="9139320"/>
                <a:tab algn="l" pos="10053720"/>
                <a:tab algn="l" pos="10329840"/>
                <a:tab algn="l" pos="10779120"/>
                <a:tab algn="l" pos="10780560"/>
                <a:tab algn="l" pos="10782360"/>
              </a:tabLst>
            </a:pPr>
            <a:r>
              <a:rPr b="0" lang="en-AU" sz="4000" spc="-1" strike="noStrike">
                <a:solidFill>
                  <a:srgbClr val="ffffff"/>
                </a:solidFill>
                <a:latin typeface="Calibri"/>
                <a:ea typeface="Lucida Sans Unicode"/>
              </a:rPr>
              <a:t>	</a:t>
            </a:r>
            <a:r>
              <a:rPr b="0" lang="en-AU" sz="4000" spc="-1" strike="noStrike">
                <a:solidFill>
                  <a:srgbClr val="ffffff"/>
                </a:solidFill>
                <a:latin typeface="Calibri"/>
                <a:ea typeface="Lucida Sans Unicode"/>
              </a:rPr>
              <a:t>Joseph took the body, wrapped it in a clean linen cloth, and placed it in his own new tomb that he had cut out of the rock. He rolled a big stone in front of the entrance to the tomb and went away.</a:t>
            </a:r>
            <a:endParaRPr b="0" lang="en-US" sz="4000" spc="-1" strike="noStrike">
              <a:solidFill>
                <a:srgbClr val="ffffff"/>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5" name=""/>
          <p:cNvSpPr/>
          <p:nvPr/>
        </p:nvSpPr>
        <p:spPr>
          <a:xfrm>
            <a:off x="685800" y="2597040"/>
            <a:ext cx="7772400" cy="1201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AU" sz="7200" spc="-1" strike="noStrike">
                <a:solidFill>
                  <a:srgbClr val="ffffff"/>
                </a:solidFill>
                <a:latin typeface="Calibri"/>
                <a:ea typeface="Lucida Sans Unicode"/>
              </a:rPr>
              <a:t>It’s Your Blood</a:t>
            </a:r>
            <a:endParaRPr b="0" lang="en-US" sz="7200" spc="-1" strike="noStrike">
              <a:solidFill>
                <a:srgbClr val="ffffff"/>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6" name=""/>
          <p:cNvSpPr/>
          <p:nvPr/>
        </p:nvSpPr>
        <p:spPr>
          <a:xfrm>
            <a:off x="457200" y="981000"/>
            <a:ext cx="8229600" cy="4845240"/>
          </a:xfrm>
          <a:prstGeom prst="rect">
            <a:avLst/>
          </a:prstGeom>
          <a:noFill/>
          <a:ln w="0">
            <a:noFill/>
          </a:ln>
        </p:spPr>
        <p:style>
          <a:lnRef idx="0"/>
          <a:fillRef idx="0"/>
          <a:effectRef idx="0"/>
          <a:fontRef idx="minor"/>
        </p:style>
        <p:txBody>
          <a:bodyPr anchor="t">
            <a:noAutofit/>
          </a:bodyPr>
          <a:p>
            <a:pPr marL="355680" indent="-351000" algn="ctr">
              <a:lnSpc>
                <a:spcPct val="100000"/>
              </a:lnSpc>
              <a:spcBef>
                <a:spcPts val="499"/>
              </a:spcBef>
              <a:tabLst>
                <a:tab algn="l" pos="0"/>
                <a:tab algn="l" pos="355680"/>
                <a:tab algn="l" pos="803160"/>
                <a:tab algn="l" pos="1252440"/>
                <a:tab algn="l" pos="1701720"/>
                <a:tab algn="l" pos="2151000"/>
                <a:tab algn="l" pos="2600280"/>
                <a:tab algn="l" pos="3049560"/>
                <a:tab algn="l" pos="3498840"/>
                <a:tab algn="l" pos="3948120"/>
                <a:tab algn="l" pos="4397400"/>
                <a:tab algn="l" pos="4846680"/>
                <a:tab algn="l" pos="5295960"/>
                <a:tab algn="l" pos="5745240"/>
                <a:tab algn="l" pos="6194520"/>
                <a:tab algn="l" pos="6643800"/>
                <a:tab algn="l" pos="7093080"/>
                <a:tab algn="l" pos="7542360"/>
                <a:tab algn="l" pos="7991640"/>
                <a:tab algn="l" pos="8440560"/>
                <a:tab algn="l" pos="8889840"/>
                <a:tab algn="l" pos="9339120"/>
                <a:tab algn="l" pos="9434520"/>
                <a:tab algn="l" pos="9883800"/>
                <a:tab algn="l" pos="10333080"/>
                <a:tab algn="l" pos="10782360"/>
              </a:tabLst>
            </a:pPr>
            <a:r>
              <a:rPr b="1" lang="en-AU" sz="4800" spc="-1" strike="noStrike">
                <a:solidFill>
                  <a:srgbClr val="ffffff"/>
                </a:solidFill>
                <a:latin typeface="Calibri"/>
                <a:ea typeface="Lucida Sans Unicode"/>
              </a:rPr>
              <a:t>It's Your Blood that </a:t>
            </a:r>
            <a:endParaRPr b="0" lang="en-US" sz="4800" spc="-1" strike="noStrike">
              <a:solidFill>
                <a:srgbClr val="ffffff"/>
              </a:solidFill>
              <a:latin typeface="Arial"/>
            </a:endParaRPr>
          </a:p>
          <a:p>
            <a:pPr marL="355680" indent="-351000" algn="ctr">
              <a:lnSpc>
                <a:spcPct val="100000"/>
              </a:lnSpc>
              <a:spcBef>
                <a:spcPts val="499"/>
              </a:spcBef>
              <a:tabLst>
                <a:tab algn="l" pos="0"/>
                <a:tab algn="l" pos="355680"/>
                <a:tab algn="l" pos="803160"/>
                <a:tab algn="l" pos="1252440"/>
                <a:tab algn="l" pos="1701720"/>
                <a:tab algn="l" pos="2151000"/>
                <a:tab algn="l" pos="2600280"/>
                <a:tab algn="l" pos="3049560"/>
                <a:tab algn="l" pos="3498840"/>
                <a:tab algn="l" pos="3948120"/>
                <a:tab algn="l" pos="4397400"/>
                <a:tab algn="l" pos="4846680"/>
                <a:tab algn="l" pos="5295960"/>
                <a:tab algn="l" pos="5745240"/>
                <a:tab algn="l" pos="6194520"/>
                <a:tab algn="l" pos="6643800"/>
                <a:tab algn="l" pos="7093080"/>
                <a:tab algn="l" pos="7542360"/>
                <a:tab algn="l" pos="7991640"/>
                <a:tab algn="l" pos="8440560"/>
                <a:tab algn="l" pos="8889840"/>
                <a:tab algn="l" pos="9339120"/>
                <a:tab algn="l" pos="9434520"/>
                <a:tab algn="l" pos="9883800"/>
                <a:tab algn="l" pos="10333080"/>
                <a:tab algn="l" pos="10782360"/>
              </a:tabLst>
            </a:pPr>
            <a:r>
              <a:rPr b="1" lang="en-AU" sz="4800" spc="-1" strike="noStrike">
                <a:solidFill>
                  <a:srgbClr val="ffffff"/>
                </a:solidFill>
                <a:latin typeface="Calibri"/>
                <a:ea typeface="Lucida Sans Unicode"/>
              </a:rPr>
              <a:t>cleanses me</a:t>
            </a:r>
            <a:endParaRPr b="0" lang="en-US" sz="4800" spc="-1" strike="noStrike">
              <a:solidFill>
                <a:srgbClr val="ffffff"/>
              </a:solidFill>
              <a:latin typeface="Arial"/>
            </a:endParaRPr>
          </a:p>
          <a:p>
            <a:pPr marL="355680" indent="-351000" algn="ctr">
              <a:lnSpc>
                <a:spcPct val="100000"/>
              </a:lnSpc>
              <a:spcBef>
                <a:spcPts val="499"/>
              </a:spcBef>
              <a:tabLst>
                <a:tab algn="l" pos="0"/>
                <a:tab algn="l" pos="355680"/>
                <a:tab algn="l" pos="803160"/>
                <a:tab algn="l" pos="1252440"/>
                <a:tab algn="l" pos="1701720"/>
                <a:tab algn="l" pos="2151000"/>
                <a:tab algn="l" pos="2600280"/>
                <a:tab algn="l" pos="3049560"/>
                <a:tab algn="l" pos="3498840"/>
                <a:tab algn="l" pos="3948120"/>
                <a:tab algn="l" pos="4397400"/>
                <a:tab algn="l" pos="4846680"/>
                <a:tab algn="l" pos="5295960"/>
                <a:tab algn="l" pos="5745240"/>
                <a:tab algn="l" pos="6194520"/>
                <a:tab algn="l" pos="6643800"/>
                <a:tab algn="l" pos="7093080"/>
                <a:tab algn="l" pos="7542360"/>
                <a:tab algn="l" pos="7991640"/>
                <a:tab algn="l" pos="8440560"/>
                <a:tab algn="l" pos="8889840"/>
                <a:tab algn="l" pos="9339120"/>
                <a:tab algn="l" pos="9434520"/>
                <a:tab algn="l" pos="9883800"/>
                <a:tab algn="l" pos="10333080"/>
                <a:tab algn="l" pos="10782360"/>
              </a:tabLst>
            </a:pPr>
            <a:r>
              <a:rPr b="1" lang="en-AU" sz="4800" spc="-1" strike="noStrike">
                <a:solidFill>
                  <a:srgbClr val="ffffff"/>
                </a:solidFill>
                <a:latin typeface="Calibri"/>
                <a:ea typeface="Lucida Sans Unicode"/>
              </a:rPr>
              <a:t>It's Your Blood that </a:t>
            </a:r>
            <a:endParaRPr b="0" lang="en-US" sz="4800" spc="-1" strike="noStrike">
              <a:solidFill>
                <a:srgbClr val="ffffff"/>
              </a:solidFill>
              <a:latin typeface="Arial"/>
            </a:endParaRPr>
          </a:p>
          <a:p>
            <a:pPr marL="355680" indent="-351000" algn="ctr">
              <a:lnSpc>
                <a:spcPct val="100000"/>
              </a:lnSpc>
              <a:spcBef>
                <a:spcPts val="499"/>
              </a:spcBef>
              <a:tabLst>
                <a:tab algn="l" pos="0"/>
                <a:tab algn="l" pos="355680"/>
                <a:tab algn="l" pos="803160"/>
                <a:tab algn="l" pos="1252440"/>
                <a:tab algn="l" pos="1701720"/>
                <a:tab algn="l" pos="2151000"/>
                <a:tab algn="l" pos="2600280"/>
                <a:tab algn="l" pos="3049560"/>
                <a:tab algn="l" pos="3498840"/>
                <a:tab algn="l" pos="3948120"/>
                <a:tab algn="l" pos="4397400"/>
                <a:tab algn="l" pos="4846680"/>
                <a:tab algn="l" pos="5295960"/>
                <a:tab algn="l" pos="5745240"/>
                <a:tab algn="l" pos="6194520"/>
                <a:tab algn="l" pos="6643800"/>
                <a:tab algn="l" pos="7093080"/>
                <a:tab algn="l" pos="7542360"/>
                <a:tab algn="l" pos="7991640"/>
                <a:tab algn="l" pos="8440560"/>
                <a:tab algn="l" pos="8889840"/>
                <a:tab algn="l" pos="9339120"/>
                <a:tab algn="l" pos="9434520"/>
                <a:tab algn="l" pos="9883800"/>
                <a:tab algn="l" pos="10333080"/>
                <a:tab algn="l" pos="10782360"/>
              </a:tabLst>
            </a:pPr>
            <a:r>
              <a:rPr b="1" lang="en-AU" sz="4800" spc="-1" strike="noStrike">
                <a:solidFill>
                  <a:srgbClr val="ffffff"/>
                </a:solidFill>
                <a:latin typeface="Calibri"/>
                <a:ea typeface="Lucida Sans Unicode"/>
              </a:rPr>
              <a:t>gives me life</a:t>
            </a:r>
            <a:endParaRPr b="0" lang="en-US" sz="4800" spc="-1" strike="noStrike">
              <a:solidFill>
                <a:srgbClr val="ffffff"/>
              </a:solidFill>
              <a:latin typeface="Arial"/>
            </a:endParaRPr>
          </a:p>
          <a:p>
            <a:pPr marL="355680" indent="-351000" algn="ctr">
              <a:lnSpc>
                <a:spcPct val="100000"/>
              </a:lnSpc>
              <a:spcBef>
                <a:spcPts val="499"/>
              </a:spcBef>
              <a:tabLst>
                <a:tab algn="l" pos="0"/>
                <a:tab algn="l" pos="355680"/>
                <a:tab algn="l" pos="803160"/>
                <a:tab algn="l" pos="1252440"/>
                <a:tab algn="l" pos="1701720"/>
                <a:tab algn="l" pos="2151000"/>
                <a:tab algn="l" pos="2600280"/>
                <a:tab algn="l" pos="3049560"/>
                <a:tab algn="l" pos="3498840"/>
                <a:tab algn="l" pos="3948120"/>
                <a:tab algn="l" pos="4397400"/>
                <a:tab algn="l" pos="4846680"/>
                <a:tab algn="l" pos="5295960"/>
                <a:tab algn="l" pos="5745240"/>
                <a:tab algn="l" pos="6194520"/>
                <a:tab algn="l" pos="6643800"/>
                <a:tab algn="l" pos="7093080"/>
                <a:tab algn="l" pos="7542360"/>
                <a:tab algn="l" pos="7991640"/>
                <a:tab algn="l" pos="8440560"/>
                <a:tab algn="l" pos="8889840"/>
                <a:tab algn="l" pos="9339120"/>
                <a:tab algn="l" pos="9434520"/>
                <a:tab algn="l" pos="9883800"/>
                <a:tab algn="l" pos="10333080"/>
                <a:tab algn="l" pos="10782360"/>
              </a:tabLst>
            </a:pPr>
            <a:r>
              <a:rPr b="1" lang="en-AU" sz="4800" spc="-1" strike="noStrike">
                <a:solidFill>
                  <a:srgbClr val="ffffff"/>
                </a:solidFill>
                <a:latin typeface="Calibri"/>
                <a:ea typeface="Lucida Sans Unicode"/>
              </a:rPr>
              <a:t>It's Your Blood that </a:t>
            </a:r>
            <a:endParaRPr b="0" lang="en-US" sz="4800" spc="-1" strike="noStrike">
              <a:solidFill>
                <a:srgbClr val="ffffff"/>
              </a:solidFill>
              <a:latin typeface="Arial"/>
            </a:endParaRPr>
          </a:p>
          <a:p>
            <a:pPr marL="355680" indent="-351000" algn="ctr">
              <a:lnSpc>
                <a:spcPct val="100000"/>
              </a:lnSpc>
              <a:spcBef>
                <a:spcPts val="499"/>
              </a:spcBef>
              <a:tabLst>
                <a:tab algn="l" pos="0"/>
                <a:tab algn="l" pos="355680"/>
                <a:tab algn="l" pos="803160"/>
                <a:tab algn="l" pos="1252440"/>
                <a:tab algn="l" pos="1701720"/>
                <a:tab algn="l" pos="2151000"/>
                <a:tab algn="l" pos="2600280"/>
                <a:tab algn="l" pos="3049560"/>
                <a:tab algn="l" pos="3498840"/>
                <a:tab algn="l" pos="3948120"/>
                <a:tab algn="l" pos="4397400"/>
                <a:tab algn="l" pos="4846680"/>
                <a:tab algn="l" pos="5295960"/>
                <a:tab algn="l" pos="5745240"/>
                <a:tab algn="l" pos="6194520"/>
                <a:tab algn="l" pos="6643800"/>
                <a:tab algn="l" pos="7093080"/>
                <a:tab algn="l" pos="7542360"/>
                <a:tab algn="l" pos="7991640"/>
                <a:tab algn="l" pos="8440560"/>
                <a:tab algn="l" pos="8889840"/>
                <a:tab algn="l" pos="9339120"/>
                <a:tab algn="l" pos="9434520"/>
                <a:tab algn="l" pos="9883800"/>
                <a:tab algn="l" pos="10333080"/>
                <a:tab algn="l" pos="10782360"/>
              </a:tabLst>
            </a:pPr>
            <a:r>
              <a:rPr b="1" lang="en-AU" sz="4800" spc="-1" strike="noStrike">
                <a:solidFill>
                  <a:srgbClr val="ffffff"/>
                </a:solidFill>
                <a:latin typeface="Calibri"/>
                <a:ea typeface="Lucida Sans Unicode"/>
              </a:rPr>
              <a:t>took my place</a:t>
            </a:r>
            <a:endParaRPr b="0" lang="en-US" sz="4800" spc="-1" strike="noStrike">
              <a:solidFill>
                <a:srgbClr val="ffffff"/>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7" name=""/>
          <p:cNvSpPr/>
          <p:nvPr/>
        </p:nvSpPr>
        <p:spPr>
          <a:xfrm>
            <a:off x="457200" y="981000"/>
            <a:ext cx="8229600" cy="4845240"/>
          </a:xfrm>
          <a:prstGeom prst="rect">
            <a:avLst/>
          </a:prstGeom>
          <a:noFill/>
          <a:ln w="0">
            <a:noFill/>
          </a:ln>
        </p:spPr>
        <p:style>
          <a:lnRef idx="0"/>
          <a:fillRef idx="0"/>
          <a:effectRef idx="0"/>
          <a:fontRef idx="minor"/>
        </p:style>
        <p:txBody>
          <a:bodyPr anchor="t">
            <a:noAutofit/>
          </a:bodyPr>
          <a:p>
            <a:pPr marL="355680" indent="-351000" algn="ctr">
              <a:lnSpc>
                <a:spcPct val="100000"/>
              </a:lnSpc>
              <a:spcBef>
                <a:spcPts val="499"/>
              </a:spcBef>
              <a:tabLst>
                <a:tab algn="l" pos="0"/>
                <a:tab algn="l" pos="355680"/>
                <a:tab algn="l" pos="803160"/>
                <a:tab algn="l" pos="1252440"/>
                <a:tab algn="l" pos="1701720"/>
                <a:tab algn="l" pos="2151000"/>
                <a:tab algn="l" pos="2600280"/>
                <a:tab algn="l" pos="3049560"/>
                <a:tab algn="l" pos="3498840"/>
                <a:tab algn="l" pos="3948120"/>
                <a:tab algn="l" pos="4397400"/>
                <a:tab algn="l" pos="4846680"/>
                <a:tab algn="l" pos="5295960"/>
                <a:tab algn="l" pos="5745240"/>
                <a:tab algn="l" pos="6194520"/>
                <a:tab algn="l" pos="6643800"/>
                <a:tab algn="l" pos="7093080"/>
                <a:tab algn="l" pos="7542360"/>
                <a:tab algn="l" pos="7991640"/>
                <a:tab algn="l" pos="8440560"/>
                <a:tab algn="l" pos="8889840"/>
                <a:tab algn="l" pos="9339120"/>
                <a:tab algn="l" pos="9434520"/>
                <a:tab algn="l" pos="9883800"/>
                <a:tab algn="l" pos="10333080"/>
                <a:tab algn="l" pos="10782360"/>
              </a:tabLst>
            </a:pPr>
            <a:r>
              <a:rPr b="1" lang="en-AU" sz="4800" spc="-1" strike="noStrike">
                <a:solidFill>
                  <a:srgbClr val="ffffff"/>
                </a:solidFill>
                <a:latin typeface="Calibri"/>
                <a:ea typeface="Lucida Sans Unicode"/>
              </a:rPr>
              <a:t>In redeeming sacrifice</a:t>
            </a:r>
            <a:endParaRPr b="0" lang="en-US" sz="4800" spc="-1" strike="noStrike">
              <a:solidFill>
                <a:srgbClr val="ffffff"/>
              </a:solidFill>
              <a:latin typeface="Arial"/>
            </a:endParaRPr>
          </a:p>
          <a:p>
            <a:pPr marL="355680" indent="-351000" algn="ctr">
              <a:lnSpc>
                <a:spcPct val="100000"/>
              </a:lnSpc>
              <a:spcBef>
                <a:spcPts val="499"/>
              </a:spcBef>
              <a:tabLst>
                <a:tab algn="l" pos="0"/>
                <a:tab algn="l" pos="355680"/>
                <a:tab algn="l" pos="803160"/>
                <a:tab algn="l" pos="1252440"/>
                <a:tab algn="l" pos="1701720"/>
                <a:tab algn="l" pos="2151000"/>
                <a:tab algn="l" pos="2600280"/>
                <a:tab algn="l" pos="3049560"/>
                <a:tab algn="l" pos="3498840"/>
                <a:tab algn="l" pos="3948120"/>
                <a:tab algn="l" pos="4397400"/>
                <a:tab algn="l" pos="4846680"/>
                <a:tab algn="l" pos="5295960"/>
                <a:tab algn="l" pos="5745240"/>
                <a:tab algn="l" pos="6194520"/>
                <a:tab algn="l" pos="6643800"/>
                <a:tab algn="l" pos="7093080"/>
                <a:tab algn="l" pos="7542360"/>
                <a:tab algn="l" pos="7991640"/>
                <a:tab algn="l" pos="8440560"/>
                <a:tab algn="l" pos="8889840"/>
                <a:tab algn="l" pos="9339120"/>
                <a:tab algn="l" pos="9434520"/>
                <a:tab algn="l" pos="9883800"/>
                <a:tab algn="l" pos="10333080"/>
                <a:tab algn="l" pos="10782360"/>
              </a:tabLst>
            </a:pPr>
            <a:r>
              <a:rPr b="1" lang="en-AU" sz="4800" spc="-1" strike="noStrike">
                <a:solidFill>
                  <a:srgbClr val="ffffff"/>
                </a:solidFill>
                <a:latin typeface="Calibri"/>
                <a:ea typeface="Lucida Sans Unicode"/>
              </a:rPr>
              <a:t>And washes me,</a:t>
            </a:r>
            <a:endParaRPr b="0" lang="en-US" sz="4800" spc="-1" strike="noStrike">
              <a:solidFill>
                <a:srgbClr val="ffffff"/>
              </a:solidFill>
              <a:latin typeface="Arial"/>
            </a:endParaRPr>
          </a:p>
          <a:p>
            <a:pPr marL="355680" indent="-351000" algn="ctr">
              <a:lnSpc>
                <a:spcPct val="100000"/>
              </a:lnSpc>
              <a:spcBef>
                <a:spcPts val="499"/>
              </a:spcBef>
              <a:tabLst>
                <a:tab algn="l" pos="0"/>
                <a:tab algn="l" pos="355680"/>
                <a:tab algn="l" pos="803160"/>
                <a:tab algn="l" pos="1252440"/>
                <a:tab algn="l" pos="1701720"/>
                <a:tab algn="l" pos="2151000"/>
                <a:tab algn="l" pos="2600280"/>
                <a:tab algn="l" pos="3049560"/>
                <a:tab algn="l" pos="3498840"/>
                <a:tab algn="l" pos="3948120"/>
                <a:tab algn="l" pos="4397400"/>
                <a:tab algn="l" pos="4846680"/>
                <a:tab algn="l" pos="5295960"/>
                <a:tab algn="l" pos="5745240"/>
                <a:tab algn="l" pos="6194520"/>
                <a:tab algn="l" pos="6643800"/>
                <a:tab algn="l" pos="7093080"/>
                <a:tab algn="l" pos="7542360"/>
                <a:tab algn="l" pos="7991640"/>
                <a:tab algn="l" pos="8440560"/>
                <a:tab algn="l" pos="8889840"/>
                <a:tab algn="l" pos="9339120"/>
                <a:tab algn="l" pos="9434520"/>
                <a:tab algn="l" pos="9883800"/>
                <a:tab algn="l" pos="10333080"/>
                <a:tab algn="l" pos="10782360"/>
              </a:tabLst>
            </a:pPr>
            <a:r>
              <a:rPr b="1" lang="en-AU" sz="4800" spc="-1" strike="noStrike">
                <a:solidFill>
                  <a:srgbClr val="ffffff"/>
                </a:solidFill>
                <a:latin typeface="Calibri"/>
                <a:ea typeface="Lucida Sans Unicode"/>
              </a:rPr>
              <a:t>Whiter than the snow, </a:t>
            </a:r>
            <a:endParaRPr b="0" lang="en-US" sz="4800" spc="-1" strike="noStrike">
              <a:solidFill>
                <a:srgbClr val="ffffff"/>
              </a:solidFill>
              <a:latin typeface="Arial"/>
            </a:endParaRPr>
          </a:p>
          <a:p>
            <a:pPr marL="355680" indent="-351000" algn="ctr">
              <a:lnSpc>
                <a:spcPct val="100000"/>
              </a:lnSpc>
              <a:spcBef>
                <a:spcPts val="499"/>
              </a:spcBef>
              <a:tabLst>
                <a:tab algn="l" pos="0"/>
                <a:tab algn="l" pos="355680"/>
                <a:tab algn="l" pos="803160"/>
                <a:tab algn="l" pos="1252440"/>
                <a:tab algn="l" pos="1701720"/>
                <a:tab algn="l" pos="2151000"/>
                <a:tab algn="l" pos="2600280"/>
                <a:tab algn="l" pos="3049560"/>
                <a:tab algn="l" pos="3498840"/>
                <a:tab algn="l" pos="3948120"/>
                <a:tab algn="l" pos="4397400"/>
                <a:tab algn="l" pos="4846680"/>
                <a:tab algn="l" pos="5295960"/>
                <a:tab algn="l" pos="5745240"/>
                <a:tab algn="l" pos="6194520"/>
                <a:tab algn="l" pos="6643800"/>
                <a:tab algn="l" pos="7093080"/>
                <a:tab algn="l" pos="7542360"/>
                <a:tab algn="l" pos="7991640"/>
                <a:tab algn="l" pos="8440560"/>
                <a:tab algn="l" pos="8889840"/>
                <a:tab algn="l" pos="9339120"/>
                <a:tab algn="l" pos="9434520"/>
                <a:tab algn="l" pos="9883800"/>
                <a:tab algn="l" pos="10333080"/>
                <a:tab algn="l" pos="10782360"/>
              </a:tabLst>
            </a:pPr>
            <a:r>
              <a:rPr b="1" lang="en-AU" sz="4800" spc="-1" strike="noStrike">
                <a:solidFill>
                  <a:srgbClr val="ffffff"/>
                </a:solidFill>
                <a:latin typeface="Calibri"/>
                <a:ea typeface="Lucida Sans Unicode"/>
              </a:rPr>
              <a:t>than the snow</a:t>
            </a:r>
            <a:endParaRPr b="0" lang="en-US" sz="4800" spc="-1" strike="noStrike">
              <a:solidFill>
                <a:srgbClr val="ffffff"/>
              </a:solidFill>
              <a:latin typeface="Arial"/>
            </a:endParaRPr>
          </a:p>
          <a:p>
            <a:pPr marL="355680" indent="-351000" algn="ctr">
              <a:lnSpc>
                <a:spcPct val="100000"/>
              </a:lnSpc>
              <a:spcBef>
                <a:spcPts val="499"/>
              </a:spcBef>
              <a:tabLst>
                <a:tab algn="l" pos="0"/>
                <a:tab algn="l" pos="355680"/>
                <a:tab algn="l" pos="803160"/>
                <a:tab algn="l" pos="1252440"/>
                <a:tab algn="l" pos="1701720"/>
                <a:tab algn="l" pos="2151000"/>
                <a:tab algn="l" pos="2600280"/>
                <a:tab algn="l" pos="3049560"/>
                <a:tab algn="l" pos="3498840"/>
                <a:tab algn="l" pos="3948120"/>
                <a:tab algn="l" pos="4397400"/>
                <a:tab algn="l" pos="4846680"/>
                <a:tab algn="l" pos="5295960"/>
                <a:tab algn="l" pos="5745240"/>
                <a:tab algn="l" pos="6194520"/>
                <a:tab algn="l" pos="6643800"/>
                <a:tab algn="l" pos="7093080"/>
                <a:tab algn="l" pos="7542360"/>
                <a:tab algn="l" pos="7991640"/>
                <a:tab algn="l" pos="8440560"/>
                <a:tab algn="l" pos="8889840"/>
                <a:tab algn="l" pos="9339120"/>
                <a:tab algn="l" pos="9434520"/>
                <a:tab algn="l" pos="9883800"/>
                <a:tab algn="l" pos="10333080"/>
                <a:tab algn="l" pos="10782360"/>
              </a:tabLst>
            </a:pPr>
            <a:r>
              <a:rPr b="1" lang="en-AU" sz="4800" spc="-1" strike="noStrike">
                <a:solidFill>
                  <a:srgbClr val="ffffff"/>
                </a:solidFill>
                <a:latin typeface="Calibri"/>
                <a:ea typeface="Lucida Sans Unicode"/>
              </a:rPr>
              <a:t>My Jesus, </a:t>
            </a:r>
            <a:endParaRPr b="0" lang="en-US" sz="4800" spc="-1" strike="noStrike">
              <a:solidFill>
                <a:srgbClr val="ffffff"/>
              </a:solidFill>
              <a:latin typeface="Arial"/>
            </a:endParaRPr>
          </a:p>
          <a:p>
            <a:pPr marL="355680" indent="-351000" algn="ctr">
              <a:lnSpc>
                <a:spcPct val="100000"/>
              </a:lnSpc>
              <a:spcBef>
                <a:spcPts val="499"/>
              </a:spcBef>
              <a:tabLst>
                <a:tab algn="l" pos="0"/>
                <a:tab algn="l" pos="355680"/>
                <a:tab algn="l" pos="803160"/>
                <a:tab algn="l" pos="1252440"/>
                <a:tab algn="l" pos="1701720"/>
                <a:tab algn="l" pos="2151000"/>
                <a:tab algn="l" pos="2600280"/>
                <a:tab algn="l" pos="3049560"/>
                <a:tab algn="l" pos="3498840"/>
                <a:tab algn="l" pos="3948120"/>
                <a:tab algn="l" pos="4397400"/>
                <a:tab algn="l" pos="4846680"/>
                <a:tab algn="l" pos="5295960"/>
                <a:tab algn="l" pos="5745240"/>
                <a:tab algn="l" pos="6194520"/>
                <a:tab algn="l" pos="6643800"/>
                <a:tab algn="l" pos="7093080"/>
                <a:tab algn="l" pos="7542360"/>
                <a:tab algn="l" pos="7991640"/>
                <a:tab algn="l" pos="8440560"/>
                <a:tab algn="l" pos="8889840"/>
                <a:tab algn="l" pos="9339120"/>
                <a:tab algn="l" pos="9434520"/>
                <a:tab algn="l" pos="9883800"/>
                <a:tab algn="l" pos="10333080"/>
                <a:tab algn="l" pos="10782360"/>
              </a:tabLst>
            </a:pPr>
            <a:r>
              <a:rPr b="1" lang="en-AU" sz="4800" spc="-1" strike="noStrike">
                <a:solidFill>
                  <a:srgbClr val="ffffff"/>
                </a:solidFill>
                <a:latin typeface="Calibri"/>
                <a:ea typeface="Lucida Sans Unicode"/>
              </a:rPr>
              <a:t>God's precious sacrifice</a:t>
            </a:r>
            <a:endParaRPr b="0" lang="en-US" sz="4800" spc="-1" strike="noStrike">
              <a:solidFill>
                <a:srgbClr val="ffffff"/>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 name=""/>
          <p:cNvSpPr/>
          <p:nvPr/>
        </p:nvSpPr>
        <p:spPr>
          <a:xfrm>
            <a:off x="685800" y="2349360"/>
            <a:ext cx="7772400" cy="19386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AU" sz="7200" spc="-1" strike="noStrike">
                <a:solidFill>
                  <a:srgbClr val="ffffff"/>
                </a:solidFill>
                <a:latin typeface="Calibri"/>
                <a:ea typeface="Lucida Sans Unicode"/>
              </a:rPr>
              <a:t>Nails</a:t>
            </a:r>
            <a:br>
              <a:rPr sz="7200"/>
            </a:br>
            <a:r>
              <a:rPr b="1" lang="en-AU" sz="4800" spc="-1" strike="noStrike">
                <a:solidFill>
                  <a:srgbClr val="ffffff"/>
                </a:solidFill>
                <a:latin typeface="Calibri"/>
                <a:ea typeface="Lucida Sans Unicode"/>
              </a:rPr>
              <a:t>(Isaiah 53:1-7)</a:t>
            </a:r>
            <a:endParaRPr b="0" lang="en-US" sz="4800" spc="-1" strike="noStrike">
              <a:solidFill>
                <a:srgbClr val="ffffff"/>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9" name=""/>
          <p:cNvSpPr/>
          <p:nvPr/>
        </p:nvSpPr>
        <p:spPr>
          <a:xfrm>
            <a:off x="755640" y="928800"/>
            <a:ext cx="7632720" cy="5197320"/>
          </a:xfrm>
          <a:prstGeom prst="rect">
            <a:avLst/>
          </a:prstGeom>
          <a:noFill/>
          <a:ln w="0">
            <a:noFill/>
          </a:ln>
        </p:spPr>
        <p:style>
          <a:lnRef idx="0"/>
          <a:fillRef idx="0"/>
          <a:effectRef idx="0"/>
          <a:fontRef idx="minor"/>
        </p:style>
        <p:txBody>
          <a:bodyPr anchor="t">
            <a:noAutofit/>
          </a:bodyPr>
          <a:p>
            <a:pPr marL="343080" indent="-338400">
              <a:lnSpc>
                <a:spcPct val="100000"/>
              </a:lnSpc>
              <a:spcBef>
                <a:spcPts val="10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en-AU" sz="4000" spc="-1" strike="noStrike">
                <a:solidFill>
                  <a:srgbClr val="ffffff"/>
                </a:solidFill>
                <a:latin typeface="Calibri"/>
                <a:ea typeface="Lucida Sans Unicode"/>
              </a:rPr>
              <a:t>Who has believed our message and to whom has the arm of the LORD been revealed? </a:t>
            </a:r>
            <a:endParaRPr b="0" lang="en-US" sz="4000" spc="-1" strike="noStrike">
              <a:solidFill>
                <a:srgbClr val="ffffff"/>
              </a:solidFill>
              <a:latin typeface="Arial"/>
            </a:endParaRPr>
          </a:p>
          <a:p>
            <a:pPr marL="343080" indent="-338400">
              <a:lnSpc>
                <a:spcPct val="100000"/>
              </a:lnSpc>
              <a:spcBef>
                <a:spcPts val="10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en-AU" sz="4000" spc="-1" strike="noStrike">
                <a:solidFill>
                  <a:srgbClr val="ffffff"/>
                </a:solidFill>
                <a:latin typeface="Calibri"/>
                <a:ea typeface="Lucida Sans Unicode"/>
              </a:rPr>
              <a:t>He grew up before him like a tender shoot, and like a root out of dry ground. </a:t>
            </a:r>
            <a:br>
              <a:rPr sz="4000"/>
            </a:br>
            <a:endParaRPr b="0" lang="en-US" sz="40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5" name=""/>
          <p:cNvSpPr/>
          <p:nvPr/>
        </p:nvSpPr>
        <p:spPr>
          <a:xfrm>
            <a:off x="685800" y="2228760"/>
            <a:ext cx="7772400" cy="19386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AU" sz="7200" spc="-1" strike="noStrike">
                <a:solidFill>
                  <a:srgbClr val="ffffff"/>
                </a:solidFill>
                <a:latin typeface="Calibri"/>
                <a:ea typeface="Lucida Sans Unicode"/>
              </a:rPr>
              <a:t>Rooster</a:t>
            </a:r>
            <a:br>
              <a:rPr sz="7200"/>
            </a:br>
            <a:r>
              <a:rPr b="1" lang="en-AU" sz="4800" spc="-1" strike="noStrike">
                <a:solidFill>
                  <a:srgbClr val="ffffff"/>
                </a:solidFill>
                <a:latin typeface="Calibri"/>
                <a:ea typeface="Lucida Sans Unicode"/>
              </a:rPr>
              <a:t>(Mark 14:66-72)</a:t>
            </a:r>
            <a:endParaRPr b="0" lang="en-US" sz="4800" spc="-1" strike="noStrike">
              <a:solidFill>
                <a:srgbClr val="ffffff"/>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0" name=""/>
          <p:cNvSpPr/>
          <p:nvPr/>
        </p:nvSpPr>
        <p:spPr>
          <a:xfrm>
            <a:off x="755640" y="928800"/>
            <a:ext cx="7632720" cy="5221080"/>
          </a:xfrm>
          <a:prstGeom prst="rect">
            <a:avLst/>
          </a:prstGeom>
          <a:noFill/>
          <a:ln w="0">
            <a:noFill/>
          </a:ln>
        </p:spPr>
        <p:style>
          <a:lnRef idx="0"/>
          <a:fillRef idx="0"/>
          <a:effectRef idx="0"/>
          <a:fontRef idx="minor"/>
        </p:style>
        <p:txBody>
          <a:bodyPr anchor="t">
            <a:noAutofit/>
          </a:bodyPr>
          <a:p>
            <a:pPr marL="343080" indent="-338400">
              <a:lnSpc>
                <a:spcPct val="100000"/>
              </a:lnSpc>
              <a:spcBef>
                <a:spcPts val="1001"/>
              </a:spcBef>
              <a:tabLst>
                <a:tab algn="l" pos="0"/>
                <a:tab algn="l" pos="343080"/>
                <a:tab algn="l" pos="909720"/>
                <a:tab algn="l" pos="1824120"/>
                <a:tab algn="l" pos="2738520"/>
                <a:tab algn="l" pos="3652920"/>
                <a:tab algn="l" pos="4567320"/>
                <a:tab algn="l" pos="5481720"/>
                <a:tab algn="l" pos="6396120"/>
                <a:tab algn="l" pos="7310520"/>
                <a:tab algn="l" pos="8224920"/>
                <a:tab algn="l" pos="9139320"/>
                <a:tab algn="l" pos="10053720"/>
                <a:tab algn="l" pos="10329840"/>
                <a:tab algn="l" pos="10779120"/>
                <a:tab algn="l" pos="10780560"/>
                <a:tab algn="l" pos="10782360"/>
              </a:tabLst>
            </a:pPr>
            <a:r>
              <a:rPr b="0" lang="en-AU" sz="4000" spc="-1" strike="noStrike">
                <a:solidFill>
                  <a:srgbClr val="ffffff"/>
                </a:solidFill>
                <a:latin typeface="Calibri"/>
                <a:ea typeface="Lucida Sans Unicode"/>
              </a:rPr>
              <a:t>He had no beauty or majesty to attract us to him, nothing in his appearance that we </a:t>
            </a:r>
            <a:r>
              <a:rPr b="0" lang="en-AU" sz="4000" spc="-1" strike="noStrike">
                <a:solidFill>
                  <a:srgbClr val="ffffff"/>
                </a:solidFill>
                <a:latin typeface="Calibri"/>
                <a:ea typeface="Lucida Sans Unicode"/>
              </a:rPr>
              <a:t>	</a:t>
            </a:r>
            <a:r>
              <a:rPr b="0" lang="en-AU" sz="4000" spc="-1" strike="noStrike">
                <a:solidFill>
                  <a:srgbClr val="ffffff"/>
                </a:solidFill>
                <a:latin typeface="Calibri"/>
                <a:ea typeface="Lucida Sans Unicode"/>
              </a:rPr>
              <a:t>should desire him. </a:t>
            </a:r>
            <a:endParaRPr b="0" lang="en-US" sz="4000" spc="-1" strike="noStrike">
              <a:solidFill>
                <a:srgbClr val="ffffff"/>
              </a:solidFill>
              <a:latin typeface="Arial"/>
            </a:endParaRPr>
          </a:p>
          <a:p>
            <a:pPr marL="343080" indent="-338400">
              <a:lnSpc>
                <a:spcPct val="100000"/>
              </a:lnSpc>
              <a:spcBef>
                <a:spcPts val="1001"/>
              </a:spcBef>
              <a:tabLst>
                <a:tab algn="l" pos="0"/>
                <a:tab algn="l" pos="343080"/>
                <a:tab algn="l" pos="909720"/>
                <a:tab algn="l" pos="1824120"/>
                <a:tab algn="l" pos="2738520"/>
                <a:tab algn="l" pos="3652920"/>
                <a:tab algn="l" pos="4567320"/>
                <a:tab algn="l" pos="5481720"/>
                <a:tab algn="l" pos="6396120"/>
                <a:tab algn="l" pos="7310520"/>
                <a:tab algn="l" pos="8224920"/>
                <a:tab algn="l" pos="9139320"/>
                <a:tab algn="l" pos="10053720"/>
                <a:tab algn="l" pos="10329840"/>
                <a:tab algn="l" pos="10779120"/>
                <a:tab algn="l" pos="10780560"/>
                <a:tab algn="l" pos="10782360"/>
              </a:tabLst>
            </a:pPr>
            <a:r>
              <a:rPr b="0" lang="en-AU" sz="4000" spc="-1" strike="noStrike">
                <a:solidFill>
                  <a:srgbClr val="ffffff"/>
                </a:solidFill>
                <a:latin typeface="Calibri"/>
                <a:ea typeface="Lucida Sans Unicode"/>
              </a:rPr>
              <a:t>He was despised and rejected by mankind, a man of suffering, and familiar with pain. </a:t>
            </a:r>
            <a:endParaRPr b="0" lang="en-US" sz="4000" spc="-1" strike="noStrike">
              <a:solidFill>
                <a:srgbClr val="ffffff"/>
              </a:solidFill>
              <a:latin typeface="Arial"/>
            </a:endParaRPr>
          </a:p>
          <a:p>
            <a:pPr marL="343080" indent="-338400">
              <a:lnSpc>
                <a:spcPct val="100000"/>
              </a:lnSpc>
              <a:spcBef>
                <a:spcPts val="1001"/>
              </a:spcBef>
              <a:tabLst>
                <a:tab algn="l" pos="0"/>
                <a:tab algn="l" pos="343080"/>
                <a:tab algn="l" pos="909720"/>
                <a:tab algn="l" pos="1824120"/>
                <a:tab algn="l" pos="2738520"/>
                <a:tab algn="l" pos="3652920"/>
                <a:tab algn="l" pos="4567320"/>
                <a:tab algn="l" pos="5481720"/>
                <a:tab algn="l" pos="6396120"/>
                <a:tab algn="l" pos="7310520"/>
                <a:tab algn="l" pos="8224920"/>
                <a:tab algn="l" pos="9139320"/>
                <a:tab algn="l" pos="10053720"/>
                <a:tab algn="l" pos="10329840"/>
                <a:tab algn="l" pos="10779120"/>
                <a:tab algn="l" pos="10780560"/>
                <a:tab algn="l" pos="10782360"/>
              </a:tabLst>
            </a:pPr>
            <a:endParaRPr b="0" lang="en-US" sz="4000" spc="-1" strike="noStrike">
              <a:solidFill>
                <a:srgbClr val="ffffff"/>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1" name=""/>
          <p:cNvSpPr/>
          <p:nvPr/>
        </p:nvSpPr>
        <p:spPr>
          <a:xfrm>
            <a:off x="457200" y="1071720"/>
            <a:ext cx="8229600" cy="5054400"/>
          </a:xfrm>
          <a:prstGeom prst="rect">
            <a:avLst/>
          </a:prstGeom>
          <a:noFill/>
          <a:ln w="0">
            <a:noFill/>
          </a:ln>
        </p:spPr>
        <p:style>
          <a:lnRef idx="0"/>
          <a:fillRef idx="0"/>
          <a:effectRef idx="0"/>
          <a:fontRef idx="minor"/>
        </p:style>
        <p:txBody>
          <a:bodyPr anchor="t">
            <a:noAutofit/>
          </a:bodyPr>
          <a:p>
            <a:pPr marL="343080" indent="-338400">
              <a:lnSpc>
                <a:spcPct val="100000"/>
              </a:lnSpc>
              <a:spcBef>
                <a:spcPts val="10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en-AU" sz="4000" spc="-1" strike="noStrike">
                <a:solidFill>
                  <a:srgbClr val="ffffff"/>
                </a:solidFill>
                <a:latin typeface="Calibri"/>
                <a:ea typeface="Lucida Sans Unicode"/>
              </a:rPr>
              <a:t>Like one from whom people hide their faces he was despised, and we held him in low esteem.</a:t>
            </a:r>
            <a:endParaRPr b="0" lang="en-US" sz="4000" spc="-1" strike="noStrike">
              <a:solidFill>
                <a:srgbClr val="ffffff"/>
              </a:solidFill>
              <a:latin typeface="Arial"/>
            </a:endParaRPr>
          </a:p>
          <a:p>
            <a:pPr marL="343080" indent="-338400">
              <a:lnSpc>
                <a:spcPct val="100000"/>
              </a:lnSpc>
              <a:spcBef>
                <a:spcPts val="10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en-AU" sz="4000" spc="-1" strike="noStrike">
                <a:solidFill>
                  <a:srgbClr val="ffffff"/>
                </a:solidFill>
                <a:latin typeface="Calibri"/>
                <a:ea typeface="Lucida Sans Unicode"/>
              </a:rPr>
              <a:t>Surely he took up our pain and bore our suffering, </a:t>
            </a:r>
            <a:br>
              <a:rPr sz="4000"/>
            </a:br>
            <a:r>
              <a:rPr b="0" lang="en-AU" sz="4000" spc="-1" strike="noStrike">
                <a:solidFill>
                  <a:srgbClr val="ffffff"/>
                </a:solidFill>
                <a:latin typeface="Calibri"/>
                <a:ea typeface="Lucida Sans Unicode"/>
              </a:rPr>
              <a:t>Yet we considered him punished by God, stricken by him, and afflicted.</a:t>
            </a:r>
            <a:endParaRPr b="0" lang="en-US" sz="4000" spc="-1" strike="noStrike">
              <a:solidFill>
                <a:srgbClr val="ffffff"/>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 name=""/>
          <p:cNvSpPr/>
          <p:nvPr/>
        </p:nvSpPr>
        <p:spPr>
          <a:xfrm>
            <a:off x="457200" y="1071720"/>
            <a:ext cx="8229600" cy="5054400"/>
          </a:xfrm>
          <a:prstGeom prst="rect">
            <a:avLst/>
          </a:prstGeom>
          <a:noFill/>
          <a:ln w="0">
            <a:noFill/>
          </a:ln>
        </p:spPr>
        <p:style>
          <a:lnRef idx="0"/>
          <a:fillRef idx="0"/>
          <a:effectRef idx="0"/>
          <a:fontRef idx="minor"/>
        </p:style>
        <p:txBody>
          <a:bodyPr anchor="t">
            <a:noAutofit/>
          </a:bodyPr>
          <a:p>
            <a:pPr marL="343080" indent="-338400">
              <a:lnSpc>
                <a:spcPct val="100000"/>
              </a:lnSpc>
              <a:spcBef>
                <a:spcPts val="10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en-AU" sz="4000" spc="-1" strike="noStrike">
                <a:solidFill>
                  <a:srgbClr val="ffffff"/>
                </a:solidFill>
                <a:latin typeface="Calibri"/>
                <a:ea typeface="Lucida Sans Unicode"/>
              </a:rPr>
              <a:t>But he was pierced for our transgressions, he was crushed for our iniquities;</a:t>
            </a:r>
            <a:endParaRPr b="0" lang="en-US" sz="4000" spc="-1" strike="noStrike">
              <a:solidFill>
                <a:srgbClr val="ffffff"/>
              </a:solidFill>
              <a:latin typeface="Arial"/>
            </a:endParaRPr>
          </a:p>
          <a:p>
            <a:pPr marL="343080" indent="-338400">
              <a:lnSpc>
                <a:spcPct val="100000"/>
              </a:lnSpc>
              <a:spcBef>
                <a:spcPts val="10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en-AU" sz="4000" spc="-1" strike="noStrike">
                <a:solidFill>
                  <a:srgbClr val="ffffff"/>
                </a:solidFill>
                <a:latin typeface="Calibri"/>
                <a:ea typeface="Lucida Sans Unicode"/>
              </a:rPr>
              <a:t>The punishment that brought us peace was on him, and by his wounds we are healed.</a:t>
            </a:r>
            <a:endParaRPr b="0" lang="en-US" sz="4000" spc="-1" strike="noStrike">
              <a:solidFill>
                <a:srgbClr val="ffffff"/>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3" name=""/>
          <p:cNvSpPr/>
          <p:nvPr/>
        </p:nvSpPr>
        <p:spPr>
          <a:xfrm>
            <a:off x="457200" y="941400"/>
            <a:ext cx="8229600" cy="4000320"/>
          </a:xfrm>
          <a:prstGeom prst="rect">
            <a:avLst/>
          </a:prstGeom>
          <a:noFill/>
          <a:ln w="0">
            <a:noFill/>
          </a:ln>
        </p:spPr>
        <p:style>
          <a:lnRef idx="0"/>
          <a:fillRef idx="0"/>
          <a:effectRef idx="0"/>
          <a:fontRef idx="minor"/>
        </p:style>
        <p:txBody>
          <a:bodyPr anchor="t">
            <a:noAutofit/>
          </a:bodyPr>
          <a:p>
            <a:pPr marL="343080" indent="-338400">
              <a:lnSpc>
                <a:spcPct val="100000"/>
              </a:lnSpc>
              <a:spcBef>
                <a:spcPts val="10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en-AU" sz="4000" spc="-1" strike="noStrike">
                <a:solidFill>
                  <a:srgbClr val="ffffff"/>
                </a:solidFill>
                <a:latin typeface="Calibri"/>
                <a:ea typeface="Lucida Sans Unicode"/>
              </a:rPr>
              <a:t>We all, like sheep, have gone astray, </a:t>
            </a:r>
            <a:br>
              <a:rPr sz="4000"/>
            </a:br>
            <a:r>
              <a:rPr b="0" lang="en-AU" sz="4000" spc="-1" strike="noStrike">
                <a:solidFill>
                  <a:srgbClr val="ffffff"/>
                </a:solidFill>
                <a:latin typeface="Calibri"/>
                <a:ea typeface="Lucida Sans Unicode"/>
              </a:rPr>
              <a:t>each of us has turned to our own way;</a:t>
            </a:r>
            <a:endParaRPr b="0" lang="en-US" sz="4000" spc="-1" strike="noStrike">
              <a:solidFill>
                <a:srgbClr val="ffffff"/>
              </a:solidFill>
              <a:latin typeface="Arial"/>
            </a:endParaRPr>
          </a:p>
          <a:p>
            <a:pPr marL="343080" indent="-338400">
              <a:lnSpc>
                <a:spcPct val="100000"/>
              </a:lnSpc>
              <a:spcBef>
                <a:spcPts val="10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en-AU" sz="4000" spc="-1" strike="noStrike">
                <a:solidFill>
                  <a:srgbClr val="ffffff"/>
                </a:solidFill>
                <a:latin typeface="Calibri"/>
                <a:ea typeface="Lucida Sans Unicode"/>
              </a:rPr>
              <a:t>And the LORD has laid on him </a:t>
            </a:r>
            <a:br>
              <a:rPr sz="4000"/>
            </a:br>
            <a:r>
              <a:rPr b="0" lang="en-AU" sz="4000" spc="-1" strike="noStrike">
                <a:solidFill>
                  <a:srgbClr val="ffffff"/>
                </a:solidFill>
                <a:latin typeface="Calibri"/>
                <a:ea typeface="Lucida Sans Unicode"/>
              </a:rPr>
              <a:t>the iniquity of us all.</a:t>
            </a:r>
            <a:endParaRPr b="0" lang="en-US" sz="4000" spc="-1" strike="noStrike">
              <a:solidFill>
                <a:srgbClr val="ffffff"/>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 name=""/>
          <p:cNvSpPr/>
          <p:nvPr/>
        </p:nvSpPr>
        <p:spPr>
          <a:xfrm>
            <a:off x="457200" y="1268280"/>
            <a:ext cx="8229600" cy="4611960"/>
          </a:xfrm>
          <a:prstGeom prst="rect">
            <a:avLst/>
          </a:prstGeom>
          <a:noFill/>
          <a:ln w="0">
            <a:noFill/>
          </a:ln>
        </p:spPr>
        <p:style>
          <a:lnRef idx="0"/>
          <a:fillRef idx="0"/>
          <a:effectRef idx="0"/>
          <a:fontRef idx="minor"/>
        </p:style>
        <p:txBody>
          <a:bodyPr anchor="t">
            <a:noAutofit/>
          </a:bodyPr>
          <a:p>
            <a:pPr marL="343080" indent="-338400">
              <a:lnSpc>
                <a:spcPct val="100000"/>
              </a:lnSpc>
              <a:spcBef>
                <a:spcPts val="10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en-AU" sz="4000" spc="-1" strike="noStrike">
                <a:solidFill>
                  <a:srgbClr val="ffffff"/>
                </a:solidFill>
                <a:latin typeface="Calibri"/>
                <a:ea typeface="Lucida Sans Unicode"/>
              </a:rPr>
              <a:t>He was oppressed and afflicted, </a:t>
            </a:r>
            <a:br>
              <a:rPr sz="4000"/>
            </a:br>
            <a:r>
              <a:rPr b="0" lang="en-AU" sz="4000" spc="-1" strike="noStrike">
                <a:solidFill>
                  <a:srgbClr val="ffffff"/>
                </a:solidFill>
                <a:latin typeface="Calibri"/>
                <a:ea typeface="Lucida Sans Unicode"/>
              </a:rPr>
              <a:t>yet he did not open his mouth; </a:t>
            </a:r>
            <a:endParaRPr b="0" lang="en-US" sz="4000" spc="-1" strike="noStrike">
              <a:solidFill>
                <a:srgbClr val="ffffff"/>
              </a:solidFill>
              <a:latin typeface="Arial"/>
            </a:endParaRPr>
          </a:p>
          <a:p>
            <a:pPr marL="343080" indent="-338400">
              <a:lnSpc>
                <a:spcPct val="100000"/>
              </a:lnSpc>
              <a:spcBef>
                <a:spcPts val="10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en-AU" sz="4000" spc="-1" strike="noStrike">
                <a:solidFill>
                  <a:srgbClr val="ffffff"/>
                </a:solidFill>
                <a:latin typeface="Calibri"/>
                <a:ea typeface="Lucida Sans Unicode"/>
              </a:rPr>
              <a:t>He was led like a lamb to the slaughter, </a:t>
            </a:r>
            <a:br>
              <a:rPr sz="4000"/>
            </a:br>
            <a:r>
              <a:rPr b="0" lang="en-AU" sz="4000" spc="-1" strike="noStrike">
                <a:solidFill>
                  <a:srgbClr val="ffffff"/>
                </a:solidFill>
                <a:latin typeface="Calibri"/>
                <a:ea typeface="Lucida Sans Unicode"/>
              </a:rPr>
              <a:t>and as a sheep before its shearers is silent, </a:t>
            </a:r>
            <a:endParaRPr b="0" lang="en-US" sz="4000" spc="-1" strike="noStrike">
              <a:solidFill>
                <a:srgbClr val="ffffff"/>
              </a:solidFill>
              <a:latin typeface="Arial"/>
            </a:endParaRPr>
          </a:p>
          <a:p>
            <a:pPr marL="343080" indent="-338400">
              <a:lnSpc>
                <a:spcPct val="100000"/>
              </a:lnSpc>
              <a:spcBef>
                <a:spcPts val="10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en-AU" sz="4000" spc="-1" strike="noStrike">
                <a:solidFill>
                  <a:srgbClr val="ffffff"/>
                </a:solidFill>
                <a:latin typeface="Calibri"/>
                <a:ea typeface="Lucida Sans Unicode"/>
              </a:rPr>
              <a:t>	</a:t>
            </a:r>
            <a:r>
              <a:rPr b="0" lang="en-AU" sz="4000" spc="-1" strike="noStrike">
                <a:solidFill>
                  <a:srgbClr val="ffffff"/>
                </a:solidFill>
                <a:latin typeface="Calibri"/>
                <a:ea typeface="Lucida Sans Unicode"/>
              </a:rPr>
              <a:t>So he did not open his mouth.</a:t>
            </a:r>
            <a:endParaRPr b="0" lang="en-US" sz="4000" spc="-1" strike="noStrike">
              <a:solidFill>
                <a:srgbClr val="ffffff"/>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5" name=""/>
          <p:cNvSpPr/>
          <p:nvPr/>
        </p:nvSpPr>
        <p:spPr>
          <a:xfrm>
            <a:off x="685800" y="2597040"/>
            <a:ext cx="7772400" cy="1201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AU" sz="7200" spc="-1" strike="noStrike">
                <a:solidFill>
                  <a:srgbClr val="ffffff"/>
                </a:solidFill>
                <a:latin typeface="Calibri"/>
                <a:ea typeface="Lucida Sans Unicode"/>
              </a:rPr>
              <a:t>Were you there…</a:t>
            </a:r>
            <a:endParaRPr b="0" lang="en-US" sz="7200" spc="-1" strike="noStrike">
              <a:solidFill>
                <a:srgbClr val="ffffff"/>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6" name=""/>
          <p:cNvSpPr/>
          <p:nvPr/>
        </p:nvSpPr>
        <p:spPr>
          <a:xfrm>
            <a:off x="457200" y="260280"/>
            <a:ext cx="8229600" cy="6257880"/>
          </a:xfrm>
          <a:prstGeom prst="rect">
            <a:avLst/>
          </a:prstGeom>
          <a:noFill/>
          <a:ln w="0">
            <a:noFill/>
          </a:ln>
        </p:spPr>
        <p:style>
          <a:lnRef idx="0"/>
          <a:fillRef idx="0"/>
          <a:effectRef idx="0"/>
          <a:fontRef idx="minor"/>
        </p:style>
        <p:txBody>
          <a:bodyPr anchor="t">
            <a:noAutofit/>
          </a:bodyPr>
          <a:p>
            <a:pPr marL="355680" indent="-351000" algn="ctr">
              <a:lnSpc>
                <a:spcPct val="100000"/>
              </a:lnSpc>
              <a:spcBef>
                <a:spcPts val="499"/>
              </a:spcBef>
              <a:tabLst>
                <a:tab algn="l" pos="0"/>
                <a:tab algn="l" pos="355680"/>
                <a:tab algn="l" pos="803160"/>
                <a:tab algn="l" pos="1252440"/>
                <a:tab algn="l" pos="1701720"/>
                <a:tab algn="l" pos="2151000"/>
                <a:tab algn="l" pos="2600280"/>
                <a:tab algn="l" pos="3049560"/>
                <a:tab algn="l" pos="3498840"/>
                <a:tab algn="l" pos="3948120"/>
                <a:tab algn="l" pos="4397400"/>
                <a:tab algn="l" pos="4846680"/>
                <a:tab algn="l" pos="5295960"/>
                <a:tab algn="l" pos="5745240"/>
                <a:tab algn="l" pos="6194520"/>
                <a:tab algn="l" pos="6643800"/>
                <a:tab algn="l" pos="7093080"/>
                <a:tab algn="l" pos="7542360"/>
                <a:tab algn="l" pos="7991640"/>
                <a:tab algn="l" pos="8440560"/>
                <a:tab algn="l" pos="8889840"/>
                <a:tab algn="l" pos="9339120"/>
                <a:tab algn="l" pos="9434520"/>
                <a:tab algn="l" pos="9883800"/>
                <a:tab algn="l" pos="10333080"/>
                <a:tab algn="l" pos="10782360"/>
              </a:tabLst>
            </a:pPr>
            <a:r>
              <a:rPr b="1" lang="en-AU" sz="4800" spc="-1" strike="noStrike">
                <a:solidFill>
                  <a:srgbClr val="ffffff"/>
                </a:solidFill>
                <a:latin typeface="Calibri"/>
                <a:ea typeface="Lucida Sans Unicode"/>
              </a:rPr>
              <a:t>Were you there when they crucified my Lord? </a:t>
            </a:r>
            <a:endParaRPr b="0" lang="en-US" sz="4800" spc="-1" strike="noStrike">
              <a:solidFill>
                <a:srgbClr val="ffffff"/>
              </a:solidFill>
              <a:latin typeface="Arial"/>
            </a:endParaRPr>
          </a:p>
          <a:p>
            <a:pPr marL="355680" indent="-351000" algn="ctr">
              <a:lnSpc>
                <a:spcPct val="100000"/>
              </a:lnSpc>
              <a:spcBef>
                <a:spcPts val="499"/>
              </a:spcBef>
              <a:tabLst>
                <a:tab algn="l" pos="0"/>
                <a:tab algn="l" pos="355680"/>
                <a:tab algn="l" pos="803160"/>
                <a:tab algn="l" pos="1252440"/>
                <a:tab algn="l" pos="1701720"/>
                <a:tab algn="l" pos="2151000"/>
                <a:tab algn="l" pos="2600280"/>
                <a:tab algn="l" pos="3049560"/>
                <a:tab algn="l" pos="3498840"/>
                <a:tab algn="l" pos="3948120"/>
                <a:tab algn="l" pos="4397400"/>
                <a:tab algn="l" pos="4846680"/>
                <a:tab algn="l" pos="5295960"/>
                <a:tab algn="l" pos="5745240"/>
                <a:tab algn="l" pos="6194520"/>
                <a:tab algn="l" pos="6643800"/>
                <a:tab algn="l" pos="7093080"/>
                <a:tab algn="l" pos="7542360"/>
                <a:tab algn="l" pos="7991640"/>
                <a:tab algn="l" pos="8440560"/>
                <a:tab algn="l" pos="8889840"/>
                <a:tab algn="l" pos="9339120"/>
                <a:tab algn="l" pos="9434520"/>
                <a:tab algn="l" pos="9883800"/>
                <a:tab algn="l" pos="10333080"/>
                <a:tab algn="l" pos="10782360"/>
              </a:tabLst>
            </a:pPr>
            <a:r>
              <a:rPr b="1" lang="en-AU" sz="4800" spc="-1" strike="noStrike">
                <a:solidFill>
                  <a:srgbClr val="ffffff"/>
                </a:solidFill>
                <a:latin typeface="Calibri"/>
                <a:ea typeface="Lucida Sans Unicode"/>
              </a:rPr>
              <a:t>Were you there when they crucified my Lord?</a:t>
            </a:r>
            <a:endParaRPr b="0" lang="en-US" sz="4800" spc="-1" strike="noStrike">
              <a:solidFill>
                <a:srgbClr val="ffffff"/>
              </a:solidFill>
              <a:latin typeface="Arial"/>
            </a:endParaRPr>
          </a:p>
          <a:p>
            <a:pPr marL="355680" indent="-351000" algn="ctr">
              <a:lnSpc>
                <a:spcPct val="100000"/>
              </a:lnSpc>
              <a:spcBef>
                <a:spcPts val="499"/>
              </a:spcBef>
              <a:tabLst>
                <a:tab algn="l" pos="0"/>
                <a:tab algn="l" pos="355680"/>
                <a:tab algn="l" pos="803160"/>
                <a:tab algn="l" pos="1252440"/>
                <a:tab algn="l" pos="1701720"/>
                <a:tab algn="l" pos="2151000"/>
                <a:tab algn="l" pos="2600280"/>
                <a:tab algn="l" pos="3049560"/>
                <a:tab algn="l" pos="3498840"/>
                <a:tab algn="l" pos="3948120"/>
                <a:tab algn="l" pos="4397400"/>
                <a:tab algn="l" pos="4846680"/>
                <a:tab algn="l" pos="5295960"/>
                <a:tab algn="l" pos="5745240"/>
                <a:tab algn="l" pos="6194520"/>
                <a:tab algn="l" pos="6643800"/>
                <a:tab algn="l" pos="7093080"/>
                <a:tab algn="l" pos="7542360"/>
                <a:tab algn="l" pos="7991640"/>
                <a:tab algn="l" pos="8440560"/>
                <a:tab algn="l" pos="8889840"/>
                <a:tab algn="l" pos="9339120"/>
                <a:tab algn="l" pos="9434520"/>
                <a:tab algn="l" pos="9883800"/>
                <a:tab algn="l" pos="10333080"/>
                <a:tab algn="l" pos="10782360"/>
              </a:tabLst>
            </a:pPr>
            <a:r>
              <a:rPr b="1" lang="en-AU" sz="4800" spc="-1" strike="noStrike">
                <a:solidFill>
                  <a:srgbClr val="ffffff"/>
                </a:solidFill>
                <a:latin typeface="Calibri"/>
                <a:ea typeface="Lucida Sans Unicode"/>
              </a:rPr>
              <a:t>Oh!  Sometimes it causes me to tremble, tremble, tremble</a:t>
            </a:r>
            <a:endParaRPr b="0" lang="en-US" sz="4800" spc="-1" strike="noStrike">
              <a:solidFill>
                <a:srgbClr val="ffffff"/>
              </a:solidFill>
              <a:latin typeface="Arial"/>
            </a:endParaRPr>
          </a:p>
          <a:p>
            <a:pPr marL="355680" indent="-351000" algn="ctr">
              <a:lnSpc>
                <a:spcPct val="100000"/>
              </a:lnSpc>
              <a:spcBef>
                <a:spcPts val="499"/>
              </a:spcBef>
              <a:tabLst>
                <a:tab algn="l" pos="0"/>
                <a:tab algn="l" pos="355680"/>
                <a:tab algn="l" pos="803160"/>
                <a:tab algn="l" pos="1252440"/>
                <a:tab algn="l" pos="1701720"/>
                <a:tab algn="l" pos="2151000"/>
                <a:tab algn="l" pos="2600280"/>
                <a:tab algn="l" pos="3049560"/>
                <a:tab algn="l" pos="3498840"/>
                <a:tab algn="l" pos="3948120"/>
                <a:tab algn="l" pos="4397400"/>
                <a:tab algn="l" pos="4846680"/>
                <a:tab algn="l" pos="5295960"/>
                <a:tab algn="l" pos="5745240"/>
                <a:tab algn="l" pos="6194520"/>
                <a:tab algn="l" pos="6643800"/>
                <a:tab algn="l" pos="7093080"/>
                <a:tab algn="l" pos="7542360"/>
                <a:tab algn="l" pos="7991640"/>
                <a:tab algn="l" pos="8440560"/>
                <a:tab algn="l" pos="8889840"/>
                <a:tab algn="l" pos="9339120"/>
                <a:tab algn="l" pos="9434520"/>
                <a:tab algn="l" pos="9883800"/>
                <a:tab algn="l" pos="10333080"/>
                <a:tab algn="l" pos="10782360"/>
              </a:tabLst>
            </a:pPr>
            <a:r>
              <a:rPr b="1" lang="en-AU" sz="4800" spc="-1" strike="noStrike">
                <a:solidFill>
                  <a:srgbClr val="ffffff"/>
                </a:solidFill>
                <a:latin typeface="Calibri"/>
                <a:ea typeface="Lucida Sans Unicode"/>
              </a:rPr>
              <a:t>Were you there when they </a:t>
            </a:r>
            <a:endParaRPr b="0" lang="en-US" sz="4800" spc="-1" strike="noStrike">
              <a:solidFill>
                <a:srgbClr val="ffffff"/>
              </a:solidFill>
              <a:latin typeface="Arial"/>
            </a:endParaRPr>
          </a:p>
          <a:p>
            <a:pPr marL="355680" indent="-351000" algn="ctr">
              <a:lnSpc>
                <a:spcPct val="100000"/>
              </a:lnSpc>
              <a:spcBef>
                <a:spcPts val="499"/>
              </a:spcBef>
              <a:tabLst>
                <a:tab algn="l" pos="0"/>
                <a:tab algn="l" pos="355680"/>
                <a:tab algn="l" pos="803160"/>
                <a:tab algn="l" pos="1252440"/>
                <a:tab algn="l" pos="1701720"/>
                <a:tab algn="l" pos="2151000"/>
                <a:tab algn="l" pos="2600280"/>
                <a:tab algn="l" pos="3049560"/>
                <a:tab algn="l" pos="3498840"/>
                <a:tab algn="l" pos="3948120"/>
                <a:tab algn="l" pos="4397400"/>
                <a:tab algn="l" pos="4846680"/>
                <a:tab algn="l" pos="5295960"/>
                <a:tab algn="l" pos="5745240"/>
                <a:tab algn="l" pos="6194520"/>
                <a:tab algn="l" pos="6643800"/>
                <a:tab algn="l" pos="7093080"/>
                <a:tab algn="l" pos="7542360"/>
                <a:tab algn="l" pos="7991640"/>
                <a:tab algn="l" pos="8440560"/>
                <a:tab algn="l" pos="8889840"/>
                <a:tab algn="l" pos="9339120"/>
                <a:tab algn="l" pos="9434520"/>
                <a:tab algn="l" pos="9883800"/>
                <a:tab algn="l" pos="10333080"/>
                <a:tab algn="l" pos="10782360"/>
              </a:tabLst>
            </a:pPr>
            <a:r>
              <a:rPr b="1" lang="en-AU" sz="4800" spc="-1" strike="noStrike">
                <a:solidFill>
                  <a:srgbClr val="ffffff"/>
                </a:solidFill>
                <a:latin typeface="Calibri"/>
                <a:ea typeface="Lucida Sans Unicode"/>
              </a:rPr>
              <a:t>crucified my Lord?</a:t>
            </a:r>
            <a:endParaRPr b="0" lang="en-US" sz="4800" spc="-1" strike="noStrike">
              <a:solidFill>
                <a:srgbClr val="ffffff"/>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7" name=""/>
          <p:cNvSpPr/>
          <p:nvPr/>
        </p:nvSpPr>
        <p:spPr>
          <a:xfrm>
            <a:off x="457200" y="260280"/>
            <a:ext cx="8229600" cy="6257880"/>
          </a:xfrm>
          <a:prstGeom prst="rect">
            <a:avLst/>
          </a:prstGeom>
          <a:noFill/>
          <a:ln w="0">
            <a:noFill/>
          </a:ln>
        </p:spPr>
        <p:style>
          <a:lnRef idx="0"/>
          <a:fillRef idx="0"/>
          <a:effectRef idx="0"/>
          <a:fontRef idx="minor"/>
        </p:style>
        <p:txBody>
          <a:bodyPr anchor="t">
            <a:noAutofit/>
          </a:bodyPr>
          <a:p>
            <a:pPr marL="355680" indent="-351000" algn="ctr">
              <a:lnSpc>
                <a:spcPct val="100000"/>
              </a:lnSpc>
              <a:spcBef>
                <a:spcPts val="499"/>
              </a:spcBef>
              <a:tabLst>
                <a:tab algn="l" pos="0"/>
                <a:tab algn="l" pos="355680"/>
                <a:tab algn="l" pos="803160"/>
                <a:tab algn="l" pos="1252440"/>
                <a:tab algn="l" pos="1701720"/>
                <a:tab algn="l" pos="2151000"/>
                <a:tab algn="l" pos="2600280"/>
                <a:tab algn="l" pos="3049560"/>
                <a:tab algn="l" pos="3498840"/>
                <a:tab algn="l" pos="3948120"/>
                <a:tab algn="l" pos="4397400"/>
                <a:tab algn="l" pos="4846680"/>
                <a:tab algn="l" pos="5295960"/>
                <a:tab algn="l" pos="5745240"/>
                <a:tab algn="l" pos="6194520"/>
                <a:tab algn="l" pos="6643800"/>
                <a:tab algn="l" pos="7093080"/>
                <a:tab algn="l" pos="7542360"/>
                <a:tab algn="l" pos="7991640"/>
                <a:tab algn="l" pos="8440560"/>
                <a:tab algn="l" pos="8889840"/>
                <a:tab algn="l" pos="9339120"/>
                <a:tab algn="l" pos="9434520"/>
                <a:tab algn="l" pos="9883800"/>
                <a:tab algn="l" pos="10333080"/>
                <a:tab algn="l" pos="10782360"/>
              </a:tabLst>
            </a:pPr>
            <a:r>
              <a:rPr b="1" lang="en-AU" sz="4800" spc="-1" strike="noStrike">
                <a:solidFill>
                  <a:srgbClr val="ffffff"/>
                </a:solidFill>
                <a:latin typeface="Calibri"/>
                <a:ea typeface="Lucida Sans Unicode"/>
              </a:rPr>
              <a:t>Were you there when they nailed him to the tree?</a:t>
            </a:r>
            <a:endParaRPr b="0" lang="en-US" sz="4800" spc="-1" strike="noStrike">
              <a:solidFill>
                <a:srgbClr val="ffffff"/>
              </a:solidFill>
              <a:latin typeface="Arial"/>
            </a:endParaRPr>
          </a:p>
          <a:p>
            <a:pPr marL="355680" indent="-351000" algn="ctr">
              <a:lnSpc>
                <a:spcPct val="100000"/>
              </a:lnSpc>
              <a:spcBef>
                <a:spcPts val="499"/>
              </a:spcBef>
              <a:tabLst>
                <a:tab algn="l" pos="0"/>
                <a:tab algn="l" pos="355680"/>
                <a:tab algn="l" pos="803160"/>
                <a:tab algn="l" pos="1252440"/>
                <a:tab algn="l" pos="1701720"/>
                <a:tab algn="l" pos="2151000"/>
                <a:tab algn="l" pos="2600280"/>
                <a:tab algn="l" pos="3049560"/>
                <a:tab algn="l" pos="3498840"/>
                <a:tab algn="l" pos="3948120"/>
                <a:tab algn="l" pos="4397400"/>
                <a:tab algn="l" pos="4846680"/>
                <a:tab algn="l" pos="5295960"/>
                <a:tab algn="l" pos="5745240"/>
                <a:tab algn="l" pos="6194520"/>
                <a:tab algn="l" pos="6643800"/>
                <a:tab algn="l" pos="7093080"/>
                <a:tab algn="l" pos="7542360"/>
                <a:tab algn="l" pos="7991640"/>
                <a:tab algn="l" pos="8440560"/>
                <a:tab algn="l" pos="8889840"/>
                <a:tab algn="l" pos="9339120"/>
                <a:tab algn="l" pos="9434520"/>
                <a:tab algn="l" pos="9883800"/>
                <a:tab algn="l" pos="10333080"/>
                <a:tab algn="l" pos="10782360"/>
              </a:tabLst>
            </a:pPr>
            <a:r>
              <a:rPr b="1" lang="en-AU" sz="4800" spc="-1" strike="noStrike">
                <a:solidFill>
                  <a:srgbClr val="ffffff"/>
                </a:solidFill>
                <a:latin typeface="Calibri"/>
                <a:ea typeface="Lucida Sans Unicode"/>
              </a:rPr>
              <a:t>Were you there when they nailed him to the tree?</a:t>
            </a:r>
            <a:endParaRPr b="0" lang="en-US" sz="4800" spc="-1" strike="noStrike">
              <a:solidFill>
                <a:srgbClr val="ffffff"/>
              </a:solidFill>
              <a:latin typeface="Arial"/>
            </a:endParaRPr>
          </a:p>
          <a:p>
            <a:pPr marL="355680" indent="-351000" algn="ctr">
              <a:lnSpc>
                <a:spcPct val="100000"/>
              </a:lnSpc>
              <a:spcBef>
                <a:spcPts val="499"/>
              </a:spcBef>
              <a:tabLst>
                <a:tab algn="l" pos="0"/>
                <a:tab algn="l" pos="355680"/>
                <a:tab algn="l" pos="803160"/>
                <a:tab algn="l" pos="1252440"/>
                <a:tab algn="l" pos="1701720"/>
                <a:tab algn="l" pos="2151000"/>
                <a:tab algn="l" pos="2600280"/>
                <a:tab algn="l" pos="3049560"/>
                <a:tab algn="l" pos="3498840"/>
                <a:tab algn="l" pos="3948120"/>
                <a:tab algn="l" pos="4397400"/>
                <a:tab algn="l" pos="4846680"/>
                <a:tab algn="l" pos="5295960"/>
                <a:tab algn="l" pos="5745240"/>
                <a:tab algn="l" pos="6194520"/>
                <a:tab algn="l" pos="6643800"/>
                <a:tab algn="l" pos="7093080"/>
                <a:tab algn="l" pos="7542360"/>
                <a:tab algn="l" pos="7991640"/>
                <a:tab algn="l" pos="8440560"/>
                <a:tab algn="l" pos="8889840"/>
                <a:tab algn="l" pos="9339120"/>
                <a:tab algn="l" pos="9434520"/>
                <a:tab algn="l" pos="9883800"/>
                <a:tab algn="l" pos="10333080"/>
                <a:tab algn="l" pos="10782360"/>
              </a:tabLst>
            </a:pPr>
            <a:r>
              <a:rPr b="1" lang="en-AU" sz="4800" spc="-1" strike="noStrike">
                <a:solidFill>
                  <a:srgbClr val="ffffff"/>
                </a:solidFill>
                <a:latin typeface="Calibri"/>
                <a:ea typeface="Lucida Sans Unicode"/>
              </a:rPr>
              <a:t>Oh, sometimes it causes me to tremble, tremble, tremble.</a:t>
            </a:r>
            <a:endParaRPr b="0" lang="en-US" sz="4800" spc="-1" strike="noStrike">
              <a:solidFill>
                <a:srgbClr val="ffffff"/>
              </a:solidFill>
              <a:latin typeface="Arial"/>
            </a:endParaRPr>
          </a:p>
          <a:p>
            <a:pPr marL="355680" indent="-351000" algn="ctr">
              <a:lnSpc>
                <a:spcPct val="100000"/>
              </a:lnSpc>
              <a:spcBef>
                <a:spcPts val="499"/>
              </a:spcBef>
              <a:tabLst>
                <a:tab algn="l" pos="0"/>
                <a:tab algn="l" pos="355680"/>
                <a:tab algn="l" pos="803160"/>
                <a:tab algn="l" pos="1252440"/>
                <a:tab algn="l" pos="1701720"/>
                <a:tab algn="l" pos="2151000"/>
                <a:tab algn="l" pos="2600280"/>
                <a:tab algn="l" pos="3049560"/>
                <a:tab algn="l" pos="3498840"/>
                <a:tab algn="l" pos="3948120"/>
                <a:tab algn="l" pos="4397400"/>
                <a:tab algn="l" pos="4846680"/>
                <a:tab algn="l" pos="5295960"/>
                <a:tab algn="l" pos="5745240"/>
                <a:tab algn="l" pos="6194520"/>
                <a:tab algn="l" pos="6643800"/>
                <a:tab algn="l" pos="7093080"/>
                <a:tab algn="l" pos="7542360"/>
                <a:tab algn="l" pos="7991640"/>
                <a:tab algn="l" pos="8440560"/>
                <a:tab algn="l" pos="8889840"/>
                <a:tab algn="l" pos="9339120"/>
                <a:tab algn="l" pos="9434520"/>
                <a:tab algn="l" pos="9883800"/>
                <a:tab algn="l" pos="10333080"/>
                <a:tab algn="l" pos="10782360"/>
              </a:tabLst>
            </a:pPr>
            <a:r>
              <a:rPr b="1" lang="en-AU" sz="4800" spc="-1" strike="noStrike">
                <a:solidFill>
                  <a:srgbClr val="ffffff"/>
                </a:solidFill>
                <a:latin typeface="Calibri"/>
                <a:ea typeface="Lucida Sans Unicode"/>
              </a:rPr>
              <a:t>Were you there when they nailed him to the tree?</a:t>
            </a:r>
            <a:endParaRPr b="0" lang="en-US" sz="4800" spc="-1" strike="noStrike">
              <a:solidFill>
                <a:srgbClr val="ffffff"/>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8" name=""/>
          <p:cNvSpPr/>
          <p:nvPr/>
        </p:nvSpPr>
        <p:spPr>
          <a:xfrm>
            <a:off x="457200" y="260280"/>
            <a:ext cx="8229600" cy="6257880"/>
          </a:xfrm>
          <a:prstGeom prst="rect">
            <a:avLst/>
          </a:prstGeom>
          <a:noFill/>
          <a:ln w="0">
            <a:noFill/>
          </a:ln>
        </p:spPr>
        <p:style>
          <a:lnRef idx="0"/>
          <a:fillRef idx="0"/>
          <a:effectRef idx="0"/>
          <a:fontRef idx="minor"/>
        </p:style>
        <p:txBody>
          <a:bodyPr anchor="t">
            <a:noAutofit/>
          </a:bodyPr>
          <a:p>
            <a:pPr marL="355680" indent="-351000" algn="ctr">
              <a:lnSpc>
                <a:spcPct val="100000"/>
              </a:lnSpc>
              <a:spcBef>
                <a:spcPts val="499"/>
              </a:spcBef>
              <a:tabLst>
                <a:tab algn="l" pos="0"/>
                <a:tab algn="l" pos="355680"/>
                <a:tab algn="l" pos="803160"/>
                <a:tab algn="l" pos="1252440"/>
                <a:tab algn="l" pos="1701720"/>
                <a:tab algn="l" pos="2151000"/>
                <a:tab algn="l" pos="2600280"/>
                <a:tab algn="l" pos="3049560"/>
                <a:tab algn="l" pos="3498840"/>
                <a:tab algn="l" pos="3948120"/>
                <a:tab algn="l" pos="4397400"/>
                <a:tab algn="l" pos="4846680"/>
                <a:tab algn="l" pos="5295960"/>
                <a:tab algn="l" pos="5745240"/>
                <a:tab algn="l" pos="6194520"/>
                <a:tab algn="l" pos="6643800"/>
                <a:tab algn="l" pos="7093080"/>
                <a:tab algn="l" pos="7542360"/>
                <a:tab algn="l" pos="7991640"/>
                <a:tab algn="l" pos="8440560"/>
                <a:tab algn="l" pos="8889840"/>
                <a:tab algn="l" pos="9339120"/>
                <a:tab algn="l" pos="9434520"/>
                <a:tab algn="l" pos="9883800"/>
                <a:tab algn="l" pos="10333080"/>
                <a:tab algn="l" pos="10782360"/>
              </a:tabLst>
            </a:pPr>
            <a:r>
              <a:rPr b="1" lang="en-AU" sz="4800" spc="-1" strike="noStrike">
                <a:solidFill>
                  <a:srgbClr val="ffffff"/>
                </a:solidFill>
                <a:latin typeface="Calibri"/>
                <a:ea typeface="Lucida Sans Unicode"/>
              </a:rPr>
              <a:t>Were you there when they pierced him in the side?</a:t>
            </a:r>
            <a:endParaRPr b="0" lang="en-US" sz="4800" spc="-1" strike="noStrike">
              <a:solidFill>
                <a:srgbClr val="ffffff"/>
              </a:solidFill>
              <a:latin typeface="Arial"/>
            </a:endParaRPr>
          </a:p>
          <a:p>
            <a:pPr marL="355680" indent="-351000" algn="ctr">
              <a:lnSpc>
                <a:spcPct val="100000"/>
              </a:lnSpc>
              <a:spcBef>
                <a:spcPts val="499"/>
              </a:spcBef>
              <a:tabLst>
                <a:tab algn="l" pos="0"/>
                <a:tab algn="l" pos="355680"/>
                <a:tab algn="l" pos="803160"/>
                <a:tab algn="l" pos="1252440"/>
                <a:tab algn="l" pos="1701720"/>
                <a:tab algn="l" pos="2151000"/>
                <a:tab algn="l" pos="2600280"/>
                <a:tab algn="l" pos="3049560"/>
                <a:tab algn="l" pos="3498840"/>
                <a:tab algn="l" pos="3948120"/>
                <a:tab algn="l" pos="4397400"/>
                <a:tab algn="l" pos="4846680"/>
                <a:tab algn="l" pos="5295960"/>
                <a:tab algn="l" pos="5745240"/>
                <a:tab algn="l" pos="6194520"/>
                <a:tab algn="l" pos="6643800"/>
                <a:tab algn="l" pos="7093080"/>
                <a:tab algn="l" pos="7542360"/>
                <a:tab algn="l" pos="7991640"/>
                <a:tab algn="l" pos="8440560"/>
                <a:tab algn="l" pos="8889840"/>
                <a:tab algn="l" pos="9339120"/>
                <a:tab algn="l" pos="9434520"/>
                <a:tab algn="l" pos="9883800"/>
                <a:tab algn="l" pos="10333080"/>
                <a:tab algn="l" pos="10782360"/>
              </a:tabLst>
            </a:pPr>
            <a:r>
              <a:rPr b="1" lang="en-AU" sz="4800" spc="-1" strike="noStrike">
                <a:solidFill>
                  <a:srgbClr val="ffffff"/>
                </a:solidFill>
                <a:latin typeface="Calibri"/>
                <a:ea typeface="Lucida Sans Unicode"/>
              </a:rPr>
              <a:t>Were you there when they pierced him in the side?</a:t>
            </a:r>
            <a:endParaRPr b="0" lang="en-US" sz="4800" spc="-1" strike="noStrike">
              <a:solidFill>
                <a:srgbClr val="ffffff"/>
              </a:solidFill>
              <a:latin typeface="Arial"/>
            </a:endParaRPr>
          </a:p>
          <a:p>
            <a:pPr marL="355680" indent="-351000" algn="ctr">
              <a:lnSpc>
                <a:spcPct val="100000"/>
              </a:lnSpc>
              <a:spcBef>
                <a:spcPts val="499"/>
              </a:spcBef>
              <a:tabLst>
                <a:tab algn="l" pos="0"/>
                <a:tab algn="l" pos="355680"/>
                <a:tab algn="l" pos="803160"/>
                <a:tab algn="l" pos="1252440"/>
                <a:tab algn="l" pos="1701720"/>
                <a:tab algn="l" pos="2151000"/>
                <a:tab algn="l" pos="2600280"/>
                <a:tab algn="l" pos="3049560"/>
                <a:tab algn="l" pos="3498840"/>
                <a:tab algn="l" pos="3948120"/>
                <a:tab algn="l" pos="4397400"/>
                <a:tab algn="l" pos="4846680"/>
                <a:tab algn="l" pos="5295960"/>
                <a:tab algn="l" pos="5745240"/>
                <a:tab algn="l" pos="6194520"/>
                <a:tab algn="l" pos="6643800"/>
                <a:tab algn="l" pos="7093080"/>
                <a:tab algn="l" pos="7542360"/>
                <a:tab algn="l" pos="7991640"/>
                <a:tab algn="l" pos="8440560"/>
                <a:tab algn="l" pos="8889840"/>
                <a:tab algn="l" pos="9339120"/>
                <a:tab algn="l" pos="9434520"/>
                <a:tab algn="l" pos="9883800"/>
                <a:tab algn="l" pos="10333080"/>
                <a:tab algn="l" pos="10782360"/>
              </a:tabLst>
            </a:pPr>
            <a:r>
              <a:rPr b="1" lang="en-AU" sz="4800" spc="-1" strike="noStrike">
                <a:solidFill>
                  <a:srgbClr val="ffffff"/>
                </a:solidFill>
                <a:latin typeface="Calibri"/>
                <a:ea typeface="Lucida Sans Unicode"/>
              </a:rPr>
              <a:t>Oh, sometimes it causes me to tremble, tremble, tremble.</a:t>
            </a:r>
            <a:endParaRPr b="0" lang="en-US" sz="4800" spc="-1" strike="noStrike">
              <a:solidFill>
                <a:srgbClr val="ffffff"/>
              </a:solidFill>
              <a:latin typeface="Arial"/>
            </a:endParaRPr>
          </a:p>
          <a:p>
            <a:pPr marL="355680" indent="-351000" algn="ctr">
              <a:lnSpc>
                <a:spcPct val="100000"/>
              </a:lnSpc>
              <a:spcBef>
                <a:spcPts val="499"/>
              </a:spcBef>
              <a:tabLst>
                <a:tab algn="l" pos="0"/>
                <a:tab algn="l" pos="355680"/>
                <a:tab algn="l" pos="803160"/>
                <a:tab algn="l" pos="1252440"/>
                <a:tab algn="l" pos="1701720"/>
                <a:tab algn="l" pos="2151000"/>
                <a:tab algn="l" pos="2600280"/>
                <a:tab algn="l" pos="3049560"/>
                <a:tab algn="l" pos="3498840"/>
                <a:tab algn="l" pos="3948120"/>
                <a:tab algn="l" pos="4397400"/>
                <a:tab algn="l" pos="4846680"/>
                <a:tab algn="l" pos="5295960"/>
                <a:tab algn="l" pos="5745240"/>
                <a:tab algn="l" pos="6194520"/>
                <a:tab algn="l" pos="6643800"/>
                <a:tab algn="l" pos="7093080"/>
                <a:tab algn="l" pos="7542360"/>
                <a:tab algn="l" pos="7991640"/>
                <a:tab algn="l" pos="8440560"/>
                <a:tab algn="l" pos="8889840"/>
                <a:tab algn="l" pos="9339120"/>
                <a:tab algn="l" pos="9434520"/>
                <a:tab algn="l" pos="9883800"/>
                <a:tab algn="l" pos="10333080"/>
                <a:tab algn="l" pos="10782360"/>
              </a:tabLst>
            </a:pPr>
            <a:r>
              <a:rPr b="1" lang="en-AU" sz="4800" spc="-1" strike="noStrike">
                <a:solidFill>
                  <a:srgbClr val="ffffff"/>
                </a:solidFill>
                <a:latin typeface="Calibri"/>
                <a:ea typeface="Lucida Sans Unicode"/>
              </a:rPr>
              <a:t>Were you there when they pierced him in the side?</a:t>
            </a:r>
            <a:endParaRPr b="0" lang="en-US" sz="4800" spc="-1" strike="noStrike">
              <a:solidFill>
                <a:srgbClr val="ffffff"/>
              </a:solidFill>
              <a:latin typeface="Arial"/>
            </a:endParaRPr>
          </a:p>
          <a:p>
            <a:pPr marL="355680" indent="-351000" algn="ctr">
              <a:lnSpc>
                <a:spcPct val="100000"/>
              </a:lnSpc>
              <a:spcBef>
                <a:spcPts val="499"/>
              </a:spcBef>
              <a:tabLst>
                <a:tab algn="l" pos="0"/>
                <a:tab algn="l" pos="355680"/>
                <a:tab algn="l" pos="803160"/>
                <a:tab algn="l" pos="1252440"/>
                <a:tab algn="l" pos="1701720"/>
                <a:tab algn="l" pos="2151000"/>
                <a:tab algn="l" pos="2600280"/>
                <a:tab algn="l" pos="3049560"/>
                <a:tab algn="l" pos="3498840"/>
                <a:tab algn="l" pos="3948120"/>
                <a:tab algn="l" pos="4397400"/>
                <a:tab algn="l" pos="4846680"/>
                <a:tab algn="l" pos="5295960"/>
                <a:tab algn="l" pos="5745240"/>
                <a:tab algn="l" pos="6194520"/>
                <a:tab algn="l" pos="6643800"/>
                <a:tab algn="l" pos="7093080"/>
                <a:tab algn="l" pos="7542360"/>
                <a:tab algn="l" pos="7991640"/>
                <a:tab algn="l" pos="8440560"/>
                <a:tab algn="l" pos="8889840"/>
                <a:tab algn="l" pos="9339120"/>
                <a:tab algn="l" pos="9434520"/>
                <a:tab algn="l" pos="9883800"/>
                <a:tab algn="l" pos="10333080"/>
                <a:tab algn="l" pos="10782360"/>
              </a:tabLst>
            </a:pPr>
            <a:endParaRPr b="0" lang="en-US" sz="48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6" name=""/>
          <p:cNvSpPr/>
          <p:nvPr/>
        </p:nvSpPr>
        <p:spPr>
          <a:xfrm>
            <a:off x="755640" y="1090440"/>
            <a:ext cx="7777080" cy="5434200"/>
          </a:xfrm>
          <a:prstGeom prst="rect">
            <a:avLst/>
          </a:prstGeom>
          <a:noFill/>
          <a:ln w="0">
            <a:noFill/>
          </a:ln>
        </p:spPr>
        <p:style>
          <a:lnRef idx="0"/>
          <a:fillRef idx="0"/>
          <a:effectRef idx="0"/>
          <a:fontRef idx="minor"/>
        </p:style>
        <p:txBody>
          <a:bodyPr anchor="t">
            <a:noAutofit/>
          </a:bodyPr>
          <a:p>
            <a:pPr marL="343080" indent="-338400">
              <a:lnSpc>
                <a:spcPct val="100000"/>
              </a:lnSpc>
              <a:spcBef>
                <a:spcPts val="10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en-AU" sz="4000" spc="-1" strike="noStrike">
                <a:solidFill>
                  <a:srgbClr val="ffffff"/>
                </a:solidFill>
                <a:latin typeface="Calibri"/>
                <a:ea typeface="Lucida Sans Unicode"/>
              </a:rPr>
              <a:t>While Peter was below in the courtyard, one of the servant girls of the high priest came by. When she saw Peter warming himself, she looked closely at him.   </a:t>
            </a:r>
            <a:endParaRPr b="0" lang="en-US" sz="4000" spc="-1" strike="noStrike">
              <a:solidFill>
                <a:srgbClr val="ffffff"/>
              </a:solidFill>
              <a:latin typeface="Arial"/>
            </a:endParaRPr>
          </a:p>
          <a:p>
            <a:pPr marL="343080" indent="-338400">
              <a:lnSpc>
                <a:spcPct val="100000"/>
              </a:lnSpc>
              <a:spcBef>
                <a:spcPts val="10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en-AU" sz="4000" spc="-1" strike="noStrike">
                <a:solidFill>
                  <a:srgbClr val="ffffff"/>
                </a:solidFill>
                <a:latin typeface="Calibri"/>
                <a:ea typeface="Lucida Sans Unicode"/>
              </a:rPr>
              <a:t>	</a:t>
            </a:r>
            <a:r>
              <a:rPr b="0" lang="en-AU" sz="4000" spc="-1" strike="noStrike">
                <a:solidFill>
                  <a:srgbClr val="ffffff"/>
                </a:solidFill>
                <a:latin typeface="Calibri"/>
                <a:ea typeface="Lucida Sans Unicode"/>
              </a:rPr>
              <a:t>“</a:t>
            </a:r>
            <a:r>
              <a:rPr b="0" lang="en-AU" sz="4000" spc="-1" strike="noStrike">
                <a:solidFill>
                  <a:srgbClr val="ffffff"/>
                </a:solidFill>
                <a:latin typeface="Calibri"/>
                <a:ea typeface="Lucida Sans Unicode"/>
              </a:rPr>
              <a:t>You also were with that Nazarene, Jesus,” she said. </a:t>
            </a:r>
            <a:endParaRPr b="0" lang="en-US" sz="4000" spc="-1" strike="noStrike">
              <a:solidFill>
                <a:srgbClr val="ffffff"/>
              </a:solidFill>
              <a:latin typeface="Arial"/>
            </a:endParaRPr>
          </a:p>
          <a:p>
            <a:pPr marL="343080" indent="-338400">
              <a:lnSpc>
                <a:spcPct val="100000"/>
              </a:lnSpc>
              <a:spcBef>
                <a:spcPts val="10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4000" spc="-1" strike="noStrike">
              <a:solidFill>
                <a:srgbClr val="ffffff"/>
              </a:solidFill>
              <a:latin typeface="Arial"/>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9" name=""/>
          <p:cNvSpPr/>
          <p:nvPr/>
        </p:nvSpPr>
        <p:spPr>
          <a:xfrm>
            <a:off x="457200" y="260280"/>
            <a:ext cx="8229600" cy="6257880"/>
          </a:xfrm>
          <a:prstGeom prst="rect">
            <a:avLst/>
          </a:prstGeom>
          <a:noFill/>
          <a:ln w="0">
            <a:noFill/>
          </a:ln>
        </p:spPr>
        <p:style>
          <a:lnRef idx="0"/>
          <a:fillRef idx="0"/>
          <a:effectRef idx="0"/>
          <a:fontRef idx="minor"/>
        </p:style>
        <p:txBody>
          <a:bodyPr anchor="t">
            <a:noAutofit/>
          </a:bodyPr>
          <a:p>
            <a:pPr marL="355680" indent="-351000" algn="ctr">
              <a:lnSpc>
                <a:spcPct val="100000"/>
              </a:lnSpc>
              <a:spcBef>
                <a:spcPts val="499"/>
              </a:spcBef>
              <a:tabLst>
                <a:tab algn="l" pos="0"/>
                <a:tab algn="l" pos="355680"/>
                <a:tab algn="l" pos="803160"/>
                <a:tab algn="l" pos="1252440"/>
                <a:tab algn="l" pos="1701720"/>
                <a:tab algn="l" pos="2151000"/>
                <a:tab algn="l" pos="2600280"/>
                <a:tab algn="l" pos="3049560"/>
                <a:tab algn="l" pos="3498840"/>
                <a:tab algn="l" pos="3948120"/>
                <a:tab algn="l" pos="4397400"/>
                <a:tab algn="l" pos="4846680"/>
                <a:tab algn="l" pos="5295960"/>
                <a:tab algn="l" pos="5745240"/>
                <a:tab algn="l" pos="6194520"/>
                <a:tab algn="l" pos="6643800"/>
                <a:tab algn="l" pos="7093080"/>
                <a:tab algn="l" pos="7542360"/>
                <a:tab algn="l" pos="7991640"/>
                <a:tab algn="l" pos="8440560"/>
                <a:tab algn="l" pos="8889840"/>
                <a:tab algn="l" pos="9339120"/>
                <a:tab algn="l" pos="9434520"/>
                <a:tab algn="l" pos="9883800"/>
                <a:tab algn="l" pos="10333080"/>
                <a:tab algn="l" pos="10782360"/>
              </a:tabLst>
            </a:pPr>
            <a:r>
              <a:rPr b="1" lang="en-AU" sz="4800" spc="-1" strike="noStrike">
                <a:solidFill>
                  <a:srgbClr val="ffffff"/>
                </a:solidFill>
                <a:latin typeface="Calibri"/>
                <a:ea typeface="Lucida Sans Unicode"/>
              </a:rPr>
              <a:t>Were you there when they laid him in the tomb?</a:t>
            </a:r>
            <a:endParaRPr b="0" lang="en-US" sz="4800" spc="-1" strike="noStrike">
              <a:solidFill>
                <a:srgbClr val="ffffff"/>
              </a:solidFill>
              <a:latin typeface="Arial"/>
            </a:endParaRPr>
          </a:p>
          <a:p>
            <a:pPr marL="355680" indent="-351000" algn="ctr">
              <a:lnSpc>
                <a:spcPct val="100000"/>
              </a:lnSpc>
              <a:spcBef>
                <a:spcPts val="499"/>
              </a:spcBef>
              <a:tabLst>
                <a:tab algn="l" pos="0"/>
                <a:tab algn="l" pos="355680"/>
                <a:tab algn="l" pos="803160"/>
                <a:tab algn="l" pos="1252440"/>
                <a:tab algn="l" pos="1701720"/>
                <a:tab algn="l" pos="2151000"/>
                <a:tab algn="l" pos="2600280"/>
                <a:tab algn="l" pos="3049560"/>
                <a:tab algn="l" pos="3498840"/>
                <a:tab algn="l" pos="3948120"/>
                <a:tab algn="l" pos="4397400"/>
                <a:tab algn="l" pos="4846680"/>
                <a:tab algn="l" pos="5295960"/>
                <a:tab algn="l" pos="5745240"/>
                <a:tab algn="l" pos="6194520"/>
                <a:tab algn="l" pos="6643800"/>
                <a:tab algn="l" pos="7093080"/>
                <a:tab algn="l" pos="7542360"/>
                <a:tab algn="l" pos="7991640"/>
                <a:tab algn="l" pos="8440560"/>
                <a:tab algn="l" pos="8889840"/>
                <a:tab algn="l" pos="9339120"/>
                <a:tab algn="l" pos="9434520"/>
                <a:tab algn="l" pos="9883800"/>
                <a:tab algn="l" pos="10333080"/>
                <a:tab algn="l" pos="10782360"/>
              </a:tabLst>
            </a:pPr>
            <a:r>
              <a:rPr b="1" lang="en-AU" sz="4800" spc="-1" strike="noStrike">
                <a:solidFill>
                  <a:srgbClr val="ffffff"/>
                </a:solidFill>
                <a:latin typeface="Calibri"/>
                <a:ea typeface="Lucida Sans Unicode"/>
              </a:rPr>
              <a:t>Were you there when they laid him in the tomb?</a:t>
            </a:r>
            <a:endParaRPr b="0" lang="en-US" sz="4800" spc="-1" strike="noStrike">
              <a:solidFill>
                <a:srgbClr val="ffffff"/>
              </a:solidFill>
              <a:latin typeface="Arial"/>
            </a:endParaRPr>
          </a:p>
          <a:p>
            <a:pPr marL="355680" indent="-351000" algn="ctr">
              <a:lnSpc>
                <a:spcPct val="100000"/>
              </a:lnSpc>
              <a:spcBef>
                <a:spcPts val="499"/>
              </a:spcBef>
              <a:tabLst>
                <a:tab algn="l" pos="0"/>
                <a:tab algn="l" pos="355680"/>
                <a:tab algn="l" pos="803160"/>
                <a:tab algn="l" pos="1252440"/>
                <a:tab algn="l" pos="1701720"/>
                <a:tab algn="l" pos="2151000"/>
                <a:tab algn="l" pos="2600280"/>
                <a:tab algn="l" pos="3049560"/>
                <a:tab algn="l" pos="3498840"/>
                <a:tab algn="l" pos="3948120"/>
                <a:tab algn="l" pos="4397400"/>
                <a:tab algn="l" pos="4846680"/>
                <a:tab algn="l" pos="5295960"/>
                <a:tab algn="l" pos="5745240"/>
                <a:tab algn="l" pos="6194520"/>
                <a:tab algn="l" pos="6643800"/>
                <a:tab algn="l" pos="7093080"/>
                <a:tab algn="l" pos="7542360"/>
                <a:tab algn="l" pos="7991640"/>
                <a:tab algn="l" pos="8440560"/>
                <a:tab algn="l" pos="8889840"/>
                <a:tab algn="l" pos="9339120"/>
                <a:tab algn="l" pos="9434520"/>
                <a:tab algn="l" pos="9883800"/>
                <a:tab algn="l" pos="10333080"/>
                <a:tab algn="l" pos="10782360"/>
              </a:tabLst>
            </a:pPr>
            <a:r>
              <a:rPr b="1" lang="en-AU" sz="4800" spc="-1" strike="noStrike">
                <a:solidFill>
                  <a:srgbClr val="ffffff"/>
                </a:solidFill>
                <a:latin typeface="Calibri"/>
                <a:ea typeface="Lucida Sans Unicode"/>
              </a:rPr>
              <a:t>Oh, sometimes it causes me to tremble, tremble, tremble.</a:t>
            </a:r>
            <a:endParaRPr b="0" lang="en-US" sz="4800" spc="-1" strike="noStrike">
              <a:solidFill>
                <a:srgbClr val="ffffff"/>
              </a:solidFill>
              <a:latin typeface="Arial"/>
            </a:endParaRPr>
          </a:p>
          <a:p>
            <a:pPr marL="355680" indent="-351000" algn="ctr">
              <a:lnSpc>
                <a:spcPct val="100000"/>
              </a:lnSpc>
              <a:spcBef>
                <a:spcPts val="499"/>
              </a:spcBef>
              <a:tabLst>
                <a:tab algn="l" pos="0"/>
                <a:tab algn="l" pos="355680"/>
                <a:tab algn="l" pos="803160"/>
                <a:tab algn="l" pos="1252440"/>
                <a:tab algn="l" pos="1701720"/>
                <a:tab algn="l" pos="2151000"/>
                <a:tab algn="l" pos="2600280"/>
                <a:tab algn="l" pos="3049560"/>
                <a:tab algn="l" pos="3498840"/>
                <a:tab algn="l" pos="3948120"/>
                <a:tab algn="l" pos="4397400"/>
                <a:tab algn="l" pos="4846680"/>
                <a:tab algn="l" pos="5295960"/>
                <a:tab algn="l" pos="5745240"/>
                <a:tab algn="l" pos="6194520"/>
                <a:tab algn="l" pos="6643800"/>
                <a:tab algn="l" pos="7093080"/>
                <a:tab algn="l" pos="7542360"/>
                <a:tab algn="l" pos="7991640"/>
                <a:tab algn="l" pos="8440560"/>
                <a:tab algn="l" pos="8889840"/>
                <a:tab algn="l" pos="9339120"/>
                <a:tab algn="l" pos="9434520"/>
                <a:tab algn="l" pos="9883800"/>
                <a:tab algn="l" pos="10333080"/>
                <a:tab algn="l" pos="10782360"/>
              </a:tabLst>
            </a:pPr>
            <a:r>
              <a:rPr b="1" lang="en-AU" sz="4800" spc="-1" strike="noStrike">
                <a:solidFill>
                  <a:srgbClr val="ffffff"/>
                </a:solidFill>
                <a:latin typeface="Calibri"/>
                <a:ea typeface="Lucida Sans Unicode"/>
              </a:rPr>
              <a:t>Were you there when they laid him in the tomb?</a:t>
            </a:r>
            <a:endParaRPr b="0" lang="en-US" sz="4800" spc="-1" strike="noStrike">
              <a:solidFill>
                <a:srgbClr val="ffffff"/>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0" name=""/>
          <p:cNvSpPr/>
          <p:nvPr/>
        </p:nvSpPr>
        <p:spPr>
          <a:xfrm>
            <a:off x="685800" y="2597040"/>
            <a:ext cx="7772400" cy="1201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AU" sz="7200" spc="-1" strike="noStrike">
                <a:solidFill>
                  <a:srgbClr val="ffffff"/>
                </a:solidFill>
                <a:latin typeface="Calibri"/>
                <a:ea typeface="Lucida Sans Unicode"/>
              </a:rPr>
              <a:t>Communion</a:t>
            </a:r>
            <a:endParaRPr b="0" lang="en-US" sz="7200" spc="-1" strike="noStrike">
              <a:solidFill>
                <a:srgbClr val="ffffff"/>
              </a:solidFill>
              <a:latin typeface="Arial"/>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1" name=""/>
          <p:cNvSpPr/>
          <p:nvPr/>
        </p:nvSpPr>
        <p:spPr>
          <a:xfrm>
            <a:off x="685800" y="2597040"/>
            <a:ext cx="7772400" cy="1201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AU" sz="7200" spc="-1" strike="noStrike">
                <a:solidFill>
                  <a:srgbClr val="ffffff"/>
                </a:solidFill>
                <a:latin typeface="Calibri"/>
                <a:ea typeface="Lucida Sans Unicode"/>
              </a:rPr>
              <a:t>When I survey</a:t>
            </a:r>
            <a:endParaRPr b="0" lang="en-US" sz="7200" spc="-1" strike="noStrike">
              <a:solidFill>
                <a:srgbClr val="ffffff"/>
              </a:solidFill>
              <a:latin typeface="Arial"/>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2" name=""/>
          <p:cNvSpPr/>
          <p:nvPr/>
        </p:nvSpPr>
        <p:spPr>
          <a:xfrm>
            <a:off x="457200" y="654120"/>
            <a:ext cx="8229600" cy="5583240"/>
          </a:xfrm>
          <a:prstGeom prst="rect">
            <a:avLst/>
          </a:prstGeom>
          <a:noFill/>
          <a:ln w="0">
            <a:noFill/>
          </a:ln>
        </p:spPr>
        <p:style>
          <a:lnRef idx="0"/>
          <a:fillRef idx="0"/>
          <a:effectRef idx="0"/>
          <a:fontRef idx="minor"/>
        </p:style>
        <p:txBody>
          <a:bodyPr anchor="t">
            <a:noAutofit/>
          </a:bodyPr>
          <a:p>
            <a:pPr marL="355680" indent="-351000" algn="ctr">
              <a:lnSpc>
                <a:spcPct val="100000"/>
              </a:lnSpc>
              <a:spcBef>
                <a:spcPts val="499"/>
              </a:spcBef>
              <a:tabLst>
                <a:tab algn="l" pos="0"/>
                <a:tab algn="l" pos="355680"/>
                <a:tab algn="l" pos="803160"/>
                <a:tab algn="l" pos="1252440"/>
                <a:tab algn="l" pos="1701720"/>
                <a:tab algn="l" pos="2151000"/>
                <a:tab algn="l" pos="2600280"/>
                <a:tab algn="l" pos="3049560"/>
                <a:tab algn="l" pos="3498840"/>
                <a:tab algn="l" pos="3948120"/>
                <a:tab algn="l" pos="4397400"/>
                <a:tab algn="l" pos="4846680"/>
                <a:tab algn="l" pos="5295960"/>
                <a:tab algn="l" pos="5745240"/>
                <a:tab algn="l" pos="6194520"/>
                <a:tab algn="l" pos="6643800"/>
                <a:tab algn="l" pos="7093080"/>
                <a:tab algn="l" pos="7542360"/>
                <a:tab algn="l" pos="7991640"/>
                <a:tab algn="l" pos="8440560"/>
                <a:tab algn="l" pos="8889840"/>
                <a:tab algn="l" pos="9339120"/>
                <a:tab algn="l" pos="9434520"/>
                <a:tab algn="l" pos="9883800"/>
                <a:tab algn="l" pos="10333080"/>
                <a:tab algn="l" pos="10782360"/>
              </a:tabLst>
            </a:pPr>
            <a:r>
              <a:rPr b="1" lang="en-AU" sz="4800" spc="-1" strike="noStrike">
                <a:solidFill>
                  <a:srgbClr val="ffffff"/>
                </a:solidFill>
                <a:latin typeface="Calibri"/>
                <a:ea typeface="Lucida Sans Unicode"/>
              </a:rPr>
              <a:t>When I survey </a:t>
            </a:r>
            <a:endParaRPr b="0" lang="en-US" sz="4800" spc="-1" strike="noStrike">
              <a:solidFill>
                <a:srgbClr val="ffffff"/>
              </a:solidFill>
              <a:latin typeface="Arial"/>
            </a:endParaRPr>
          </a:p>
          <a:p>
            <a:pPr marL="355680" indent="-351000" algn="ctr">
              <a:lnSpc>
                <a:spcPct val="100000"/>
              </a:lnSpc>
              <a:spcBef>
                <a:spcPts val="499"/>
              </a:spcBef>
              <a:tabLst>
                <a:tab algn="l" pos="0"/>
                <a:tab algn="l" pos="355680"/>
                <a:tab algn="l" pos="803160"/>
                <a:tab algn="l" pos="1252440"/>
                <a:tab algn="l" pos="1701720"/>
                <a:tab algn="l" pos="2151000"/>
                <a:tab algn="l" pos="2600280"/>
                <a:tab algn="l" pos="3049560"/>
                <a:tab algn="l" pos="3498840"/>
                <a:tab algn="l" pos="3948120"/>
                <a:tab algn="l" pos="4397400"/>
                <a:tab algn="l" pos="4846680"/>
                <a:tab algn="l" pos="5295960"/>
                <a:tab algn="l" pos="5745240"/>
                <a:tab algn="l" pos="6194520"/>
                <a:tab algn="l" pos="6643800"/>
                <a:tab algn="l" pos="7093080"/>
                <a:tab algn="l" pos="7542360"/>
                <a:tab algn="l" pos="7991640"/>
                <a:tab algn="l" pos="8440560"/>
                <a:tab algn="l" pos="8889840"/>
                <a:tab algn="l" pos="9339120"/>
                <a:tab algn="l" pos="9434520"/>
                <a:tab algn="l" pos="9883800"/>
                <a:tab algn="l" pos="10333080"/>
                <a:tab algn="l" pos="10782360"/>
              </a:tabLst>
            </a:pPr>
            <a:r>
              <a:rPr b="1" lang="en-AU" sz="4800" spc="-1" strike="noStrike">
                <a:solidFill>
                  <a:srgbClr val="ffffff"/>
                </a:solidFill>
                <a:latin typeface="Calibri"/>
                <a:ea typeface="Lucida Sans Unicode"/>
              </a:rPr>
              <a:t>the wondrous cross</a:t>
            </a:r>
            <a:endParaRPr b="0" lang="en-US" sz="4800" spc="-1" strike="noStrike">
              <a:solidFill>
                <a:srgbClr val="ffffff"/>
              </a:solidFill>
              <a:latin typeface="Arial"/>
            </a:endParaRPr>
          </a:p>
          <a:p>
            <a:pPr marL="355680" indent="-351000" algn="ctr">
              <a:lnSpc>
                <a:spcPct val="100000"/>
              </a:lnSpc>
              <a:spcBef>
                <a:spcPts val="499"/>
              </a:spcBef>
              <a:tabLst>
                <a:tab algn="l" pos="0"/>
                <a:tab algn="l" pos="355680"/>
                <a:tab algn="l" pos="803160"/>
                <a:tab algn="l" pos="1252440"/>
                <a:tab algn="l" pos="1701720"/>
                <a:tab algn="l" pos="2151000"/>
                <a:tab algn="l" pos="2600280"/>
                <a:tab algn="l" pos="3049560"/>
                <a:tab algn="l" pos="3498840"/>
                <a:tab algn="l" pos="3948120"/>
                <a:tab algn="l" pos="4397400"/>
                <a:tab algn="l" pos="4846680"/>
                <a:tab algn="l" pos="5295960"/>
                <a:tab algn="l" pos="5745240"/>
                <a:tab algn="l" pos="6194520"/>
                <a:tab algn="l" pos="6643800"/>
                <a:tab algn="l" pos="7093080"/>
                <a:tab algn="l" pos="7542360"/>
                <a:tab algn="l" pos="7991640"/>
                <a:tab algn="l" pos="8440560"/>
                <a:tab algn="l" pos="8889840"/>
                <a:tab algn="l" pos="9339120"/>
                <a:tab algn="l" pos="9434520"/>
                <a:tab algn="l" pos="9883800"/>
                <a:tab algn="l" pos="10333080"/>
                <a:tab algn="l" pos="10782360"/>
              </a:tabLst>
            </a:pPr>
            <a:r>
              <a:rPr b="1" lang="en-AU" sz="4800" spc="-1" strike="noStrike">
                <a:solidFill>
                  <a:srgbClr val="ffffff"/>
                </a:solidFill>
                <a:latin typeface="Calibri"/>
                <a:ea typeface="Lucida Sans Unicode"/>
              </a:rPr>
              <a:t>On which the Prince </a:t>
            </a:r>
            <a:endParaRPr b="0" lang="en-US" sz="4800" spc="-1" strike="noStrike">
              <a:solidFill>
                <a:srgbClr val="ffffff"/>
              </a:solidFill>
              <a:latin typeface="Arial"/>
            </a:endParaRPr>
          </a:p>
          <a:p>
            <a:pPr marL="355680" indent="-351000" algn="ctr">
              <a:lnSpc>
                <a:spcPct val="100000"/>
              </a:lnSpc>
              <a:spcBef>
                <a:spcPts val="499"/>
              </a:spcBef>
              <a:tabLst>
                <a:tab algn="l" pos="0"/>
                <a:tab algn="l" pos="355680"/>
                <a:tab algn="l" pos="803160"/>
                <a:tab algn="l" pos="1252440"/>
                <a:tab algn="l" pos="1701720"/>
                <a:tab algn="l" pos="2151000"/>
                <a:tab algn="l" pos="2600280"/>
                <a:tab algn="l" pos="3049560"/>
                <a:tab algn="l" pos="3498840"/>
                <a:tab algn="l" pos="3948120"/>
                <a:tab algn="l" pos="4397400"/>
                <a:tab algn="l" pos="4846680"/>
                <a:tab algn="l" pos="5295960"/>
                <a:tab algn="l" pos="5745240"/>
                <a:tab algn="l" pos="6194520"/>
                <a:tab algn="l" pos="6643800"/>
                <a:tab algn="l" pos="7093080"/>
                <a:tab algn="l" pos="7542360"/>
                <a:tab algn="l" pos="7991640"/>
                <a:tab algn="l" pos="8440560"/>
                <a:tab algn="l" pos="8889840"/>
                <a:tab algn="l" pos="9339120"/>
                <a:tab algn="l" pos="9434520"/>
                <a:tab algn="l" pos="9883800"/>
                <a:tab algn="l" pos="10333080"/>
                <a:tab algn="l" pos="10782360"/>
              </a:tabLst>
            </a:pPr>
            <a:r>
              <a:rPr b="1" lang="en-AU" sz="4800" spc="-1" strike="noStrike">
                <a:solidFill>
                  <a:srgbClr val="ffffff"/>
                </a:solidFill>
                <a:latin typeface="Calibri"/>
                <a:ea typeface="Lucida Sans Unicode"/>
              </a:rPr>
              <a:t>of glory died</a:t>
            </a:r>
            <a:endParaRPr b="0" lang="en-US" sz="4800" spc="-1" strike="noStrike">
              <a:solidFill>
                <a:srgbClr val="ffffff"/>
              </a:solidFill>
              <a:latin typeface="Arial"/>
            </a:endParaRPr>
          </a:p>
          <a:p>
            <a:pPr marL="355680" indent="-351000" algn="ctr">
              <a:lnSpc>
                <a:spcPct val="100000"/>
              </a:lnSpc>
              <a:spcBef>
                <a:spcPts val="499"/>
              </a:spcBef>
              <a:tabLst>
                <a:tab algn="l" pos="0"/>
                <a:tab algn="l" pos="355680"/>
                <a:tab algn="l" pos="803160"/>
                <a:tab algn="l" pos="1252440"/>
                <a:tab algn="l" pos="1701720"/>
                <a:tab algn="l" pos="2151000"/>
                <a:tab algn="l" pos="2600280"/>
                <a:tab algn="l" pos="3049560"/>
                <a:tab algn="l" pos="3498840"/>
                <a:tab algn="l" pos="3948120"/>
                <a:tab algn="l" pos="4397400"/>
                <a:tab algn="l" pos="4846680"/>
                <a:tab algn="l" pos="5295960"/>
                <a:tab algn="l" pos="5745240"/>
                <a:tab algn="l" pos="6194520"/>
                <a:tab algn="l" pos="6643800"/>
                <a:tab algn="l" pos="7093080"/>
                <a:tab algn="l" pos="7542360"/>
                <a:tab algn="l" pos="7991640"/>
                <a:tab algn="l" pos="8440560"/>
                <a:tab algn="l" pos="8889840"/>
                <a:tab algn="l" pos="9339120"/>
                <a:tab algn="l" pos="9434520"/>
                <a:tab algn="l" pos="9883800"/>
                <a:tab algn="l" pos="10333080"/>
                <a:tab algn="l" pos="10782360"/>
              </a:tabLst>
            </a:pPr>
            <a:r>
              <a:rPr b="1" lang="en-AU" sz="4800" spc="-1" strike="noStrike">
                <a:solidFill>
                  <a:srgbClr val="ffffff"/>
                </a:solidFill>
                <a:latin typeface="Calibri"/>
                <a:ea typeface="Lucida Sans Unicode"/>
              </a:rPr>
              <a:t>My richest gain I count but loss</a:t>
            </a:r>
            <a:endParaRPr b="0" lang="en-US" sz="4800" spc="-1" strike="noStrike">
              <a:solidFill>
                <a:srgbClr val="ffffff"/>
              </a:solidFill>
              <a:latin typeface="Arial"/>
            </a:endParaRPr>
          </a:p>
          <a:p>
            <a:pPr marL="355680" indent="-351000" algn="ctr">
              <a:lnSpc>
                <a:spcPct val="100000"/>
              </a:lnSpc>
              <a:spcBef>
                <a:spcPts val="499"/>
              </a:spcBef>
              <a:tabLst>
                <a:tab algn="l" pos="0"/>
                <a:tab algn="l" pos="355680"/>
                <a:tab algn="l" pos="803160"/>
                <a:tab algn="l" pos="1252440"/>
                <a:tab algn="l" pos="1701720"/>
                <a:tab algn="l" pos="2151000"/>
                <a:tab algn="l" pos="2600280"/>
                <a:tab algn="l" pos="3049560"/>
                <a:tab algn="l" pos="3498840"/>
                <a:tab algn="l" pos="3948120"/>
                <a:tab algn="l" pos="4397400"/>
                <a:tab algn="l" pos="4846680"/>
                <a:tab algn="l" pos="5295960"/>
                <a:tab algn="l" pos="5745240"/>
                <a:tab algn="l" pos="6194520"/>
                <a:tab algn="l" pos="6643800"/>
                <a:tab algn="l" pos="7093080"/>
                <a:tab algn="l" pos="7542360"/>
                <a:tab algn="l" pos="7991640"/>
                <a:tab algn="l" pos="8440560"/>
                <a:tab algn="l" pos="8889840"/>
                <a:tab algn="l" pos="9339120"/>
                <a:tab algn="l" pos="9434520"/>
                <a:tab algn="l" pos="9883800"/>
                <a:tab algn="l" pos="10333080"/>
                <a:tab algn="l" pos="10782360"/>
              </a:tabLst>
            </a:pPr>
            <a:r>
              <a:rPr b="1" lang="en-AU" sz="4800" spc="-1" strike="noStrike">
                <a:solidFill>
                  <a:srgbClr val="ffffff"/>
                </a:solidFill>
                <a:latin typeface="Calibri"/>
                <a:ea typeface="Lucida Sans Unicode"/>
              </a:rPr>
              <a:t>And pour contempt on all my pride</a:t>
            </a:r>
            <a:endParaRPr b="0" lang="en-US" sz="4800" spc="-1" strike="noStrike">
              <a:solidFill>
                <a:srgbClr val="ffffff"/>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3" name=""/>
          <p:cNvSpPr/>
          <p:nvPr/>
        </p:nvSpPr>
        <p:spPr>
          <a:xfrm>
            <a:off x="457200" y="765000"/>
            <a:ext cx="8229600" cy="5646960"/>
          </a:xfrm>
          <a:prstGeom prst="rect">
            <a:avLst/>
          </a:prstGeom>
          <a:noFill/>
          <a:ln w="0">
            <a:noFill/>
          </a:ln>
        </p:spPr>
        <p:style>
          <a:lnRef idx="0"/>
          <a:fillRef idx="0"/>
          <a:effectRef idx="0"/>
          <a:fontRef idx="minor"/>
        </p:style>
        <p:txBody>
          <a:bodyPr anchor="t">
            <a:noAutofit/>
          </a:bodyPr>
          <a:p>
            <a:pPr marL="355680" indent="-351000" algn="ctr">
              <a:lnSpc>
                <a:spcPct val="100000"/>
              </a:lnSpc>
              <a:spcBef>
                <a:spcPts val="499"/>
              </a:spcBef>
              <a:tabLst>
                <a:tab algn="l" pos="0"/>
                <a:tab algn="l" pos="355680"/>
                <a:tab algn="l" pos="803160"/>
                <a:tab algn="l" pos="1252440"/>
                <a:tab algn="l" pos="1701720"/>
                <a:tab algn="l" pos="2151000"/>
                <a:tab algn="l" pos="2600280"/>
                <a:tab algn="l" pos="3049560"/>
                <a:tab algn="l" pos="3498840"/>
                <a:tab algn="l" pos="3948120"/>
                <a:tab algn="l" pos="4397400"/>
                <a:tab algn="l" pos="4846680"/>
                <a:tab algn="l" pos="5295960"/>
                <a:tab algn="l" pos="5745240"/>
                <a:tab algn="l" pos="6194520"/>
                <a:tab algn="l" pos="6643800"/>
                <a:tab algn="l" pos="7093080"/>
                <a:tab algn="l" pos="7542360"/>
                <a:tab algn="l" pos="7991640"/>
                <a:tab algn="l" pos="8440560"/>
                <a:tab algn="l" pos="8889840"/>
                <a:tab algn="l" pos="9339120"/>
                <a:tab algn="l" pos="9434520"/>
                <a:tab algn="l" pos="9883800"/>
                <a:tab algn="l" pos="10333080"/>
                <a:tab algn="l" pos="10782360"/>
              </a:tabLst>
            </a:pPr>
            <a:r>
              <a:rPr b="1" lang="en-AU" sz="4800" spc="-1" strike="noStrike">
                <a:solidFill>
                  <a:srgbClr val="ffffff"/>
                </a:solidFill>
                <a:latin typeface="Calibri"/>
                <a:ea typeface="Lucida Sans Unicode"/>
              </a:rPr>
              <a:t>Forbid it Lord, </a:t>
            </a:r>
            <a:endParaRPr b="0" lang="en-US" sz="4800" spc="-1" strike="noStrike">
              <a:solidFill>
                <a:srgbClr val="ffffff"/>
              </a:solidFill>
              <a:latin typeface="Arial"/>
            </a:endParaRPr>
          </a:p>
          <a:p>
            <a:pPr marL="355680" indent="-351000" algn="ctr">
              <a:lnSpc>
                <a:spcPct val="100000"/>
              </a:lnSpc>
              <a:spcBef>
                <a:spcPts val="499"/>
              </a:spcBef>
              <a:tabLst>
                <a:tab algn="l" pos="0"/>
                <a:tab algn="l" pos="355680"/>
                <a:tab algn="l" pos="803160"/>
                <a:tab algn="l" pos="1252440"/>
                <a:tab algn="l" pos="1701720"/>
                <a:tab algn="l" pos="2151000"/>
                <a:tab algn="l" pos="2600280"/>
                <a:tab algn="l" pos="3049560"/>
                <a:tab algn="l" pos="3498840"/>
                <a:tab algn="l" pos="3948120"/>
                <a:tab algn="l" pos="4397400"/>
                <a:tab algn="l" pos="4846680"/>
                <a:tab algn="l" pos="5295960"/>
                <a:tab algn="l" pos="5745240"/>
                <a:tab algn="l" pos="6194520"/>
                <a:tab algn="l" pos="6643800"/>
                <a:tab algn="l" pos="7093080"/>
                <a:tab algn="l" pos="7542360"/>
                <a:tab algn="l" pos="7991640"/>
                <a:tab algn="l" pos="8440560"/>
                <a:tab algn="l" pos="8889840"/>
                <a:tab algn="l" pos="9339120"/>
                <a:tab algn="l" pos="9434520"/>
                <a:tab algn="l" pos="9883800"/>
                <a:tab algn="l" pos="10333080"/>
                <a:tab algn="l" pos="10782360"/>
              </a:tabLst>
            </a:pPr>
            <a:r>
              <a:rPr b="1" lang="en-AU" sz="4800" spc="-1" strike="noStrike">
                <a:solidFill>
                  <a:srgbClr val="ffffff"/>
                </a:solidFill>
                <a:latin typeface="Calibri"/>
                <a:ea typeface="Lucida Sans Unicode"/>
              </a:rPr>
              <a:t>that I should boast</a:t>
            </a:r>
            <a:endParaRPr b="0" lang="en-US" sz="4800" spc="-1" strike="noStrike">
              <a:solidFill>
                <a:srgbClr val="ffffff"/>
              </a:solidFill>
              <a:latin typeface="Arial"/>
            </a:endParaRPr>
          </a:p>
          <a:p>
            <a:pPr marL="355680" indent="-351000" algn="ctr">
              <a:lnSpc>
                <a:spcPct val="100000"/>
              </a:lnSpc>
              <a:spcBef>
                <a:spcPts val="499"/>
              </a:spcBef>
              <a:tabLst>
                <a:tab algn="l" pos="0"/>
                <a:tab algn="l" pos="355680"/>
                <a:tab algn="l" pos="803160"/>
                <a:tab algn="l" pos="1252440"/>
                <a:tab algn="l" pos="1701720"/>
                <a:tab algn="l" pos="2151000"/>
                <a:tab algn="l" pos="2600280"/>
                <a:tab algn="l" pos="3049560"/>
                <a:tab algn="l" pos="3498840"/>
                <a:tab algn="l" pos="3948120"/>
                <a:tab algn="l" pos="4397400"/>
                <a:tab algn="l" pos="4846680"/>
                <a:tab algn="l" pos="5295960"/>
                <a:tab algn="l" pos="5745240"/>
                <a:tab algn="l" pos="6194520"/>
                <a:tab algn="l" pos="6643800"/>
                <a:tab algn="l" pos="7093080"/>
                <a:tab algn="l" pos="7542360"/>
                <a:tab algn="l" pos="7991640"/>
                <a:tab algn="l" pos="8440560"/>
                <a:tab algn="l" pos="8889840"/>
                <a:tab algn="l" pos="9339120"/>
                <a:tab algn="l" pos="9434520"/>
                <a:tab algn="l" pos="9883800"/>
                <a:tab algn="l" pos="10333080"/>
                <a:tab algn="l" pos="10782360"/>
              </a:tabLst>
            </a:pPr>
            <a:r>
              <a:rPr b="1" lang="en-AU" sz="4800" spc="-1" strike="noStrike">
                <a:solidFill>
                  <a:srgbClr val="ffffff"/>
                </a:solidFill>
                <a:latin typeface="Calibri"/>
                <a:ea typeface="Lucida Sans Unicode"/>
              </a:rPr>
              <a:t>Save in the death </a:t>
            </a:r>
            <a:endParaRPr b="0" lang="en-US" sz="4800" spc="-1" strike="noStrike">
              <a:solidFill>
                <a:srgbClr val="ffffff"/>
              </a:solidFill>
              <a:latin typeface="Arial"/>
            </a:endParaRPr>
          </a:p>
          <a:p>
            <a:pPr marL="355680" indent="-351000" algn="ctr">
              <a:lnSpc>
                <a:spcPct val="100000"/>
              </a:lnSpc>
              <a:spcBef>
                <a:spcPts val="499"/>
              </a:spcBef>
              <a:tabLst>
                <a:tab algn="l" pos="0"/>
                <a:tab algn="l" pos="355680"/>
                <a:tab algn="l" pos="803160"/>
                <a:tab algn="l" pos="1252440"/>
                <a:tab algn="l" pos="1701720"/>
                <a:tab algn="l" pos="2151000"/>
                <a:tab algn="l" pos="2600280"/>
                <a:tab algn="l" pos="3049560"/>
                <a:tab algn="l" pos="3498840"/>
                <a:tab algn="l" pos="3948120"/>
                <a:tab algn="l" pos="4397400"/>
                <a:tab algn="l" pos="4846680"/>
                <a:tab algn="l" pos="5295960"/>
                <a:tab algn="l" pos="5745240"/>
                <a:tab algn="l" pos="6194520"/>
                <a:tab algn="l" pos="6643800"/>
                <a:tab algn="l" pos="7093080"/>
                <a:tab algn="l" pos="7542360"/>
                <a:tab algn="l" pos="7991640"/>
                <a:tab algn="l" pos="8440560"/>
                <a:tab algn="l" pos="8889840"/>
                <a:tab algn="l" pos="9339120"/>
                <a:tab algn="l" pos="9434520"/>
                <a:tab algn="l" pos="9883800"/>
                <a:tab algn="l" pos="10333080"/>
                <a:tab algn="l" pos="10782360"/>
              </a:tabLst>
            </a:pPr>
            <a:r>
              <a:rPr b="1" lang="en-AU" sz="4800" spc="-1" strike="noStrike">
                <a:solidFill>
                  <a:srgbClr val="ffffff"/>
                </a:solidFill>
                <a:latin typeface="Calibri"/>
                <a:ea typeface="Lucida Sans Unicode"/>
              </a:rPr>
              <a:t>of Christ my God</a:t>
            </a:r>
            <a:endParaRPr b="0" lang="en-US" sz="4800" spc="-1" strike="noStrike">
              <a:solidFill>
                <a:srgbClr val="ffffff"/>
              </a:solidFill>
              <a:latin typeface="Arial"/>
            </a:endParaRPr>
          </a:p>
          <a:p>
            <a:pPr marL="355680" indent="-351000" algn="ctr">
              <a:lnSpc>
                <a:spcPct val="100000"/>
              </a:lnSpc>
              <a:spcBef>
                <a:spcPts val="499"/>
              </a:spcBef>
              <a:tabLst>
                <a:tab algn="l" pos="0"/>
                <a:tab algn="l" pos="355680"/>
                <a:tab algn="l" pos="803160"/>
                <a:tab algn="l" pos="1252440"/>
                <a:tab algn="l" pos="1701720"/>
                <a:tab algn="l" pos="2151000"/>
                <a:tab algn="l" pos="2600280"/>
                <a:tab algn="l" pos="3049560"/>
                <a:tab algn="l" pos="3498840"/>
                <a:tab algn="l" pos="3948120"/>
                <a:tab algn="l" pos="4397400"/>
                <a:tab algn="l" pos="4846680"/>
                <a:tab algn="l" pos="5295960"/>
                <a:tab algn="l" pos="5745240"/>
                <a:tab algn="l" pos="6194520"/>
                <a:tab algn="l" pos="6643800"/>
                <a:tab algn="l" pos="7093080"/>
                <a:tab algn="l" pos="7542360"/>
                <a:tab algn="l" pos="7991640"/>
                <a:tab algn="l" pos="8440560"/>
                <a:tab algn="l" pos="8889840"/>
                <a:tab algn="l" pos="9339120"/>
                <a:tab algn="l" pos="9434520"/>
                <a:tab algn="l" pos="9883800"/>
                <a:tab algn="l" pos="10333080"/>
                <a:tab algn="l" pos="10782360"/>
              </a:tabLst>
            </a:pPr>
            <a:r>
              <a:rPr b="1" lang="en-AU" sz="4800" spc="-1" strike="noStrike">
                <a:solidFill>
                  <a:srgbClr val="ffffff"/>
                </a:solidFill>
                <a:latin typeface="Calibri"/>
                <a:ea typeface="Lucida Sans Unicode"/>
              </a:rPr>
              <a:t>All the vain things </a:t>
            </a:r>
            <a:endParaRPr b="0" lang="en-US" sz="4800" spc="-1" strike="noStrike">
              <a:solidFill>
                <a:srgbClr val="ffffff"/>
              </a:solidFill>
              <a:latin typeface="Arial"/>
            </a:endParaRPr>
          </a:p>
          <a:p>
            <a:pPr marL="355680" indent="-351000" algn="ctr">
              <a:lnSpc>
                <a:spcPct val="100000"/>
              </a:lnSpc>
              <a:spcBef>
                <a:spcPts val="499"/>
              </a:spcBef>
              <a:tabLst>
                <a:tab algn="l" pos="0"/>
                <a:tab algn="l" pos="355680"/>
                <a:tab algn="l" pos="803160"/>
                <a:tab algn="l" pos="1252440"/>
                <a:tab algn="l" pos="1701720"/>
                <a:tab algn="l" pos="2151000"/>
                <a:tab algn="l" pos="2600280"/>
                <a:tab algn="l" pos="3049560"/>
                <a:tab algn="l" pos="3498840"/>
                <a:tab algn="l" pos="3948120"/>
                <a:tab algn="l" pos="4397400"/>
                <a:tab algn="l" pos="4846680"/>
                <a:tab algn="l" pos="5295960"/>
                <a:tab algn="l" pos="5745240"/>
                <a:tab algn="l" pos="6194520"/>
                <a:tab algn="l" pos="6643800"/>
                <a:tab algn="l" pos="7093080"/>
                <a:tab algn="l" pos="7542360"/>
                <a:tab algn="l" pos="7991640"/>
                <a:tab algn="l" pos="8440560"/>
                <a:tab algn="l" pos="8889840"/>
                <a:tab algn="l" pos="9339120"/>
                <a:tab algn="l" pos="9434520"/>
                <a:tab algn="l" pos="9883800"/>
                <a:tab algn="l" pos="10333080"/>
                <a:tab algn="l" pos="10782360"/>
              </a:tabLst>
            </a:pPr>
            <a:r>
              <a:rPr b="1" lang="en-AU" sz="4800" spc="-1" strike="noStrike">
                <a:solidFill>
                  <a:srgbClr val="ffffff"/>
                </a:solidFill>
                <a:latin typeface="Calibri"/>
                <a:ea typeface="Lucida Sans Unicode"/>
              </a:rPr>
              <a:t>that charm me most</a:t>
            </a:r>
            <a:endParaRPr b="0" lang="en-US" sz="4800" spc="-1" strike="noStrike">
              <a:solidFill>
                <a:srgbClr val="ffffff"/>
              </a:solidFill>
              <a:latin typeface="Arial"/>
            </a:endParaRPr>
          </a:p>
          <a:p>
            <a:pPr marL="355680" indent="-351000" algn="ctr">
              <a:lnSpc>
                <a:spcPct val="100000"/>
              </a:lnSpc>
              <a:spcBef>
                <a:spcPts val="499"/>
              </a:spcBef>
              <a:tabLst>
                <a:tab algn="l" pos="0"/>
                <a:tab algn="l" pos="355680"/>
                <a:tab algn="l" pos="803160"/>
                <a:tab algn="l" pos="1252440"/>
                <a:tab algn="l" pos="1701720"/>
                <a:tab algn="l" pos="2151000"/>
                <a:tab algn="l" pos="2600280"/>
                <a:tab algn="l" pos="3049560"/>
                <a:tab algn="l" pos="3498840"/>
                <a:tab algn="l" pos="3948120"/>
                <a:tab algn="l" pos="4397400"/>
                <a:tab algn="l" pos="4846680"/>
                <a:tab algn="l" pos="5295960"/>
                <a:tab algn="l" pos="5745240"/>
                <a:tab algn="l" pos="6194520"/>
                <a:tab algn="l" pos="6643800"/>
                <a:tab algn="l" pos="7093080"/>
                <a:tab algn="l" pos="7542360"/>
                <a:tab algn="l" pos="7991640"/>
                <a:tab algn="l" pos="8440560"/>
                <a:tab algn="l" pos="8889840"/>
                <a:tab algn="l" pos="9339120"/>
                <a:tab algn="l" pos="9434520"/>
                <a:tab algn="l" pos="9883800"/>
                <a:tab algn="l" pos="10333080"/>
                <a:tab algn="l" pos="10782360"/>
              </a:tabLst>
            </a:pPr>
            <a:r>
              <a:rPr b="1" lang="en-AU" sz="4800" spc="-1" strike="noStrike">
                <a:solidFill>
                  <a:srgbClr val="ffffff"/>
                </a:solidFill>
                <a:latin typeface="Calibri"/>
                <a:ea typeface="Lucida Sans Unicode"/>
              </a:rPr>
              <a:t>I sacrifice them to His blood</a:t>
            </a:r>
            <a:endParaRPr b="0" lang="en-US" sz="4800" spc="-1" strike="noStrike">
              <a:solidFill>
                <a:srgbClr val="ffffff"/>
              </a:solidFill>
              <a:latin typeface="Arial"/>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4" name=""/>
          <p:cNvSpPr/>
          <p:nvPr/>
        </p:nvSpPr>
        <p:spPr>
          <a:xfrm>
            <a:off x="457200" y="333360"/>
            <a:ext cx="8229600" cy="6327720"/>
          </a:xfrm>
          <a:prstGeom prst="rect">
            <a:avLst/>
          </a:prstGeom>
          <a:noFill/>
          <a:ln w="0">
            <a:noFill/>
          </a:ln>
        </p:spPr>
        <p:style>
          <a:lnRef idx="0"/>
          <a:fillRef idx="0"/>
          <a:effectRef idx="0"/>
          <a:fontRef idx="minor"/>
        </p:style>
        <p:txBody>
          <a:bodyPr anchor="t">
            <a:noAutofit/>
          </a:bodyPr>
          <a:p>
            <a:pPr marL="355680" indent="-351000" algn="ctr">
              <a:lnSpc>
                <a:spcPct val="100000"/>
              </a:lnSpc>
              <a:spcBef>
                <a:spcPts val="499"/>
              </a:spcBef>
              <a:tabLst>
                <a:tab algn="l" pos="0"/>
                <a:tab algn="l" pos="355680"/>
                <a:tab algn="l" pos="803160"/>
                <a:tab algn="l" pos="1252440"/>
                <a:tab algn="l" pos="1701720"/>
                <a:tab algn="l" pos="2151000"/>
                <a:tab algn="l" pos="2600280"/>
                <a:tab algn="l" pos="3049560"/>
                <a:tab algn="l" pos="3498840"/>
                <a:tab algn="l" pos="3948120"/>
                <a:tab algn="l" pos="4397400"/>
                <a:tab algn="l" pos="4846680"/>
                <a:tab algn="l" pos="5295960"/>
                <a:tab algn="l" pos="5745240"/>
                <a:tab algn="l" pos="6194520"/>
                <a:tab algn="l" pos="6643800"/>
                <a:tab algn="l" pos="7093080"/>
                <a:tab algn="l" pos="7542360"/>
                <a:tab algn="l" pos="7991640"/>
                <a:tab algn="l" pos="8440560"/>
                <a:tab algn="l" pos="8889840"/>
                <a:tab algn="l" pos="9339120"/>
                <a:tab algn="l" pos="9434520"/>
                <a:tab algn="l" pos="9883800"/>
                <a:tab algn="l" pos="10333080"/>
                <a:tab algn="l" pos="10782360"/>
              </a:tabLst>
            </a:pPr>
            <a:r>
              <a:rPr b="1" lang="en-AU" sz="4800" spc="-1" strike="noStrike">
                <a:solidFill>
                  <a:srgbClr val="ffffff"/>
                </a:solidFill>
                <a:latin typeface="Calibri"/>
                <a:ea typeface="Lucida Sans Unicode"/>
              </a:rPr>
              <a:t>See from his head, </a:t>
            </a:r>
            <a:endParaRPr b="0" lang="en-US" sz="4800" spc="-1" strike="noStrike">
              <a:solidFill>
                <a:srgbClr val="ffffff"/>
              </a:solidFill>
              <a:latin typeface="Arial"/>
            </a:endParaRPr>
          </a:p>
          <a:p>
            <a:pPr marL="355680" indent="-351000" algn="ctr">
              <a:lnSpc>
                <a:spcPct val="100000"/>
              </a:lnSpc>
              <a:spcBef>
                <a:spcPts val="499"/>
              </a:spcBef>
              <a:tabLst>
                <a:tab algn="l" pos="0"/>
                <a:tab algn="l" pos="355680"/>
                <a:tab algn="l" pos="803160"/>
                <a:tab algn="l" pos="1252440"/>
                <a:tab algn="l" pos="1701720"/>
                <a:tab algn="l" pos="2151000"/>
                <a:tab algn="l" pos="2600280"/>
                <a:tab algn="l" pos="3049560"/>
                <a:tab algn="l" pos="3498840"/>
                <a:tab algn="l" pos="3948120"/>
                <a:tab algn="l" pos="4397400"/>
                <a:tab algn="l" pos="4846680"/>
                <a:tab algn="l" pos="5295960"/>
                <a:tab algn="l" pos="5745240"/>
                <a:tab algn="l" pos="6194520"/>
                <a:tab algn="l" pos="6643800"/>
                <a:tab algn="l" pos="7093080"/>
                <a:tab algn="l" pos="7542360"/>
                <a:tab algn="l" pos="7991640"/>
                <a:tab algn="l" pos="8440560"/>
                <a:tab algn="l" pos="8889840"/>
                <a:tab algn="l" pos="9339120"/>
                <a:tab algn="l" pos="9434520"/>
                <a:tab algn="l" pos="9883800"/>
                <a:tab algn="l" pos="10333080"/>
                <a:tab algn="l" pos="10782360"/>
              </a:tabLst>
            </a:pPr>
            <a:r>
              <a:rPr b="1" lang="en-AU" sz="4800" spc="-1" strike="noStrike">
                <a:solidFill>
                  <a:srgbClr val="ffffff"/>
                </a:solidFill>
                <a:latin typeface="Calibri"/>
                <a:ea typeface="Lucida Sans Unicode"/>
              </a:rPr>
              <a:t>his hands, his feet</a:t>
            </a:r>
            <a:endParaRPr b="0" lang="en-US" sz="4800" spc="-1" strike="noStrike">
              <a:solidFill>
                <a:srgbClr val="ffffff"/>
              </a:solidFill>
              <a:latin typeface="Arial"/>
            </a:endParaRPr>
          </a:p>
          <a:p>
            <a:pPr marL="355680" indent="-351000" algn="ctr">
              <a:lnSpc>
                <a:spcPct val="100000"/>
              </a:lnSpc>
              <a:spcBef>
                <a:spcPts val="499"/>
              </a:spcBef>
              <a:tabLst>
                <a:tab algn="l" pos="0"/>
                <a:tab algn="l" pos="355680"/>
                <a:tab algn="l" pos="803160"/>
                <a:tab algn="l" pos="1252440"/>
                <a:tab algn="l" pos="1701720"/>
                <a:tab algn="l" pos="2151000"/>
                <a:tab algn="l" pos="2600280"/>
                <a:tab algn="l" pos="3049560"/>
                <a:tab algn="l" pos="3498840"/>
                <a:tab algn="l" pos="3948120"/>
                <a:tab algn="l" pos="4397400"/>
                <a:tab algn="l" pos="4846680"/>
                <a:tab algn="l" pos="5295960"/>
                <a:tab algn="l" pos="5745240"/>
                <a:tab algn="l" pos="6194520"/>
                <a:tab algn="l" pos="6643800"/>
                <a:tab algn="l" pos="7093080"/>
                <a:tab algn="l" pos="7542360"/>
                <a:tab algn="l" pos="7991640"/>
                <a:tab algn="l" pos="8440560"/>
                <a:tab algn="l" pos="8889840"/>
                <a:tab algn="l" pos="9339120"/>
                <a:tab algn="l" pos="9434520"/>
                <a:tab algn="l" pos="9883800"/>
                <a:tab algn="l" pos="10333080"/>
                <a:tab algn="l" pos="10782360"/>
              </a:tabLst>
            </a:pPr>
            <a:r>
              <a:rPr b="1" lang="en-AU" sz="4800" spc="-1" strike="noStrike">
                <a:solidFill>
                  <a:srgbClr val="ffffff"/>
                </a:solidFill>
                <a:latin typeface="Calibri"/>
                <a:ea typeface="Lucida Sans Unicode"/>
              </a:rPr>
              <a:t>Sorrow and love </a:t>
            </a:r>
            <a:endParaRPr b="0" lang="en-US" sz="4800" spc="-1" strike="noStrike">
              <a:solidFill>
                <a:srgbClr val="ffffff"/>
              </a:solidFill>
              <a:latin typeface="Arial"/>
            </a:endParaRPr>
          </a:p>
          <a:p>
            <a:pPr marL="355680" indent="-351000" algn="ctr">
              <a:lnSpc>
                <a:spcPct val="100000"/>
              </a:lnSpc>
              <a:spcBef>
                <a:spcPts val="499"/>
              </a:spcBef>
              <a:tabLst>
                <a:tab algn="l" pos="0"/>
                <a:tab algn="l" pos="355680"/>
                <a:tab algn="l" pos="803160"/>
                <a:tab algn="l" pos="1252440"/>
                <a:tab algn="l" pos="1701720"/>
                <a:tab algn="l" pos="2151000"/>
                <a:tab algn="l" pos="2600280"/>
                <a:tab algn="l" pos="3049560"/>
                <a:tab algn="l" pos="3498840"/>
                <a:tab algn="l" pos="3948120"/>
                <a:tab algn="l" pos="4397400"/>
                <a:tab algn="l" pos="4846680"/>
                <a:tab algn="l" pos="5295960"/>
                <a:tab algn="l" pos="5745240"/>
                <a:tab algn="l" pos="6194520"/>
                <a:tab algn="l" pos="6643800"/>
                <a:tab algn="l" pos="7093080"/>
                <a:tab algn="l" pos="7542360"/>
                <a:tab algn="l" pos="7991640"/>
                <a:tab algn="l" pos="8440560"/>
                <a:tab algn="l" pos="8889840"/>
                <a:tab algn="l" pos="9339120"/>
                <a:tab algn="l" pos="9434520"/>
                <a:tab algn="l" pos="9883800"/>
                <a:tab algn="l" pos="10333080"/>
                <a:tab algn="l" pos="10782360"/>
              </a:tabLst>
            </a:pPr>
            <a:r>
              <a:rPr b="1" lang="en-AU" sz="4800" spc="-1" strike="noStrike">
                <a:solidFill>
                  <a:srgbClr val="ffffff"/>
                </a:solidFill>
                <a:latin typeface="Calibri"/>
                <a:ea typeface="Lucida Sans Unicode"/>
              </a:rPr>
              <a:t>flow mingling down</a:t>
            </a:r>
            <a:endParaRPr b="0" lang="en-US" sz="4800" spc="-1" strike="noStrike">
              <a:solidFill>
                <a:srgbClr val="ffffff"/>
              </a:solidFill>
              <a:latin typeface="Arial"/>
            </a:endParaRPr>
          </a:p>
          <a:p>
            <a:pPr marL="355680" indent="-351000" algn="ctr">
              <a:lnSpc>
                <a:spcPct val="100000"/>
              </a:lnSpc>
              <a:spcBef>
                <a:spcPts val="499"/>
              </a:spcBef>
              <a:tabLst>
                <a:tab algn="l" pos="0"/>
                <a:tab algn="l" pos="355680"/>
                <a:tab algn="l" pos="803160"/>
                <a:tab algn="l" pos="1252440"/>
                <a:tab algn="l" pos="1701720"/>
                <a:tab algn="l" pos="2151000"/>
                <a:tab algn="l" pos="2600280"/>
                <a:tab algn="l" pos="3049560"/>
                <a:tab algn="l" pos="3498840"/>
                <a:tab algn="l" pos="3948120"/>
                <a:tab algn="l" pos="4397400"/>
                <a:tab algn="l" pos="4846680"/>
                <a:tab algn="l" pos="5295960"/>
                <a:tab algn="l" pos="5745240"/>
                <a:tab algn="l" pos="6194520"/>
                <a:tab algn="l" pos="6643800"/>
                <a:tab algn="l" pos="7093080"/>
                <a:tab algn="l" pos="7542360"/>
                <a:tab algn="l" pos="7991640"/>
                <a:tab algn="l" pos="8440560"/>
                <a:tab algn="l" pos="8889840"/>
                <a:tab algn="l" pos="9339120"/>
                <a:tab algn="l" pos="9434520"/>
                <a:tab algn="l" pos="9883800"/>
                <a:tab algn="l" pos="10333080"/>
                <a:tab algn="l" pos="10782360"/>
              </a:tabLst>
            </a:pPr>
            <a:r>
              <a:rPr b="1" lang="en-AU" sz="4800" spc="-1" strike="noStrike">
                <a:solidFill>
                  <a:srgbClr val="ffffff"/>
                </a:solidFill>
                <a:latin typeface="Calibri"/>
                <a:ea typeface="Lucida Sans Unicode"/>
              </a:rPr>
              <a:t>Did e’er such love </a:t>
            </a:r>
            <a:endParaRPr b="0" lang="en-US" sz="4800" spc="-1" strike="noStrike">
              <a:solidFill>
                <a:srgbClr val="ffffff"/>
              </a:solidFill>
              <a:latin typeface="Arial"/>
            </a:endParaRPr>
          </a:p>
          <a:p>
            <a:pPr marL="355680" indent="-351000" algn="ctr">
              <a:lnSpc>
                <a:spcPct val="100000"/>
              </a:lnSpc>
              <a:spcBef>
                <a:spcPts val="499"/>
              </a:spcBef>
              <a:tabLst>
                <a:tab algn="l" pos="0"/>
                <a:tab algn="l" pos="355680"/>
                <a:tab algn="l" pos="803160"/>
                <a:tab algn="l" pos="1252440"/>
                <a:tab algn="l" pos="1701720"/>
                <a:tab algn="l" pos="2151000"/>
                <a:tab algn="l" pos="2600280"/>
                <a:tab algn="l" pos="3049560"/>
                <a:tab algn="l" pos="3498840"/>
                <a:tab algn="l" pos="3948120"/>
                <a:tab algn="l" pos="4397400"/>
                <a:tab algn="l" pos="4846680"/>
                <a:tab algn="l" pos="5295960"/>
                <a:tab algn="l" pos="5745240"/>
                <a:tab algn="l" pos="6194520"/>
                <a:tab algn="l" pos="6643800"/>
                <a:tab algn="l" pos="7093080"/>
                <a:tab algn="l" pos="7542360"/>
                <a:tab algn="l" pos="7991640"/>
                <a:tab algn="l" pos="8440560"/>
                <a:tab algn="l" pos="8889840"/>
                <a:tab algn="l" pos="9339120"/>
                <a:tab algn="l" pos="9434520"/>
                <a:tab algn="l" pos="9883800"/>
                <a:tab algn="l" pos="10333080"/>
                <a:tab algn="l" pos="10782360"/>
              </a:tabLst>
            </a:pPr>
            <a:r>
              <a:rPr b="1" lang="en-AU" sz="4800" spc="-1" strike="noStrike">
                <a:solidFill>
                  <a:srgbClr val="ffffff"/>
                </a:solidFill>
                <a:latin typeface="Calibri"/>
                <a:ea typeface="Lucida Sans Unicode"/>
              </a:rPr>
              <a:t>and sorrow meet</a:t>
            </a:r>
            <a:endParaRPr b="0" lang="en-US" sz="4800" spc="-1" strike="noStrike">
              <a:solidFill>
                <a:srgbClr val="ffffff"/>
              </a:solidFill>
              <a:latin typeface="Arial"/>
            </a:endParaRPr>
          </a:p>
          <a:p>
            <a:pPr marL="355680" indent="-351000" algn="ctr">
              <a:lnSpc>
                <a:spcPct val="100000"/>
              </a:lnSpc>
              <a:spcBef>
                <a:spcPts val="499"/>
              </a:spcBef>
              <a:tabLst>
                <a:tab algn="l" pos="0"/>
                <a:tab algn="l" pos="355680"/>
                <a:tab algn="l" pos="803160"/>
                <a:tab algn="l" pos="1252440"/>
                <a:tab algn="l" pos="1701720"/>
                <a:tab algn="l" pos="2151000"/>
                <a:tab algn="l" pos="2600280"/>
                <a:tab algn="l" pos="3049560"/>
                <a:tab algn="l" pos="3498840"/>
                <a:tab algn="l" pos="3948120"/>
                <a:tab algn="l" pos="4397400"/>
                <a:tab algn="l" pos="4846680"/>
                <a:tab algn="l" pos="5295960"/>
                <a:tab algn="l" pos="5745240"/>
                <a:tab algn="l" pos="6194520"/>
                <a:tab algn="l" pos="6643800"/>
                <a:tab algn="l" pos="7093080"/>
                <a:tab algn="l" pos="7542360"/>
                <a:tab algn="l" pos="7991640"/>
                <a:tab algn="l" pos="8440560"/>
                <a:tab algn="l" pos="8889840"/>
                <a:tab algn="l" pos="9339120"/>
                <a:tab algn="l" pos="9434520"/>
                <a:tab algn="l" pos="9883800"/>
                <a:tab algn="l" pos="10333080"/>
                <a:tab algn="l" pos="10782360"/>
              </a:tabLst>
            </a:pPr>
            <a:r>
              <a:rPr b="1" lang="en-AU" sz="4800" spc="-1" strike="noStrike">
                <a:solidFill>
                  <a:srgbClr val="ffffff"/>
                </a:solidFill>
                <a:latin typeface="Calibri"/>
                <a:ea typeface="Lucida Sans Unicode"/>
              </a:rPr>
              <a:t>Or thorns compose </a:t>
            </a:r>
            <a:endParaRPr b="0" lang="en-US" sz="4800" spc="-1" strike="noStrike">
              <a:solidFill>
                <a:srgbClr val="ffffff"/>
              </a:solidFill>
              <a:latin typeface="Arial"/>
            </a:endParaRPr>
          </a:p>
          <a:p>
            <a:pPr marL="355680" indent="-351000" algn="ctr">
              <a:lnSpc>
                <a:spcPct val="100000"/>
              </a:lnSpc>
              <a:spcBef>
                <a:spcPts val="499"/>
              </a:spcBef>
              <a:tabLst>
                <a:tab algn="l" pos="0"/>
                <a:tab algn="l" pos="355680"/>
                <a:tab algn="l" pos="803160"/>
                <a:tab algn="l" pos="1252440"/>
                <a:tab algn="l" pos="1701720"/>
                <a:tab algn="l" pos="2151000"/>
                <a:tab algn="l" pos="2600280"/>
                <a:tab algn="l" pos="3049560"/>
                <a:tab algn="l" pos="3498840"/>
                <a:tab algn="l" pos="3948120"/>
                <a:tab algn="l" pos="4397400"/>
                <a:tab algn="l" pos="4846680"/>
                <a:tab algn="l" pos="5295960"/>
                <a:tab algn="l" pos="5745240"/>
                <a:tab algn="l" pos="6194520"/>
                <a:tab algn="l" pos="6643800"/>
                <a:tab algn="l" pos="7093080"/>
                <a:tab algn="l" pos="7542360"/>
                <a:tab algn="l" pos="7991640"/>
                <a:tab algn="l" pos="8440560"/>
                <a:tab algn="l" pos="8889840"/>
                <a:tab algn="l" pos="9339120"/>
                <a:tab algn="l" pos="9434520"/>
                <a:tab algn="l" pos="9883800"/>
                <a:tab algn="l" pos="10333080"/>
                <a:tab algn="l" pos="10782360"/>
              </a:tabLst>
            </a:pPr>
            <a:r>
              <a:rPr b="1" lang="en-AU" sz="4800" spc="-1" strike="noStrike">
                <a:solidFill>
                  <a:srgbClr val="ffffff"/>
                </a:solidFill>
                <a:latin typeface="Calibri"/>
                <a:ea typeface="Lucida Sans Unicode"/>
              </a:rPr>
              <a:t>so rich a crown?</a:t>
            </a:r>
            <a:endParaRPr b="0" lang="en-US" sz="4800" spc="-1" strike="noStrike">
              <a:solidFill>
                <a:srgbClr val="ffffff"/>
              </a:solidFill>
              <a:latin typeface="Arial"/>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5" name=""/>
          <p:cNvSpPr/>
          <p:nvPr/>
        </p:nvSpPr>
        <p:spPr>
          <a:xfrm>
            <a:off x="457200" y="333360"/>
            <a:ext cx="8229600" cy="6327720"/>
          </a:xfrm>
          <a:prstGeom prst="rect">
            <a:avLst/>
          </a:prstGeom>
          <a:noFill/>
          <a:ln w="0">
            <a:noFill/>
          </a:ln>
        </p:spPr>
        <p:style>
          <a:lnRef idx="0"/>
          <a:fillRef idx="0"/>
          <a:effectRef idx="0"/>
          <a:fontRef idx="minor"/>
        </p:style>
        <p:txBody>
          <a:bodyPr anchor="t">
            <a:noAutofit/>
          </a:bodyPr>
          <a:p>
            <a:pPr marL="355680" indent="-351000" algn="ctr">
              <a:lnSpc>
                <a:spcPct val="100000"/>
              </a:lnSpc>
              <a:spcBef>
                <a:spcPts val="499"/>
              </a:spcBef>
              <a:tabLst>
                <a:tab algn="l" pos="0"/>
                <a:tab algn="l" pos="355680"/>
                <a:tab algn="l" pos="803160"/>
                <a:tab algn="l" pos="1252440"/>
                <a:tab algn="l" pos="1701720"/>
                <a:tab algn="l" pos="2151000"/>
                <a:tab algn="l" pos="2600280"/>
                <a:tab algn="l" pos="3049560"/>
                <a:tab algn="l" pos="3498840"/>
                <a:tab algn="l" pos="3948120"/>
                <a:tab algn="l" pos="4397400"/>
                <a:tab algn="l" pos="4846680"/>
                <a:tab algn="l" pos="5295960"/>
                <a:tab algn="l" pos="5745240"/>
                <a:tab algn="l" pos="6194520"/>
                <a:tab algn="l" pos="6643800"/>
                <a:tab algn="l" pos="7093080"/>
                <a:tab algn="l" pos="7542360"/>
                <a:tab algn="l" pos="7991640"/>
                <a:tab algn="l" pos="8440560"/>
                <a:tab algn="l" pos="8889840"/>
                <a:tab algn="l" pos="9339120"/>
                <a:tab algn="l" pos="9434520"/>
                <a:tab algn="l" pos="9883800"/>
                <a:tab algn="l" pos="10333080"/>
                <a:tab algn="l" pos="10782360"/>
              </a:tabLst>
            </a:pPr>
            <a:r>
              <a:rPr b="1" lang="en-AU" sz="4800" spc="-1" strike="noStrike">
                <a:solidFill>
                  <a:srgbClr val="ffffff"/>
                </a:solidFill>
                <a:latin typeface="Calibri"/>
                <a:ea typeface="Lucida Sans Unicode"/>
              </a:rPr>
              <a:t>Were the whole realm of nature mine</a:t>
            </a:r>
            <a:endParaRPr b="0" lang="en-US" sz="4800" spc="-1" strike="noStrike">
              <a:solidFill>
                <a:srgbClr val="ffffff"/>
              </a:solidFill>
              <a:latin typeface="Arial"/>
            </a:endParaRPr>
          </a:p>
          <a:p>
            <a:pPr marL="355680" indent="-351000" algn="ctr">
              <a:lnSpc>
                <a:spcPct val="100000"/>
              </a:lnSpc>
              <a:spcBef>
                <a:spcPts val="499"/>
              </a:spcBef>
              <a:tabLst>
                <a:tab algn="l" pos="0"/>
                <a:tab algn="l" pos="355680"/>
                <a:tab algn="l" pos="803160"/>
                <a:tab algn="l" pos="1252440"/>
                <a:tab algn="l" pos="1701720"/>
                <a:tab algn="l" pos="2151000"/>
                <a:tab algn="l" pos="2600280"/>
                <a:tab algn="l" pos="3049560"/>
                <a:tab algn="l" pos="3498840"/>
                <a:tab algn="l" pos="3948120"/>
                <a:tab algn="l" pos="4397400"/>
                <a:tab algn="l" pos="4846680"/>
                <a:tab algn="l" pos="5295960"/>
                <a:tab algn="l" pos="5745240"/>
                <a:tab algn="l" pos="6194520"/>
                <a:tab algn="l" pos="6643800"/>
                <a:tab algn="l" pos="7093080"/>
                <a:tab algn="l" pos="7542360"/>
                <a:tab algn="l" pos="7991640"/>
                <a:tab algn="l" pos="8440560"/>
                <a:tab algn="l" pos="8889840"/>
                <a:tab algn="l" pos="9339120"/>
                <a:tab algn="l" pos="9434520"/>
                <a:tab algn="l" pos="9883800"/>
                <a:tab algn="l" pos="10333080"/>
                <a:tab algn="l" pos="10782360"/>
              </a:tabLst>
            </a:pPr>
            <a:r>
              <a:rPr b="1" lang="en-AU" sz="4800" spc="-1" strike="noStrike">
                <a:solidFill>
                  <a:srgbClr val="ffffff"/>
                </a:solidFill>
                <a:latin typeface="Calibri"/>
                <a:ea typeface="Lucida Sans Unicode"/>
              </a:rPr>
              <a:t>That were an off’ring </a:t>
            </a:r>
            <a:endParaRPr b="0" lang="en-US" sz="4800" spc="-1" strike="noStrike">
              <a:solidFill>
                <a:srgbClr val="ffffff"/>
              </a:solidFill>
              <a:latin typeface="Arial"/>
            </a:endParaRPr>
          </a:p>
          <a:p>
            <a:pPr marL="355680" indent="-351000" algn="ctr">
              <a:lnSpc>
                <a:spcPct val="100000"/>
              </a:lnSpc>
              <a:spcBef>
                <a:spcPts val="499"/>
              </a:spcBef>
              <a:tabLst>
                <a:tab algn="l" pos="0"/>
                <a:tab algn="l" pos="355680"/>
                <a:tab algn="l" pos="803160"/>
                <a:tab algn="l" pos="1252440"/>
                <a:tab algn="l" pos="1701720"/>
                <a:tab algn="l" pos="2151000"/>
                <a:tab algn="l" pos="2600280"/>
                <a:tab algn="l" pos="3049560"/>
                <a:tab algn="l" pos="3498840"/>
                <a:tab algn="l" pos="3948120"/>
                <a:tab algn="l" pos="4397400"/>
                <a:tab algn="l" pos="4846680"/>
                <a:tab algn="l" pos="5295960"/>
                <a:tab algn="l" pos="5745240"/>
                <a:tab algn="l" pos="6194520"/>
                <a:tab algn="l" pos="6643800"/>
                <a:tab algn="l" pos="7093080"/>
                <a:tab algn="l" pos="7542360"/>
                <a:tab algn="l" pos="7991640"/>
                <a:tab algn="l" pos="8440560"/>
                <a:tab algn="l" pos="8889840"/>
                <a:tab algn="l" pos="9339120"/>
                <a:tab algn="l" pos="9434520"/>
                <a:tab algn="l" pos="9883800"/>
                <a:tab algn="l" pos="10333080"/>
                <a:tab algn="l" pos="10782360"/>
              </a:tabLst>
            </a:pPr>
            <a:r>
              <a:rPr b="1" lang="en-AU" sz="4800" spc="-1" strike="noStrike">
                <a:solidFill>
                  <a:srgbClr val="ffffff"/>
                </a:solidFill>
                <a:latin typeface="Calibri"/>
                <a:ea typeface="Lucida Sans Unicode"/>
              </a:rPr>
              <a:t>far too small</a:t>
            </a:r>
            <a:endParaRPr b="0" lang="en-US" sz="4800" spc="-1" strike="noStrike">
              <a:solidFill>
                <a:srgbClr val="ffffff"/>
              </a:solidFill>
              <a:latin typeface="Arial"/>
            </a:endParaRPr>
          </a:p>
          <a:p>
            <a:pPr marL="355680" indent="-351000" algn="ctr">
              <a:lnSpc>
                <a:spcPct val="100000"/>
              </a:lnSpc>
              <a:spcBef>
                <a:spcPts val="499"/>
              </a:spcBef>
              <a:tabLst>
                <a:tab algn="l" pos="0"/>
                <a:tab algn="l" pos="355680"/>
                <a:tab algn="l" pos="803160"/>
                <a:tab algn="l" pos="1252440"/>
                <a:tab algn="l" pos="1701720"/>
                <a:tab algn="l" pos="2151000"/>
                <a:tab algn="l" pos="2600280"/>
                <a:tab algn="l" pos="3049560"/>
                <a:tab algn="l" pos="3498840"/>
                <a:tab algn="l" pos="3948120"/>
                <a:tab algn="l" pos="4397400"/>
                <a:tab algn="l" pos="4846680"/>
                <a:tab algn="l" pos="5295960"/>
                <a:tab algn="l" pos="5745240"/>
                <a:tab algn="l" pos="6194520"/>
                <a:tab algn="l" pos="6643800"/>
                <a:tab algn="l" pos="7093080"/>
                <a:tab algn="l" pos="7542360"/>
                <a:tab algn="l" pos="7991640"/>
                <a:tab algn="l" pos="8440560"/>
                <a:tab algn="l" pos="8889840"/>
                <a:tab algn="l" pos="9339120"/>
                <a:tab algn="l" pos="9434520"/>
                <a:tab algn="l" pos="9883800"/>
                <a:tab algn="l" pos="10333080"/>
                <a:tab algn="l" pos="10782360"/>
              </a:tabLst>
            </a:pPr>
            <a:r>
              <a:rPr b="1" lang="en-AU" sz="4800" spc="-1" strike="noStrike">
                <a:solidFill>
                  <a:srgbClr val="ffffff"/>
                </a:solidFill>
                <a:latin typeface="Calibri"/>
                <a:ea typeface="Lucida Sans Unicode"/>
              </a:rPr>
              <a:t>Love so amazing, so divine</a:t>
            </a:r>
            <a:endParaRPr b="0" lang="en-US" sz="4800" spc="-1" strike="noStrike">
              <a:solidFill>
                <a:srgbClr val="ffffff"/>
              </a:solidFill>
              <a:latin typeface="Arial"/>
            </a:endParaRPr>
          </a:p>
          <a:p>
            <a:pPr marL="355680" indent="-351000" algn="ctr">
              <a:lnSpc>
                <a:spcPct val="100000"/>
              </a:lnSpc>
              <a:spcBef>
                <a:spcPts val="499"/>
              </a:spcBef>
              <a:tabLst>
                <a:tab algn="l" pos="0"/>
                <a:tab algn="l" pos="355680"/>
                <a:tab algn="l" pos="803160"/>
                <a:tab algn="l" pos="1252440"/>
                <a:tab algn="l" pos="1701720"/>
                <a:tab algn="l" pos="2151000"/>
                <a:tab algn="l" pos="2600280"/>
                <a:tab algn="l" pos="3049560"/>
                <a:tab algn="l" pos="3498840"/>
                <a:tab algn="l" pos="3948120"/>
                <a:tab algn="l" pos="4397400"/>
                <a:tab algn="l" pos="4846680"/>
                <a:tab algn="l" pos="5295960"/>
                <a:tab algn="l" pos="5745240"/>
                <a:tab algn="l" pos="6194520"/>
                <a:tab algn="l" pos="6643800"/>
                <a:tab algn="l" pos="7093080"/>
                <a:tab algn="l" pos="7542360"/>
                <a:tab algn="l" pos="7991640"/>
                <a:tab algn="l" pos="8440560"/>
                <a:tab algn="l" pos="8889840"/>
                <a:tab algn="l" pos="9339120"/>
                <a:tab algn="l" pos="9434520"/>
                <a:tab algn="l" pos="9883800"/>
                <a:tab algn="l" pos="10333080"/>
                <a:tab algn="l" pos="10782360"/>
              </a:tabLst>
            </a:pPr>
            <a:r>
              <a:rPr b="1" lang="en-AU" sz="4800" spc="-1" strike="noStrike">
                <a:solidFill>
                  <a:srgbClr val="ffffff"/>
                </a:solidFill>
                <a:latin typeface="Calibri"/>
                <a:ea typeface="Lucida Sans Unicode"/>
              </a:rPr>
              <a:t>Demands my soul, </a:t>
            </a:r>
            <a:endParaRPr b="0" lang="en-US" sz="4800" spc="-1" strike="noStrike">
              <a:solidFill>
                <a:srgbClr val="ffffff"/>
              </a:solidFill>
              <a:latin typeface="Arial"/>
            </a:endParaRPr>
          </a:p>
          <a:p>
            <a:pPr marL="355680" indent="-351000" algn="ctr">
              <a:lnSpc>
                <a:spcPct val="100000"/>
              </a:lnSpc>
              <a:spcBef>
                <a:spcPts val="499"/>
              </a:spcBef>
              <a:tabLst>
                <a:tab algn="l" pos="0"/>
                <a:tab algn="l" pos="355680"/>
                <a:tab algn="l" pos="803160"/>
                <a:tab algn="l" pos="1252440"/>
                <a:tab algn="l" pos="1701720"/>
                <a:tab algn="l" pos="2151000"/>
                <a:tab algn="l" pos="2600280"/>
                <a:tab algn="l" pos="3049560"/>
                <a:tab algn="l" pos="3498840"/>
                <a:tab algn="l" pos="3948120"/>
                <a:tab algn="l" pos="4397400"/>
                <a:tab algn="l" pos="4846680"/>
                <a:tab algn="l" pos="5295960"/>
                <a:tab algn="l" pos="5745240"/>
                <a:tab algn="l" pos="6194520"/>
                <a:tab algn="l" pos="6643800"/>
                <a:tab algn="l" pos="7093080"/>
                <a:tab algn="l" pos="7542360"/>
                <a:tab algn="l" pos="7991640"/>
                <a:tab algn="l" pos="8440560"/>
                <a:tab algn="l" pos="8889840"/>
                <a:tab algn="l" pos="9339120"/>
                <a:tab algn="l" pos="9434520"/>
                <a:tab algn="l" pos="9883800"/>
                <a:tab algn="l" pos="10333080"/>
                <a:tab algn="l" pos="10782360"/>
              </a:tabLst>
            </a:pPr>
            <a:r>
              <a:rPr b="1" lang="en-AU" sz="4800" spc="-1" strike="noStrike">
                <a:solidFill>
                  <a:srgbClr val="ffffff"/>
                </a:solidFill>
                <a:latin typeface="Calibri"/>
                <a:ea typeface="Lucida Sans Unicode"/>
              </a:rPr>
              <a:t>my life, my all</a:t>
            </a:r>
            <a:endParaRPr b="0" lang="en-US" sz="4800" spc="-1" strike="noStrike">
              <a:solidFill>
                <a:srgbClr val="ffffff"/>
              </a:solidFill>
              <a:latin typeface="Arial"/>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7" name=""/>
          <p:cNvSpPr/>
          <p:nvPr/>
        </p:nvSpPr>
        <p:spPr>
          <a:xfrm>
            <a:off x="457200" y="1052640"/>
            <a:ext cx="8229600" cy="5830920"/>
          </a:xfrm>
          <a:prstGeom prst="rect">
            <a:avLst/>
          </a:prstGeom>
          <a:noFill/>
          <a:ln w="0">
            <a:noFill/>
          </a:ln>
        </p:spPr>
        <p:style>
          <a:lnRef idx="0"/>
          <a:fillRef idx="0"/>
          <a:effectRef idx="0"/>
          <a:fontRef idx="minor"/>
        </p:style>
        <p:txBody>
          <a:bodyPr anchor="t">
            <a:noAutofit/>
          </a:bodyPr>
          <a:p>
            <a:pPr marL="343080" indent="-338400">
              <a:lnSpc>
                <a:spcPct val="100000"/>
              </a:lnSpc>
              <a:spcBef>
                <a:spcPts val="10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en-AU" sz="4000" spc="-1" strike="noStrike">
                <a:solidFill>
                  <a:srgbClr val="ffffff"/>
                </a:solidFill>
                <a:latin typeface="Calibri"/>
                <a:ea typeface="Lucida Sans Unicode"/>
              </a:rPr>
              <a:t>But he denied it. “I don’t know or understand what you’re talking about,” he said, and went out into the entryway. </a:t>
            </a:r>
            <a:endParaRPr b="0" lang="en-US" sz="4000" spc="-1" strike="noStrike">
              <a:solidFill>
                <a:srgbClr val="ffffff"/>
              </a:solidFill>
              <a:latin typeface="Arial"/>
            </a:endParaRPr>
          </a:p>
          <a:p>
            <a:pPr marL="343080" indent="-338400">
              <a:lnSpc>
                <a:spcPct val="100000"/>
              </a:lnSpc>
              <a:spcBef>
                <a:spcPts val="10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en-AU" sz="4000" spc="-1" strike="noStrike">
                <a:solidFill>
                  <a:srgbClr val="ffffff"/>
                </a:solidFill>
                <a:latin typeface="Calibri"/>
                <a:ea typeface="Lucida Sans Unicode"/>
              </a:rPr>
              <a:t>When the servant girl saw him there, she said again to those standing around, “This fellow is one of them.” Again he denied it. </a:t>
            </a:r>
            <a:endParaRPr b="0" lang="en-US" sz="4000" spc="-1" strike="noStrike">
              <a:solidFill>
                <a:srgbClr val="ffffff"/>
              </a:solidFill>
              <a:latin typeface="Arial"/>
            </a:endParaRPr>
          </a:p>
          <a:p>
            <a:pPr marL="343080" indent="-338400">
              <a:lnSpc>
                <a:spcPct val="100000"/>
              </a:lnSpc>
              <a:spcBef>
                <a:spcPts val="10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en-AU" sz="4000" spc="-1" strike="noStrike">
                <a:solidFill>
                  <a:srgbClr val="ffffff"/>
                </a:solidFill>
                <a:latin typeface="Calibri"/>
                <a:ea typeface="Lucida Sans Unicode"/>
              </a:rPr>
              <a:t>	</a:t>
            </a:r>
            <a:endParaRPr b="0" lang="en-US" sz="4000" spc="-1" strike="noStrike">
              <a:solidFill>
                <a:srgbClr val="ffffff"/>
              </a:solidFill>
              <a:latin typeface="Arial"/>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6" name=""/>
          <p:cNvSpPr/>
          <p:nvPr/>
        </p:nvSpPr>
        <p:spPr>
          <a:xfrm>
            <a:off x="685800" y="2597040"/>
            <a:ext cx="7772400" cy="1201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AU" sz="7200" spc="-1" strike="noStrike">
                <a:solidFill>
                  <a:srgbClr val="ffffff"/>
                </a:solidFill>
                <a:latin typeface="Calibri"/>
                <a:ea typeface="Lucida Sans Unicode"/>
              </a:rPr>
              <a:t>Refreshments!</a:t>
            </a:r>
            <a:endParaRPr b="0" lang="en-US" sz="72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8" name=""/>
          <p:cNvSpPr/>
          <p:nvPr/>
        </p:nvSpPr>
        <p:spPr>
          <a:xfrm>
            <a:off x="457200" y="1285920"/>
            <a:ext cx="8229600" cy="4357800"/>
          </a:xfrm>
          <a:prstGeom prst="rect">
            <a:avLst/>
          </a:prstGeom>
          <a:noFill/>
          <a:ln w="0">
            <a:noFill/>
          </a:ln>
        </p:spPr>
        <p:style>
          <a:lnRef idx="0"/>
          <a:fillRef idx="0"/>
          <a:effectRef idx="0"/>
          <a:fontRef idx="minor"/>
        </p:style>
        <p:txBody>
          <a:bodyPr anchor="t">
            <a:noAutofit/>
          </a:bodyPr>
          <a:p>
            <a:pPr marL="343080" indent="-338400">
              <a:lnSpc>
                <a:spcPct val="100000"/>
              </a:lnSpc>
              <a:spcBef>
                <a:spcPts val="10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en-AU" sz="4000" spc="-1" strike="noStrike">
                <a:solidFill>
                  <a:srgbClr val="ffffff"/>
                </a:solidFill>
                <a:latin typeface="Calibri"/>
                <a:ea typeface="Lucida Sans Unicode"/>
              </a:rPr>
              <a:t>After a little while, those standing near said to Peter, “Surely you are one of them, for you are a Galilean.” </a:t>
            </a:r>
            <a:endParaRPr b="0" lang="en-US" sz="4000" spc="-1" strike="noStrike">
              <a:solidFill>
                <a:srgbClr val="ffffff"/>
              </a:solidFill>
              <a:latin typeface="Arial"/>
            </a:endParaRPr>
          </a:p>
          <a:p>
            <a:pPr marL="343080" indent="-338400">
              <a:lnSpc>
                <a:spcPct val="100000"/>
              </a:lnSpc>
              <a:spcBef>
                <a:spcPts val="10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en-AU" sz="4000" spc="-1" strike="noStrike">
                <a:solidFill>
                  <a:srgbClr val="ffffff"/>
                </a:solidFill>
                <a:latin typeface="Calibri"/>
                <a:ea typeface="Lucida Sans Unicode"/>
              </a:rPr>
              <a:t>He began to call down curses, and he swore to them, “I don’t know this man you’re talking about.”</a:t>
            </a:r>
            <a:endParaRPr b="0" lang="en-US" sz="4000" spc="-1" strike="noStrike">
              <a:solidFill>
                <a:srgbClr val="ffffff"/>
              </a:solidFill>
              <a:latin typeface="Arial"/>
            </a:endParaRPr>
          </a:p>
        </p:txBody>
      </p:sp>
      <p:pic>
        <p:nvPicPr>
          <p:cNvPr id="59" name="" descr=""/>
          <p:cNvPicPr/>
          <p:nvPr/>
        </p:nvPicPr>
        <p:blipFill>
          <a:blip r:embed="rId1"/>
          <a:stretch/>
        </p:blipFill>
        <p:spPr>
          <a:xfrm>
            <a:off x="15840" y="6321600"/>
            <a:ext cx="523800" cy="53640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0" name=""/>
          <p:cNvSpPr/>
          <p:nvPr/>
        </p:nvSpPr>
        <p:spPr>
          <a:xfrm>
            <a:off x="457200" y="1214280"/>
            <a:ext cx="8229600" cy="4911840"/>
          </a:xfrm>
          <a:prstGeom prst="rect">
            <a:avLst/>
          </a:prstGeom>
          <a:noFill/>
          <a:ln w="0">
            <a:noFill/>
          </a:ln>
        </p:spPr>
        <p:style>
          <a:lnRef idx="0"/>
          <a:fillRef idx="0"/>
          <a:effectRef idx="0"/>
          <a:fontRef idx="minor"/>
        </p:style>
        <p:txBody>
          <a:bodyPr anchor="t">
            <a:noAutofit/>
          </a:bodyPr>
          <a:p>
            <a:pPr marL="343080" indent="-338400">
              <a:lnSpc>
                <a:spcPct val="100000"/>
              </a:lnSpc>
              <a:spcBef>
                <a:spcPts val="10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en-AU" sz="4000" spc="-1" strike="noStrike">
                <a:solidFill>
                  <a:srgbClr val="ffffff"/>
                </a:solidFill>
                <a:latin typeface="Calibri"/>
                <a:ea typeface="Lucida Sans Unicode"/>
              </a:rPr>
              <a:t>Immediately the rooster crowed the second time. Then Peter remembered the word Jesus had spoken to him: “Before the rooster crows twice you will disown me three times.” And he broke down and wept. </a:t>
            </a:r>
            <a:endParaRPr b="0" lang="en-US" sz="4000" spc="-1" strike="noStrike">
              <a:solidFill>
                <a:srgbClr val="ffffff"/>
              </a:solidFill>
              <a:latin typeface="Arial"/>
            </a:endParaRPr>
          </a:p>
        </p:txBody>
      </p:sp>
      <p:pic>
        <p:nvPicPr>
          <p:cNvPr id="61" name="" descr=""/>
          <p:cNvPicPr/>
          <p:nvPr/>
        </p:nvPicPr>
        <p:blipFill>
          <a:blip r:embed="rId1"/>
          <a:stretch/>
        </p:blipFill>
        <p:spPr>
          <a:xfrm>
            <a:off x="0" y="6411960"/>
            <a:ext cx="434880" cy="44604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05T09:52:09Z</dcterms:created>
  <dc:creator>read</dc:creator>
  <dc:description/>
  <dc:language>en-US</dc:language>
  <cp:lastModifiedBy>Colin Cheah</cp:lastModifiedBy>
  <dcterms:modified xsi:type="dcterms:W3CDTF">2012-04-05T14:05:21Z</dcterms:modified>
  <cp:revision>39</cp:revision>
  <dc:subject/>
  <dc:title>When Judas, who had betrayed him, saw that Jesus was condemned, he was seized with remorse and returned the thirty pieces of silver to the chief priests and the elders. “I have sinned,” he said, “for I have betrayed innocent blood.”</dc:title>
</cp:coreProperties>
</file>