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A8E-7233-422C-ACE2-FCA713A8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09F-1524-4664-BD92-6D8103DF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9DF-6C4A-445A-9F9A-7E505928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683-AF89-43A0-BCF7-E9C4FD10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4A7-DF6B-4863-A611-8435710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F1C-A0C7-4695-AD20-3682EE7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757-12FF-4503-A4F0-1D529BD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3D2-1679-4835-9721-A288987C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8FA-A23A-47D7-A424-7253D2DE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7F5-2977-4DD1-9AD6-68C7C57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46F-2624-4001-BE39-4E6EEDA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893-6467-4DE9-82BB-DC663D1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3A1FA-5486-483B-9EAE-BD620D192AF2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765000"/>
            <a:ext cx="74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8000" spc="-1" strike="noStrike">
                <a:solidFill>
                  <a:srgbClr val="ffffff"/>
                </a:solidFill>
                <a:latin typeface="Arial"/>
              </a:rPr>
              <a:t>You don’t have to go to hell – Jesus is Al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81080" y="95400"/>
            <a:ext cx="9144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YOU</a:t>
            </a: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 FILL IN THE MISS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IF I DIE TONIGHT I WILL SPEND ETERNITY IN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H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BECAUSE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I HAVE/HAVE NOT</a:t>
            </a:r>
            <a:r>
              <a:rPr b="1" i="1" lang="en-US" sz="4000" spc="-1" strike="noStrike">
                <a:solidFill>
                  <a:srgbClr val="ffff00"/>
                </a:solidFill>
                <a:latin typeface="Verdana"/>
              </a:rPr>
              <a:t> BELIEVED IN THE NAME OF THE LORD JESUS CHRIST AS MY PERSONAL SAVIOU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PRAYER TO RECEIVE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God, I'm not really sure that I know you, but I want to. I want to put my trust in you. Jesus Christ, as much as I know how I invite you to come into my life. I ask you to forgive all the things I have done wrong. I ask you to help me start again with a clean slate. I ask you to give me the power to get started and keep going. I give you the full control of my life. Help me to understand you more.     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to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 Chronicles 28: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Jeremiah 7:31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eld of blood – Matthew 27:7, 8; Acts 1: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2.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Locati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f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umbers 16:32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8: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22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25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 Peter 2: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Jude 1: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3.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Nature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 of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. Place of unquenchable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tthew 3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tthew 13:41-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k 9: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. Place of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mory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and rem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uke 16:19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. Place of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. Place of misery and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. Place of frustration and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f. Place of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h. Place of undiluted divine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evelation 14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. Place originally prepared for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tan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and his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j. Place created for all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er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aniel 12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atthew 25: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4.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ccupants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 of Gehenna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a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velation 20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b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i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2 Thessalonians 2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c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lse Prop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800280"/>
                <a:tab algn="l" pos="1714680"/>
                <a:tab algn="l" pos="2629080"/>
                <a:tab algn="l" pos="3543480"/>
                <a:tab algn="l" pos="4457880"/>
                <a:tab algn="l" pos="5372280"/>
                <a:tab algn="l" pos="6286680"/>
                <a:tab algn="l" pos="7201080"/>
                <a:tab algn="l" pos="8115480"/>
                <a:tab algn="l" pos="9029880"/>
                <a:tab algn="l" pos="9944280"/>
                <a:tab algn="l" pos="108586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velation 19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d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llen An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2 Peter 2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.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udas Iscar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Acts 1: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f. All 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saved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velation 21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131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476280"/>
            <a:ext cx="81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What will I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</a:rPr>
              <a:t>DO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Verdana"/>
              </a:rPr>
              <a:t>with Jes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81080" y="95400"/>
            <a:ext cx="91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Verdana"/>
              </a:rPr>
              <a:t>EVERYONE MUST DECIDE FOR THEMSELVES WHETHER TO ACCEPT OR REJECT JESUS CHR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4:30:28Z</dcterms:created>
  <dc:creator>RogLang</dc:creator>
  <dc:description/>
  <dc:language>en-US</dc:language>
  <cp:lastModifiedBy>RogLang</cp:lastModifiedBy>
  <dcterms:modified xsi:type="dcterms:W3CDTF">2012-04-04T05:01:13Z</dcterms:modified>
  <cp:revision>3</cp:revision>
  <dc:subject/>
  <dc:title>Slide 1</dc:title>
</cp:coreProperties>
</file>