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B77-987A-49F1-84D1-1F7DC130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25A-8514-4353-8B6C-902C10C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B52-F9A9-4843-8C80-1AC7A1E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3B1-1ADA-414E-9CDF-69746DEE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D91-E166-4D83-9FAF-1DFC863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784-84BC-4A8E-9130-BBD7423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DD7-419D-442E-BE0F-4D26D3B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781-073C-4C92-8CC9-A25FCE4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24E-27F4-4D21-A8E5-F5A6F72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FF5-1FB0-436F-A964-AA64E36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203-5FED-4447-8115-EFDDD69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8F0-02E0-41BE-AA2D-8DCCB3E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8FCE44-0E15-47B1-B9F0-B106FE6833B1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765000"/>
            <a:ext cx="74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"/>
              </a:rPr>
              <a:t>You don’t have to go to hell – Jesus is Al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81080" y="9540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YOU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 FILL IN THE MISS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IF I DIE TONIGHT I WILL SPEND ETERNITY IN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H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BECAUSE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I HAVE/HAVE NOT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 BELIEVED IN THE NAME OF THE LORD JESUS CHRIST AS MY PERSONAL SAVIOU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PRAYER TO RECEIVE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God, I'm not really sure that I know you, but I want to. I want to put my trust in you. Jesus Christ, as much as I know how I invite you to come into my life. I ask you to forgive all the things I have done wrong. I ask you to help me start again with a clean slate. I ask you to give me the power to get started and keep going. I give you the full control of my life. Help me to understand you more.    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to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 Chronicles 28: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Jeremiah 7:31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eld of blood – Matthew 27:7, 8; Acts 1: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2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Locati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umbers 16:32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8: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2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5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 Peter 2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Jude 1: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3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Natur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. Place of unquenchable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tthew 3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tthew 13:41-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k 9: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. Place of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ory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and rem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uke 16:19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. Place of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. Place of misery and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. Place of frustration and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f. Place of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h. Place of undiluted divine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velation 14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. Place originally prepared for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ta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and his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j. Place created for all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er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aniel 12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5: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4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ccupants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20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b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i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2 Thessalonians 2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c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lse Prop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19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d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llen An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2 Peter 2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udas Iscar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cts 1: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f. All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saved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21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476280"/>
            <a:ext cx="81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What will I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DO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with Jes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81080" y="9540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Verdana"/>
              </a:rPr>
              <a:t>EVERYONE MUST DECIDE FOR THEMSELVES WHETHER TO ACCEPT OR REJECT JESUS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30:28Z</dcterms:created>
  <dc:creator>RogLang</dc:creator>
  <dc:description/>
  <dc:language>en-US</dc:language>
  <cp:lastModifiedBy>RogLang</cp:lastModifiedBy>
  <dcterms:modified xsi:type="dcterms:W3CDTF">2012-04-04T05:01:13Z</dcterms:modified>
  <cp:revision>3</cp:revision>
  <dc:subject/>
  <dc:title>Slide 1</dc:title>
</cp:coreProperties>
</file>