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56D-E5E2-4027-920F-774C570D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0F58-6FFC-4E3E-B522-2FF16222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5E2A-066C-4F4D-940D-0D01FA1B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B43-58CF-40E1-AB70-D6537E98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F17-8126-492D-8E15-6F96CE8E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2D90-9480-431A-B265-178F55E9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4E6C-331D-42A8-86B4-07EFF548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84A3-69A3-43B0-B27F-F4AA1552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678E-71CF-49A8-92C9-2C2EF018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2D33-2C9F-4C1D-8B16-161A2FE9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C8C4-0C4B-4505-82A4-8D4E7193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E9AC-B9EE-4F12-8FA4-F351AE10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EA81-FED8-4FCD-94D9-960DB6A2994A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7200" spc="-1" strike="noStrike">
                <a:solidFill>
                  <a:srgbClr val="e46c0a"/>
                </a:solidFill>
                <a:latin typeface="Calibri"/>
              </a:rPr>
              <a:t>Fruitcakes and Mosquitos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3"/>
          <p:cNvSpPr/>
          <p:nvPr/>
        </p:nvSpPr>
        <p:spPr>
          <a:xfrm>
            <a:off x="324000" y="51912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e46c0a"/>
                </a:solidFill>
                <a:latin typeface="Calibri"/>
              </a:rPr>
              <a:t>Planning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2700360" y="2341440"/>
            <a:ext cx="403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Proverbs: 15:2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Proverbs: 16:3-9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Proverbs 19:2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324000" y="51912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e46c0a"/>
                </a:solidFill>
                <a:latin typeface="Calibri"/>
              </a:rPr>
              <a:t>Preparation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2556000" y="2273400"/>
            <a:ext cx="37432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Mark 13:33-34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324000" y="51912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e46c0a"/>
                </a:solidFill>
                <a:latin typeface="Calibri"/>
              </a:rPr>
              <a:t>Fruitcake Recip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324000" y="1700280"/>
            <a:ext cx="8208720" cy="48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Ingredients: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1 kg mixed fru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2 cups fruit juice/cold organic tea of choi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1tbs sherry or simila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2 cups organic self raising flou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e46c0a"/>
                </a:solidFill>
                <a:latin typeface="Calibri"/>
              </a:rPr>
              <a:t>Soak dried fruits in juice/tea and sherry for at least 2 hour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e46c0a"/>
                </a:solidFill>
                <a:latin typeface="Calibri"/>
              </a:rPr>
              <a:t>Preheat oven to 125°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324000" y="51912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e46c0a"/>
                </a:solidFill>
                <a:latin typeface="Calibri"/>
              </a:rPr>
              <a:t>Praying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2987640" y="2133720"/>
            <a:ext cx="309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Acts 22:17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Acts 12:5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Daniel 6:1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Luke 6:1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324000" y="51912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e46c0a"/>
                </a:solidFill>
                <a:latin typeface="Calibri"/>
              </a:rPr>
              <a:t>Sending &amp; Going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728800" y="2276640"/>
            <a:ext cx="403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Acts 1: 8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Acts 13:47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Acts 26: 15-18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Acts 28: 23-3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324000" y="51912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e46c0a"/>
                </a:solidFill>
                <a:latin typeface="Calibri"/>
              </a:rPr>
              <a:t>Questions to Ponder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539640" y="2133720"/>
            <a:ext cx="820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Do you have what it takes to make a fruitcake of yourself and other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Calibri"/>
              </a:rPr>
              <a:t>What would it take to be a mosquito in a closed room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9:30:32Z</dcterms:created>
  <dc:creator>RegionalManager</dc:creator>
  <dc:description/>
  <dc:language>en-US</dc:language>
  <cp:lastModifiedBy>RegionalManager</cp:lastModifiedBy>
  <dcterms:modified xsi:type="dcterms:W3CDTF">2012-04-14T19:01:31Z</dcterms:modified>
  <cp:revision>10</cp:revision>
  <dc:subject/>
  <dc:title>Fruitcakes and Mosquitos</dc:title>
</cp:coreProperties>
</file>