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A76-4EFD-4DDC-BCE0-2AB18E05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FE7-0B44-42B3-86FC-D3ED212D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43D-B538-48CA-B8F3-7C61EAA8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329-4838-4EC2-A1D5-927C1363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E31-CDB8-4760-AE01-12D2620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92A-F74B-421A-A496-DB8BA06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BFE-8EA6-4910-BBFA-9147ABB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820-6678-40BC-86CE-042859FE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B25-02BC-4EFD-BD74-739C31C0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180-D9A4-40FC-A3B0-D6A059C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DFC-2530-4D74-9E32-EFDD349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58B-F25A-45C3-ADFF-B7B3D8A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754-59B6-4401-971C-29BD808FE1A3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e46c0a"/>
                </a:solidFill>
                <a:latin typeface="Calibri"/>
              </a:rPr>
              <a:t>Fruitcakes and Mosquito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Plann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700360" y="2341440"/>
            <a:ext cx="403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Proverbs: 15:2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Proverbs: 16:3-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Proverbs 19: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Prepara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2556000" y="2273400"/>
            <a:ext cx="3743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Mark 13:33-34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Fruitcake Recip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24000" y="1700280"/>
            <a:ext cx="820872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ngredients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1 kg mixed fr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2 cups fruit juice/cold organic tea of cho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1tbs sherry or simi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2 cups organic self raising fl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e46c0a"/>
                </a:solidFill>
                <a:latin typeface="Calibri"/>
              </a:rPr>
              <a:t>Soak dried fruits in juice/tea and sherry for at least 2 hou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e46c0a"/>
                </a:solidFill>
                <a:latin typeface="Calibri"/>
              </a:rPr>
              <a:t>Preheat oven to 125°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Pray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987640" y="2133720"/>
            <a:ext cx="309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22:1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12: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Daniel 6:1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Luke 6: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Sending &amp; Go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728800" y="2276640"/>
            <a:ext cx="403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1: 8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13:4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26: 15-18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28: 23-3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Questions to Pond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39640" y="213372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Do you have what it takes to make a fruitcake of yourself and other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What would it take to be a mosquito in a closed room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9:30:32Z</dcterms:created>
  <dc:creator>RegionalManager</dc:creator>
  <dc:description/>
  <dc:language>en-US</dc:language>
  <cp:lastModifiedBy>RegionalManager</cp:lastModifiedBy>
  <dcterms:modified xsi:type="dcterms:W3CDTF">2012-04-14T19:01:31Z</dcterms:modified>
  <cp:revision>10</cp:revision>
  <dc:subject/>
  <dc:title>Fruitcakes and Mosquitos</dc:title>
</cp:coreProperties>
</file>