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6E1-AB83-4685-9172-EB540AA7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4FA-D721-44DE-98DD-F25D34A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C6E-DBFA-4448-8F0D-D100B388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617-7128-46BF-B854-1267D1C2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770-0361-4B1F-8C21-6AC3B05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240-F62A-4241-8A3D-0891008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44F-31E3-4553-BC34-DC0048A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F28-411C-4383-8465-2E0BEF5F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9B4-2A75-42FC-8E9E-868F9E8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939-6A94-4D83-B376-B5A0C59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6D4-57A4-4A37-B201-129BCF5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F4B-ED36-404D-8F09-92A0C7AF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E30C-13BC-4468-ABC3-D3D96EB439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5400" spc="-1" strike="noStrike">
                <a:solidFill>
                  <a:srgbClr val="ffff00"/>
                </a:solidFill>
                <a:latin typeface="Calibri"/>
              </a:rPr>
              <a:t>The Kingdom of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5400" spc="-1" strike="noStrike">
                <a:solidFill>
                  <a:srgbClr val="ffff00"/>
                </a:solidFill>
                <a:latin typeface="Calibri"/>
              </a:rPr>
              <a:t>visible only through eyes of fai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Matt 16:1-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need to seek God with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ll our hear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. Then we will be able to see His Kingdo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We need to be ver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lert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and examine ourselves regularly in the light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God’s revealed word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to see if we have strayed to the left or to the righ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Part 1 - The demand for a 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God has provided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enough sign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of His Kingdom that those who trul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seek it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ll find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No signs will be given at the request of those who through their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icked determination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, have decided not to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acknowledge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Hi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Leaven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- An element, influence, or agent that works subtly to lighten, enliven, or modify a who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24000" y="69228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Part 2 - Caution against the influences of the unholy d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Our vision of God’s Kingdom can be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obstructed</a:t>
            </a: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 by 2 seemingly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Arial"/>
              </a:rPr>
              <a:t>divergent</a:t>
            </a:r>
            <a:r>
              <a:rPr b="1" lang="en-SG" sz="4400" spc="-1" strike="noStrike">
                <a:solidFill>
                  <a:srgbClr val="ffff00"/>
                </a:solidFill>
                <a:latin typeface="Arial"/>
              </a:rPr>
              <a:t>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HARISEES – beware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igiou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4797360"/>
            <a:ext cx="7777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6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02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0" y="3016080"/>
            <a:ext cx="9124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900000" y="797040"/>
            <a:ext cx="73440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PHARISEES – beware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religious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r>
              <a:rPr b="0" lang="en-SG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SADDUCEES / HERODIANS – Beware of the influence of </a:t>
            </a:r>
            <a:r>
              <a:rPr b="1" lang="en-SG" sz="4400" spc="-1" strike="noStrike" u="sng">
                <a:solidFill>
                  <a:srgbClr val="ffff00"/>
                </a:solidFill>
                <a:uFillTx/>
                <a:latin typeface="Calibri"/>
              </a:rPr>
              <a:t>worldly</a:t>
            </a:r>
            <a:r>
              <a:rPr b="1" lang="en-SG" sz="4400" spc="-1" strike="noStrike">
                <a:solidFill>
                  <a:srgbClr val="ffff00"/>
                </a:solidFill>
                <a:latin typeface="Calibri"/>
              </a:rPr>
              <a:t> wicked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ancy Jarrott</cp:lastModifiedBy>
  <dcterms:modified xsi:type="dcterms:W3CDTF">2012-06-17T07:06:57Z</dcterms:modified>
  <cp:revision>219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