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CFB-E92B-4156-8995-6412CF1F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7F2-7AEC-43DE-A2EC-ACBD5B3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71A-ACE3-4B20-B575-6F47D080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226-CE18-4180-BD4E-E16CE283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167-57A9-4686-85CB-CB0CB60B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ACE-CB93-476F-B974-8D6EB3CE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404-4ED5-4F00-8C1F-2BC29F2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829-1457-4F98-A1DC-D133798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5E7-94B2-4CAE-A67B-165A34A0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11E-215A-483C-B742-48BEBA6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02C-875E-433D-9636-1FD12A7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EF0-BFAB-4D38-9CC2-2C6F395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B91C-C332-4AF8-9430-DC64CC521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5400" spc="-1" strike="noStrike">
                <a:solidFill>
                  <a:srgbClr val="ffff00"/>
                </a:solidFill>
                <a:latin typeface="Calibri"/>
              </a:rPr>
              <a:t>The Kingdom of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5400" spc="-1" strike="noStrike">
                <a:solidFill>
                  <a:srgbClr val="ffff00"/>
                </a:solidFill>
                <a:latin typeface="Calibri"/>
              </a:rPr>
              <a:t>visible only through eyes of fai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Matt 16:1-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need to seek God with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ll our hear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 Then we will be able to see His Kingdo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need to be ver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ler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and examine ourselves regularly in the light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God’s revealed word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see if we have strayed to the left or to the righ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Part 1 - The demand for a 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God has provided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enough sign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of His Kingdom that those who trul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seek it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ll find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No signs will be given at the request of those who through their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icked determination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, have decided not to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cknowledge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Hi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eave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- An element, influence, or agent that works subtly to lighten, enliven, or modify a who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24000" y="69228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Part 2 - Caution against the influences of the unholy d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Our vision of God’s Kingdom can be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obstructed</a:t>
            </a: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 by 2 seemingl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divergent</a:t>
            </a: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HARISEES – beware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igiou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777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0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0" y="3016080"/>
            <a:ext cx="9124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900000" y="797040"/>
            <a:ext cx="73440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HARISEES – beware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igiou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SADDUCEES / HERODIANS – Beware of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orldly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ancy Jarrott</cp:lastModifiedBy>
  <dcterms:modified xsi:type="dcterms:W3CDTF">2012-06-17T07:06:57Z</dcterms:modified>
  <cp:revision>219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