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4AF-9398-45B1-B668-7AF69DC8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D40-BBA2-4FBC-A695-920E18DC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9D4-07AB-4D4F-8B13-47432C77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705-2963-4CE0-9C94-6BEFDFFD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B97-76F8-4A3B-A789-14514DB6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E7E-AD57-44A9-9635-BA16E680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0DA-66ED-438B-8A1A-3002EE38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DA1-6F90-4167-86B1-ACA1C0CA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D34-4D66-4B35-8A6D-AB91D9A8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23C-C0AE-45F7-BD7B-8BC08A62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80A-FB22-4789-B4C5-98A663B9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53A-A3D2-4DFC-A259-A12F52AA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B4D8-63DF-45F1-967A-A73D8ADE95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Calibri"/>
              </a:rPr>
              <a:t>Who is Jesus to you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480"/>
            <a:ext cx="8578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The Three Offices of Christ Jes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King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- ruler not just over the earth but of the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whole universe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and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forever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We can have confidence in the ultimate establishment of His full and perfect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reign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over all powers and authorities and this gives us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hope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in the face of adversit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The love of Christ for 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Jesus is the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Lion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of the tribe of Judah and yet Jesus is also the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Lamb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of Go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57240" y="93600"/>
            <a:ext cx="8475480" cy="635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485640" y="115920"/>
            <a:ext cx="858852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ffff00"/>
                </a:solidFill>
                <a:latin typeface="Calibri"/>
              </a:rPr>
              <a:t>Who do you say that I am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ho do people say that the Son of Man 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ho do you say that I 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1301760" y="0"/>
            <a:ext cx="6510240" cy="6826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Admin\Downloads\pics from web\Lion Facing 4 (640x427).jpg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Who you believe Jesus is affects how you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relate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to him, how you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live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your life and you will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finish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Calibri"/>
              </a:rPr>
              <a:t>Peter’s conf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att 16:17 – Simon Peter answered, “You are the Christ, the Son of the Living God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The Three Offices of Christ Jes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Prophet/apostle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– The one who brings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God’s word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to his peopl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We can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know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God and have a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purpose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in lif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The Three Offices of Christ Jes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High Priest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– Jesus is our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advocate/mediator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before God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We can come to God without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fear of rejection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knowing that Christ is our mediato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1:20:29Z</dcterms:created>
  <dc:creator>SP</dc:creator>
  <dc:description/>
  <dc:language>en-US</dc:language>
  <cp:lastModifiedBy>Nancy Jarrott</cp:lastModifiedBy>
  <dcterms:modified xsi:type="dcterms:W3CDTF">2012-07-01T09:48:14Z</dcterms:modified>
  <cp:revision>239</cp:revision>
  <dc:subject/>
  <dc:title>Rom 1:20 20 For since the creation of the world God's invisible qualities — his eternal power and divine nature — have been clearly seen, being understood from what has been made, so that men are without excuse.</dc:title>
</cp:coreProperties>
</file>