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E4A-D6CD-4508-A450-B0353514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814-BCDA-4710-9EC2-BF417F8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6BD-1144-402E-968C-16FC18E6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C14-0A86-4393-A151-05CA58D1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C63-3DA5-447F-98A2-27385B2E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4EB-42B0-44E2-8CFA-2B72DE39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2DF-EEE5-40CE-ABD0-91869A49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1A3-8623-4C56-8640-370FE8E1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492-49DE-4D72-9050-F50748FD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CD8-C588-47E2-A91B-CF8B103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801-ED3A-43D8-A39A-BB3A8F3E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6A5-73CB-472D-BD39-6043214D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A9E1-619B-4D08-A214-E445B0655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Who is Jesus to you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480"/>
            <a:ext cx="8578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The Three Offices of Christ Jes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King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- ruler not just over the earth but of the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whole univers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and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forever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can have confidence in the ultimate establishment of His full and perfect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reign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over all powers and authorities and this gives us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hop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in the face of advers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The love of Christ for 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Jesus is the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Lion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of the tribe of Judah and yet Jesus is also the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Lamb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of Go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7240" y="93600"/>
            <a:ext cx="8475480" cy="635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85640" y="115920"/>
            <a:ext cx="85885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Who do you say that I am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o do people say that the Son of Man 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o do you say that I 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301760" y="0"/>
            <a:ext cx="6510240" cy="682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Admin\Downloads\pics from web\Lion Facing 4 (640x427).jpg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ho you believe Jesus is affects how you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relat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to him, how you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liv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your life and you will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finish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Calibri"/>
              </a:rPr>
              <a:t>Peter’s conf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att 16:17 – Simon Peter answered, “You are the Christ, the Son of the Living God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The Three Offices of Christ Jes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Prophet/apostl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– The one who brings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God’s word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to his peop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can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know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God and have a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purpose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in lif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The Three Offices of Christ Jes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High Priest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– Jesus is our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advocate/mediator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before Go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can come to God without </a:t>
            </a:r>
            <a:r>
              <a:rPr b="0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fear of rejection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knowing that Christ is our mediato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1:20:29Z</dcterms:created>
  <dc:creator>SP</dc:creator>
  <dc:description/>
  <dc:language>en-US</dc:language>
  <cp:lastModifiedBy>Nancy Jarrott</cp:lastModifiedBy>
  <dcterms:modified xsi:type="dcterms:W3CDTF">2012-07-01T09:48:14Z</dcterms:modified>
  <cp:revision>239</cp:revision>
  <dc:subject/>
  <dc:title>Rom 1:20 20 For since the creation of the world God's invisible qualities — his eternal power and divine nature — have been clearly seen, being understood from what has been made, so that men are without excuse.</dc:title>
</cp:coreProperties>
</file>