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596-9107-4F15-91EA-AFDC746F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D0F-AF46-491F-A7D3-C33B7DD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3F-E2D9-44FA-92B8-A7FD7174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E1B-A7FA-4863-AF99-491EDAA5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27-4999-48BE-9AC8-74A802B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505-F855-4050-BA84-B18F179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77F-8EFB-4AE7-B1DF-9C8EE7D7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88F-0C50-4D19-9185-FF65C41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A2D-B801-4841-AD2B-F68B4100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1CE-094E-40CE-9058-A84F977C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4FA-71D6-404E-8568-F18A2FB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3C1-B277-4575-B93B-E8F54B3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6CD-17EC-4D49-B397-1C1FA3756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04640"/>
            <a:ext cx="6156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LIVE PASSIONATE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Matthew 22:37-38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15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Jesus answered him, "'Love the Lord your Go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heart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soul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, an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mind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.' This is the greatest and most important command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 Black"/>
              </a:rPr>
              <a:t>Mat 22:37-38 (G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Never lacking in zeal, always kept at boiling point, serving the Lord”,  </a:t>
            </a:r>
            <a:r>
              <a:rPr b="0" lang="en-AU" sz="3200" spc="-1" strike="noStrike">
                <a:solidFill>
                  <a:srgbClr val="ffff00"/>
                </a:solidFill>
                <a:latin typeface="Arial Black"/>
              </a:rPr>
              <a:t>Romans 12:11 (Phil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4936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1.  AN UNCLEAR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MISSION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IN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I have laboured to no purpose; I have spent my strength in vain and for nothing.”  </a:t>
            </a:r>
            <a:r>
              <a:rPr b="0" lang="en-AU" sz="4000" spc="-1" strike="noStrike">
                <a:solidFill>
                  <a:srgbClr val="ffff00"/>
                </a:solidFill>
                <a:latin typeface="Arial Black"/>
              </a:rPr>
              <a:t>Isa. 49:4 (N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6156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AN UNDISCOVERED OR UNDER-DEVELOPED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SPIRITUAL GI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Each one should live His life with the gifts that the Lord has given him…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 Black"/>
              </a:rPr>
              <a:t>1 Cor. 7:17 (P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3360"/>
            <a:ext cx="6156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3.  A LIFE OUT OF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Take the time and the trouble to keep yourself spiritually fit.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 Black"/>
              </a:rPr>
              <a:t>1 Timothy 4:7b (P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61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4. A SIN THAT’S STILL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COVERED</a:t>
            </a: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My guilt has overwhelmed me like a burden too heavy to bear… I am bowed down and brought low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 Black"/>
              </a:rPr>
              <a:t>Ps. 38:4+6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61563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5.  SPIRITUAL </a:t>
            </a:r>
            <a:r>
              <a:rPr b="1" lang="en-AU" sz="3600" spc="-1" strike="noStrike" u="sng">
                <a:solidFill>
                  <a:srgbClr val="ffff00"/>
                </a:solidFill>
                <a:uFillTx/>
                <a:latin typeface="Arial Black"/>
              </a:rPr>
              <a:t>MAL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Just as you trusted Christ to save you, trust Him, too, for each day’s problems; live in vital union with Him.  Let your roots grow down into Him and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 Black"/>
              </a:rPr>
              <a:t>draw up nourishment from Him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.  See that you go on growing in the Lord, and become strong and vigorous…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 Black"/>
              </a:rPr>
              <a:t>Col. 2:6-7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You must worship only the Lord, for He is a God who is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 Black"/>
              </a:rPr>
              <a:t>passionate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 about His relationship with you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 Black"/>
              </a:rPr>
              <a:t>Ex. 34:14 (N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615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You have forsaken your first love. 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Remember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 the height from which you’ve fallen! 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Repent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do the things you did at first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.”  Rev. 2:4-5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 Black"/>
              </a:rPr>
              <a:t>Rev. 2:4-5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4:17:37Z</dcterms:created>
  <dc:creator>RogLang</dc:creator>
  <dc:description/>
  <dc:language>en-US</dc:language>
  <cp:lastModifiedBy>RogLang</cp:lastModifiedBy>
  <dcterms:modified xsi:type="dcterms:W3CDTF">2012-07-23T04:55:58Z</dcterms:modified>
  <cp:revision>3</cp:revision>
  <dc:subject/>
  <dc:title>Slide 1</dc:title>
</cp:coreProperties>
</file>