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1236-8150-4D7B-B875-213074B2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B920-75D7-4100-B34E-3869CDD0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2859-09DC-4EB4-902C-798C851B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A887-79C5-4D0C-B9ED-EF6FD027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438B-6058-411D-9102-528E04E0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E1D2-9B20-45A5-9246-D666CD5C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B458-58ED-45E4-9560-5308FA7E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B21B-7F10-40BE-AE36-83C1D4C8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54FC-4045-408C-9D0B-53064134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B9F4-ACE9-45A1-A97F-92D9C059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02C0-CED2-4A5C-9CFD-5341436C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6F27-786A-4536-8E71-78B3BA03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A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A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A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B3DF8B-3B5A-4F45-B9F9-2036C857B8F2}" type="slidenum">
              <a:rPr b="0" lang="en-A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42920" y="620640"/>
            <a:ext cx="698508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6000" spc="-1" strike="noStrike">
                <a:solidFill>
                  <a:srgbClr val="000000"/>
                </a:solidFill>
                <a:latin typeface="Arial Black"/>
              </a:rPr>
              <a:t>INVESTING LIFE’S CAPITAL FOR MAXIMUM RETUR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 Black"/>
              </a:rPr>
              <a:t>Matthew 25:14-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620640"/>
            <a:ext cx="8353440" cy="43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 Black"/>
              </a:rPr>
              <a:t>1. GOD </a:t>
            </a:r>
            <a:r>
              <a:rPr b="1" lang="en-AU" sz="4000" spc="-1" strike="noStrike">
                <a:solidFill>
                  <a:srgbClr val="ffff00"/>
                </a:solidFill>
                <a:latin typeface="Arial Black"/>
              </a:rPr>
              <a:t>OWNS</a:t>
            </a:r>
            <a:r>
              <a:rPr b="1" lang="en-AU" sz="4000" spc="-1" strike="noStrike">
                <a:solidFill>
                  <a:srgbClr val="000000"/>
                </a:solidFill>
                <a:latin typeface="Arial Black"/>
              </a:rPr>
              <a:t> THE CAPITAL</a:t>
            </a:r>
            <a:r>
              <a:rPr b="1" lang="en-AU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Everything I have </a:t>
            </a:r>
            <a:r>
              <a:rPr b="1" lang="en-AU" sz="3200" spc="-1" strike="noStrike" u="sng">
                <a:solidFill>
                  <a:srgbClr val="ffff00"/>
                </a:solidFill>
                <a:uFillTx/>
                <a:latin typeface="Arial Black"/>
              </a:rPr>
              <a:t>REALLY BELONG’S TO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Again, it will be like a man going on a journey, who called his servants and </a:t>
            </a: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 Black"/>
              </a:rPr>
              <a:t>entrusted his property</a:t>
            </a: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 to them.”  </a:t>
            </a:r>
            <a:r>
              <a:rPr b="1" lang="en-AU" sz="3200" spc="-1" strike="noStrike">
                <a:solidFill>
                  <a:srgbClr val="ffff00"/>
                </a:solidFill>
                <a:latin typeface="Arial Black"/>
              </a:rPr>
              <a:t>(vs. 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5280" y="333360"/>
            <a:ext cx="8353440" cy="63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 Black"/>
              </a:rPr>
              <a:t>2.  GOD </a:t>
            </a:r>
            <a:r>
              <a:rPr b="1" lang="en-AU" sz="4000" spc="-1" strike="noStrike" u="sng">
                <a:solidFill>
                  <a:srgbClr val="ffff00"/>
                </a:solidFill>
                <a:uFillTx/>
                <a:latin typeface="Arial Black"/>
              </a:rPr>
              <a:t>LOANS</a:t>
            </a:r>
            <a:r>
              <a:rPr b="1" lang="en-AU" sz="4000" spc="-1" strike="noStrike">
                <a:solidFill>
                  <a:srgbClr val="000000"/>
                </a:solidFill>
                <a:latin typeface="Arial Black"/>
              </a:rPr>
              <a:t> THE CAPITAL</a:t>
            </a:r>
            <a:r>
              <a:rPr b="1" lang="en-A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God has given each of us some </a:t>
            </a:r>
            <a:r>
              <a:rPr b="1" lang="en-AU" sz="3200" spc="-1" strike="noStrike" u="sng">
                <a:solidFill>
                  <a:srgbClr val="ffff00"/>
                </a:solidFill>
                <a:uFillTx/>
                <a:latin typeface="Arial Black"/>
              </a:rPr>
              <a:t>UNIQUE TAL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To one he gave five talents of money, to another two talents, and to another one talent, </a:t>
            </a: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 Black"/>
              </a:rPr>
              <a:t>each according to his ability</a:t>
            </a: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.” </a:t>
            </a:r>
            <a:r>
              <a:rPr b="1" lang="en-AU" sz="3200" spc="-1" strike="noStrike">
                <a:solidFill>
                  <a:srgbClr val="ffff00"/>
                </a:solidFill>
                <a:latin typeface="Arial Black"/>
              </a:rPr>
              <a:t>(vs. 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We have different </a:t>
            </a: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 Black"/>
              </a:rPr>
              <a:t>gifts</a:t>
            </a: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, according to the </a:t>
            </a: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 Black"/>
              </a:rPr>
              <a:t>grace</a:t>
            </a: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 given u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 Black"/>
              </a:rPr>
              <a:t>Rom. 12:6 (N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4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 Black"/>
              </a:rPr>
              <a:t>3. GOD </a:t>
            </a:r>
            <a:r>
              <a:rPr b="1" lang="en-AU" sz="4000" spc="-1" strike="noStrike" u="sng">
                <a:solidFill>
                  <a:srgbClr val="ffff00"/>
                </a:solidFill>
                <a:uFillTx/>
                <a:latin typeface="Arial Black"/>
              </a:rPr>
              <a:t>EXPECTS </a:t>
            </a:r>
            <a:r>
              <a:rPr b="1" lang="en-AU" sz="4000" spc="-1" strike="noStrike">
                <a:solidFill>
                  <a:srgbClr val="000000"/>
                </a:solidFill>
                <a:latin typeface="Arial Black"/>
              </a:rPr>
              <a:t>ME TO USE THE CAPITAL</a:t>
            </a:r>
            <a:r>
              <a:rPr b="1" lang="en-AU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God expects me to </a:t>
            </a:r>
            <a:r>
              <a:rPr b="1" lang="en-AU" sz="3200" spc="-1" strike="noStrike" u="sng">
                <a:solidFill>
                  <a:srgbClr val="ffff00"/>
                </a:solidFill>
                <a:uFillTx/>
                <a:latin typeface="Arial Black"/>
              </a:rPr>
              <a:t>USE MY TAL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Each of us will give an account of himself to God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 Black"/>
              </a:rPr>
              <a:t>Romans 14:12</a:t>
            </a: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After a long time the master of those servants returned and </a:t>
            </a: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 Black"/>
              </a:rPr>
              <a:t>settled accounts</a:t>
            </a: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.”  </a:t>
            </a:r>
            <a:r>
              <a:rPr b="1" lang="en-AU" sz="3200" spc="-1" strike="noStrike">
                <a:solidFill>
                  <a:srgbClr val="ffff00"/>
                </a:solidFill>
                <a:latin typeface="Arial Black"/>
              </a:rPr>
              <a:t>(vs. 1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9228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One day God will ask ME:  What did you </a:t>
            </a:r>
            <a:r>
              <a:rPr b="1" lang="en-AU" sz="3200" spc="-1" strike="noStrike" u="sng">
                <a:solidFill>
                  <a:srgbClr val="ffff00"/>
                </a:solidFill>
                <a:uFillTx/>
                <a:latin typeface="Arial Black"/>
              </a:rPr>
              <a:t>DO </a:t>
            </a: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with what you were </a:t>
            </a:r>
            <a:r>
              <a:rPr b="1" lang="en-AU" sz="3200" spc="-1" strike="noStrike" u="sng">
                <a:solidFill>
                  <a:srgbClr val="ffff00"/>
                </a:solidFill>
                <a:uFillTx/>
                <a:latin typeface="Arial Black"/>
              </a:rPr>
              <a:t>GIVEN</a:t>
            </a: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Take the talent from him and give it to the one who has ten talents.”  </a:t>
            </a:r>
            <a:r>
              <a:rPr b="1" lang="en-AU" sz="3200" spc="-1" strike="noStrike">
                <a:solidFill>
                  <a:srgbClr val="ffff00"/>
                </a:solidFill>
                <a:latin typeface="Arial Black"/>
              </a:rPr>
              <a:t>(vs 2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I will equip you with all you need for doing My will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 Black"/>
              </a:rPr>
              <a:t>Hebrews 13: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33360"/>
            <a:ext cx="9144000" cy="59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 Black"/>
              </a:rPr>
              <a:t>4. GOD </a:t>
            </a:r>
            <a:r>
              <a:rPr b="1" lang="en-AU" sz="4000" spc="-1" strike="noStrike" u="sng">
                <a:solidFill>
                  <a:srgbClr val="ffff00"/>
                </a:solidFill>
                <a:uFillTx/>
                <a:latin typeface="Arial Black"/>
              </a:rPr>
              <a:t>GRACES</a:t>
            </a:r>
            <a:r>
              <a:rPr b="1" lang="en-AU" sz="4000" spc="-1" strike="noStrike">
                <a:solidFill>
                  <a:srgbClr val="000000"/>
                </a:solidFill>
                <a:latin typeface="Arial Black"/>
              </a:rPr>
              <a:t> THOSE WHO USE THE CAPI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If I use my talent wisely, </a:t>
            </a:r>
            <a:r>
              <a:rPr b="1" lang="en-AU" sz="3200" spc="-1" strike="noStrike" u="sng">
                <a:solidFill>
                  <a:srgbClr val="ffff00"/>
                </a:solidFill>
                <a:uFillTx/>
                <a:latin typeface="Arial Black"/>
              </a:rPr>
              <a:t>I WILL BE THE RECIPIENT OF GOD’S GRAC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His master replied, </a:t>
            </a: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 Black"/>
              </a:rPr>
              <a:t>‘Well done</a:t>
            </a: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 good and faithful servant!  You have been faithful with a few things – I will </a:t>
            </a: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 Black"/>
              </a:rPr>
              <a:t>put you in charge of many things</a:t>
            </a: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.  Come and </a:t>
            </a:r>
            <a:r>
              <a:rPr b="1" lang="en-AU" sz="3200" spc="-1" strike="noStrike" u="sng">
                <a:solidFill>
                  <a:srgbClr val="000000"/>
                </a:solidFill>
                <a:uFillTx/>
                <a:latin typeface="Arial Black"/>
              </a:rPr>
              <a:t>share your master’s happiness</a:t>
            </a:r>
            <a:r>
              <a:rPr b="1" lang="en-AU" sz="3200" spc="-1" strike="noStrike">
                <a:solidFill>
                  <a:srgbClr val="000000"/>
                </a:solidFill>
                <a:latin typeface="Arial Black"/>
              </a:rPr>
              <a:t>!”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 Black"/>
              </a:rPr>
              <a:t>(vs. 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6T04:50:43Z</dcterms:created>
  <dc:creator>RogLang</dc:creator>
  <dc:description/>
  <dc:language>en-US</dc:language>
  <cp:lastModifiedBy>RogLang</cp:lastModifiedBy>
  <dcterms:modified xsi:type="dcterms:W3CDTF">2012-08-16T05:22:20Z</dcterms:modified>
  <cp:revision>2</cp:revision>
  <dc:subject/>
  <dc:title>Slide 1</dc:title>
</cp:coreProperties>
</file>