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CD8-9D6A-44C2-93AE-D6A99872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3C-3751-4702-83C0-625725B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63A-A53B-459C-913B-601408AF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2F1-E0AD-4BA8-9DB2-E8622349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963-1F3A-4A56-960A-D98A9AA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0D8-93B6-484C-9B5F-6B85246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A19-2E82-40A4-9E05-AE4ACCD0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544-54C2-4710-B855-7696A73E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971-6813-47EE-B5CD-EABF8D9D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E29-855D-4BE3-81B7-FE75282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755-BCE3-472A-95AC-20258CC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528-DC86-4C08-B09D-FFBF04B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C696BB-02EF-4D36-8EFE-AB935391691F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04640"/>
            <a:ext cx="756144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Jesus Christ our Hea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at can we learn from the Apostle Pau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hilippians 1:21-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6000" y="1116000"/>
            <a:ext cx="79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For what is life? To me, it is Christ. Death, then, will bring more. But if by continuing to live I can do more worthwhile work, then I am not sure which I should choose. I am pulled in two direc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7280" y="-287280"/>
            <a:ext cx="7993080" cy="76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I want very much to leave this life and be with Christ, which is a far better thing; but for your sake it is much more important that I remain alive. I am sure of this, and so I know that I will stay. I will stay on with you all, to add to your progress and joy in the faith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(Php 1:21-25 GN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7280" y="404640"/>
            <a:ext cx="7561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1. We need to have the right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"/>
              </a:rPr>
              <a:t>ATTITUDE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toward Divine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e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cts 20: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Genesis 22: 1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0360" y="441360"/>
            <a:ext cx="756144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2. We need to understand the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"/>
              </a:rPr>
              <a:t>SECRET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of Divine He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Galatians 2: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2 Corinthians 4:10-1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cts 14: 20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2 Corinthians 1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Ephesians 5: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 Corinthians 6:15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512640"/>
            <a:ext cx="7561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3. We need to understand the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"/>
              </a:rPr>
              <a:t>PRACTICAL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"/>
              </a:rPr>
              <a:t>WORKING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 of Paul’s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2 Corinthians 4:10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2 Cor. 12. The “thorn in the flesh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2 Cor 12: 9-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2 Corinthians 4:16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756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2 Corinthians 4:8-9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“We are troubled on every side, yet not distressed; we are perplexed, but not in despair, persecuted , but not forsaken; cast down, but not destroyed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2 Corinthians 4:7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“We have this treasure in earthen vessels, the that the excellency of the power may be of God, and not of us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John 6:57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  “Just as the living Father sent me and I live because of the Father, so the one who feeds on me will live because of me.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Acts 17:28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”In Him we live and move and have our being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Isaiah 40:31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“we mount up on wings of eagles - -run, and not be weary;…..walk, and not faint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James 5: 14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04:11:57Z</dcterms:created>
  <dc:creator>RogLang</dc:creator>
  <dc:description/>
  <dc:language>en-US</dc:language>
  <cp:lastModifiedBy>RogLang</cp:lastModifiedBy>
  <dcterms:modified xsi:type="dcterms:W3CDTF">2012-11-05T05:33:20Z</dcterms:modified>
  <cp:revision>3</cp:revision>
  <dc:subject/>
  <dc:title>Slide 1</dc:title>
</cp:coreProperties>
</file>