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CF1-1590-4D3D-8DE9-F281DEC9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00A-4643-487F-99D0-F47232DC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E00-74F3-4F6B-9C31-F68CA3EC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E90-D7E4-4B0F-B465-E04E553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F19-3AA2-45A7-86A0-80F7B8E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7EE-5DA2-4B0F-81A4-D4DE9A6B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E05-2147-40FD-9AB9-301596B2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2FB-57EC-43BE-9F27-4C11D7B1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6A1-7872-4733-BCF5-587AAC28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98E-9120-49FA-9D98-DD536A7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8881-298D-4ED4-B3B4-2CCFBCB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4BF-4A86-4358-ADD5-9D67EF16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6F0-B92F-49A8-BB01-E23FC306778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266760" y="907920"/>
            <a:ext cx="8690040" cy="5800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920" y="-84960"/>
            <a:ext cx="3814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325440" y="3645000"/>
            <a:ext cx="4314960" cy="287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611280" y="1052640"/>
            <a:ext cx="788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we go together          </a:t>
            </a: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as family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-84960"/>
            <a:ext cx="3814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325440" y="3645000"/>
            <a:ext cx="4314960" cy="2879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11280" y="1052640"/>
            <a:ext cx="788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we go together          </a:t>
            </a: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in the Spirit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-84960"/>
            <a:ext cx="3814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325440" y="3645000"/>
            <a:ext cx="4314960" cy="2879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611280" y="1052640"/>
            <a:ext cx="7881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we go together          </a:t>
            </a: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crying out to God                 for His              enabling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84960"/>
            <a:ext cx="3814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325440" y="3645000"/>
            <a:ext cx="431496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611280" y="1052640"/>
            <a:ext cx="788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6600" spc="-1" strike="noStrike">
                <a:solidFill>
                  <a:srgbClr val="ffffff"/>
                </a:solidFill>
                <a:latin typeface="Calibri"/>
              </a:rPr>
              <a:t>we go together          </a:t>
            </a:r>
            <a:r>
              <a:rPr b="0" lang="en-AU" sz="6600" spc="-1" strike="noStrike">
                <a:solidFill>
                  <a:srgbClr val="ffff00"/>
                </a:solidFill>
                <a:latin typeface="Calibri"/>
              </a:rPr>
              <a:t>following  God’s Word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8000" y="1116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6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AU" sz="6000" spc="-1" strike="noStrike">
                <a:solidFill>
                  <a:srgbClr val="ffffff"/>
                </a:solidFill>
                <a:latin typeface="Calibri"/>
              </a:rPr>
              <a:t>if you want to go far go </a:t>
            </a:r>
            <a:r>
              <a:rPr b="0" lang="en-AU" sz="6000" spc="-1" strike="noStrike">
                <a:solidFill>
                  <a:srgbClr val="ffff00"/>
                </a:solidFill>
                <a:latin typeface="Calibri"/>
              </a:rPr>
              <a:t>together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4" descr="http://www.transitionslifecoaching.org/wp-content/uploads/2010/11/Varicolored-Pencils-dreamstimefree_10411071.jpg"/>
          <p:cNvPicPr/>
          <p:nvPr/>
        </p:nvPicPr>
        <p:blipFill>
          <a:blip r:embed="rId1"/>
          <a:srcRect l="395" t="829" r="-369" b="-790"/>
          <a:stretch/>
        </p:blipFill>
        <p:spPr>
          <a:xfrm>
            <a:off x="1116000" y="1995480"/>
            <a:ext cx="70610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7:26:21Z</dcterms:created>
  <dc:creator>Kevin B</dc:creator>
  <dc:description/>
  <dc:language>en-US</dc:language>
  <cp:lastModifiedBy>Kevin B</cp:lastModifiedBy>
  <dcterms:modified xsi:type="dcterms:W3CDTF">2012-12-01T21:29:55Z</dcterms:modified>
  <cp:revision>20</cp:revision>
  <dc:subject/>
  <dc:title>PowerPoint Presentation</dc:title>
</cp:coreProperties>
</file>