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6C07-8BBA-4298-92D0-F1D7AE333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D34A-6C3F-44F6-889B-421215C8D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E8E9-95A2-4C9B-A9E4-BDC621A5B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D75D-4019-4603-83B7-0A55BBE0BD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B015-A679-43B4-BE23-9FE13F101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9865E-00FF-4392-BA27-DA410AD97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E8AD-E682-49C7-ADDF-A558B12D9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6D4A-679B-4718-947A-B18AF1C2C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EC31-4366-467A-AB36-309C737BD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E20B-A641-47B9-9500-70E85C0E9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D182-5840-43D0-8352-D2D38E74A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76D9-5EFC-43E3-8C50-4C74E50DF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EB8834-3EC9-4131-AC62-74360C13152D}" type="slidenum">
              <a:rPr b="0" lang="en-A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20351" r="0" b="2726"/>
          <a:stretch/>
        </p:blipFill>
        <p:spPr>
          <a:xfrm>
            <a:off x="-4284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81080" y="3584520"/>
            <a:ext cx="12331800" cy="43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20351" r="0" b="2726"/>
          <a:stretch/>
        </p:blipFill>
        <p:spPr>
          <a:xfrm>
            <a:off x="-4284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81080" y="3584520"/>
            <a:ext cx="12331800" cy="43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20351" r="0" b="2726"/>
          <a:stretch/>
        </p:blipFill>
        <p:spPr>
          <a:xfrm>
            <a:off x="-4284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981080" y="3584520"/>
            <a:ext cx="12331800" cy="49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20351" r="0" b="2726"/>
          <a:stretch/>
        </p:blipFill>
        <p:spPr>
          <a:xfrm>
            <a:off x="-4284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981080" y="3584520"/>
            <a:ext cx="12331800" cy="49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-1119240"/>
            <a:ext cx="8229600" cy="70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br>
              <a:rPr sz="5400"/>
            </a:br>
            <a:r>
              <a:rPr b="1" lang="en-AU" sz="8000" spc="-1" strike="noStrike">
                <a:solidFill>
                  <a:srgbClr val="b4e43c"/>
                </a:solidFill>
                <a:latin typeface="Arial"/>
              </a:rPr>
              <a:t>mercy</a:t>
            </a:r>
            <a:r>
              <a:rPr b="0" lang="en-AU" sz="5400" spc="-1" strike="noStrike">
                <a:solidFill>
                  <a:srgbClr val="ffffff"/>
                </a:solidFill>
                <a:latin typeface="Arial"/>
              </a:rPr>
              <a:t>… an infinite and inexhaustible energy within the divine nature which disposes God to be actively compassionate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20351" r="0" b="2726"/>
          <a:stretch/>
        </p:blipFill>
        <p:spPr>
          <a:xfrm>
            <a:off x="-4284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81080" y="3584520"/>
            <a:ext cx="12331800" cy="49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39680" y="512640"/>
            <a:ext cx="9582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15354" r="0" b="4528"/>
          <a:stretch/>
        </p:blipFill>
        <p:spPr>
          <a:xfrm>
            <a:off x="-5544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68760" y="5516640"/>
            <a:ext cx="68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7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AU" sz="7200" spc="-1" strike="noStrike">
                <a:solidFill>
                  <a:srgbClr val="ffffff"/>
                </a:solidFill>
                <a:latin typeface="Arial"/>
              </a:rPr>
              <a:t>joyful worship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15354" r="0" b="4528"/>
          <a:stretch/>
        </p:blipFill>
        <p:spPr>
          <a:xfrm>
            <a:off x="-5544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280" y="5516640"/>
            <a:ext cx="877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7200" spc="-1" strike="noStrike">
                <a:solidFill>
                  <a:srgbClr val="ffffff"/>
                </a:solidFill>
                <a:latin typeface="Arial"/>
              </a:rPr>
              <a:t>.. humble submiss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15354" r="0" b="4528"/>
          <a:stretch/>
        </p:blipFill>
        <p:spPr>
          <a:xfrm>
            <a:off x="-55440" y="0"/>
            <a:ext cx="9199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92680" cy="3716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40000" y="1692360"/>
            <a:ext cx="4762440" cy="3666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43680" y="2843280"/>
            <a:ext cx="400032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16617" r="23184" b="33088"/>
          <a:stretch/>
        </p:blipFill>
        <p:spPr>
          <a:xfrm>
            <a:off x="1332000" y="0"/>
            <a:ext cx="6303960" cy="400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316160" y="3986280"/>
            <a:ext cx="6333840" cy="28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333360"/>
            <a:ext cx="82296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if you have seen me you have seen the Fa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the light of the knowledge of God’s glory displayed in the face of Jesu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the Son is the image of the invisible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1440"/>
            <a:ext cx="822960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8000" spc="-1" strike="noStrike">
                <a:solidFill>
                  <a:srgbClr val="b4e43c"/>
                </a:solidFill>
                <a:latin typeface="Arial"/>
              </a:rPr>
              <a:t>encountering Jesus</a:t>
            </a:r>
            <a:br>
              <a:rPr sz="8000"/>
            </a:br>
            <a:r>
              <a:rPr b="1" lang="en-AU" sz="8000" spc="-1" strike="noStrike">
                <a:solidFill>
                  <a:srgbClr val="b4e43c"/>
                </a:solidFill>
                <a:latin typeface="Arial"/>
              </a:rPr>
              <a:t>=</a:t>
            </a:r>
            <a:br>
              <a:rPr sz="8000"/>
            </a:br>
            <a:r>
              <a:rPr b="1" lang="en-AU" sz="8000" spc="-1" strike="noStrike">
                <a:solidFill>
                  <a:srgbClr val="b4e43c"/>
                </a:solidFill>
                <a:latin typeface="Arial"/>
              </a:rPr>
              <a:t>encountering </a:t>
            </a:r>
            <a:br>
              <a:rPr sz="8000"/>
            </a:br>
            <a:r>
              <a:rPr b="1" lang="en-AU" sz="8000" spc="-1" strike="noStrike">
                <a:solidFill>
                  <a:srgbClr val="b4e43c"/>
                </a:solidFill>
                <a:latin typeface="Arial"/>
              </a:rPr>
              <a:t>Go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115920"/>
            <a:ext cx="88567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nd Mary sa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y soul glorifies the Lord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nd my spirit rejoices in God my Saviour,</a:t>
            </a:r>
            <a:br>
              <a:rPr sz="3200"/>
            </a:br>
            <a:r>
              <a:rPr b="1" lang="en-AU" sz="3200" spc="-1" strike="noStrike" baseline="30000">
                <a:solidFill>
                  <a:srgbClr val="ffffff"/>
                </a:solidFill>
                <a:latin typeface="Arial"/>
              </a:rPr>
              <a:t> </a:t>
            </a:r>
            <a:r>
              <a:rPr b="1" lang="en-AU" sz="32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or he has been mindful of the humble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ate of his servant.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rom now on all generations will call me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lessed,</a:t>
            </a:r>
            <a:br>
              <a:rPr sz="3200"/>
            </a:br>
            <a:r>
              <a:rPr b="1" lang="en-AU" sz="3200" spc="-1" strike="noStrike" baseline="30000">
                <a:solidFill>
                  <a:srgbClr val="ffffff"/>
                </a:solidFill>
                <a:latin typeface="Arial"/>
              </a:rPr>
              <a:t> 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or the Mighty One has done great things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or me - holy is his name.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s mercy extends to those who fear him,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rom generation to generation.</a:t>
            </a:r>
            <a:br>
              <a:rPr sz="3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404640"/>
            <a:ext cx="8712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e has performed mighty deeds with his arm;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e has scattered those who are proud in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most thoughts.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e has brought down rulers from their thrones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ut has lifted up the humble.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e has filled the hungry with good things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ut has sent the rich away empty.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e has helped his servant Israel,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membering to be merciful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o Abraham and his descendants forever,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just as he promised our ancestor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1440"/>
            <a:ext cx="822960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8000" spc="-1" strike="noStrike">
                <a:solidFill>
                  <a:srgbClr val="b4e43c"/>
                </a:solidFill>
                <a:latin typeface="Arial"/>
              </a:rPr>
              <a:t>encountering Jesus</a:t>
            </a:r>
            <a:br>
              <a:rPr sz="8000"/>
            </a:br>
            <a:r>
              <a:rPr b="1" lang="en-AU" sz="8000" spc="-1" strike="noStrike">
                <a:solidFill>
                  <a:srgbClr val="b4e43c"/>
                </a:solidFill>
                <a:latin typeface="Arial"/>
              </a:rPr>
              <a:t>=</a:t>
            </a:r>
            <a:br>
              <a:rPr sz="8000"/>
            </a:br>
            <a:r>
              <a:rPr b="1" lang="en-AU" sz="8000" spc="-1" strike="noStrike">
                <a:solidFill>
                  <a:srgbClr val="b4e43c"/>
                </a:solidFill>
                <a:latin typeface="Arial"/>
              </a:rPr>
              <a:t>encountering </a:t>
            </a:r>
            <a:br>
              <a:rPr sz="8000"/>
            </a:br>
            <a:r>
              <a:rPr b="1" lang="en-AU" sz="8000" spc="-1" strike="noStrike">
                <a:solidFill>
                  <a:srgbClr val="b4e43c"/>
                </a:solidFill>
                <a:latin typeface="Arial"/>
              </a:rPr>
              <a:t>Go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20351" r="0" b="2726"/>
          <a:stretch/>
        </p:blipFill>
        <p:spPr>
          <a:xfrm>
            <a:off x="-4284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208080" y="4475160"/>
            <a:ext cx="9510840" cy="5772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21:40:13Z</dcterms:created>
  <dc:creator>Kevin Bird</dc:creator>
  <dc:description/>
  <dc:language>en-US</dc:language>
  <cp:lastModifiedBy>Kevin B</cp:lastModifiedBy>
  <dcterms:modified xsi:type="dcterms:W3CDTF">2013-01-05T22:30:34Z</dcterms:modified>
  <cp:revision>48</cp:revision>
  <dc:subject/>
  <dc:title>Slide 1</dc:title>
</cp:coreProperties>
</file>