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D93E5-C6DC-40CC-A920-2953DEA93E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8A4EF-4A4B-4D10-AD81-4B0E520CE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9DEBE0-2E07-4B3E-AE1E-1EB5A09F7E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D8131-2C9B-4133-83D2-31B63F5F3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65E63-0781-487E-969B-5E24567EF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91D2F-D982-412E-A9FC-B437AD1D5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4D43A-7EC5-432C-83ED-531FB9850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608EF-82DC-462C-B668-CE1AE826D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4E663-FA21-42E5-B971-5A3FD3AC0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CECCF-18C9-4D44-9046-1A506C589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1C524-F45A-42C7-A410-F8C027A2B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75111-8B20-40BE-A83F-A5948DEAE7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939C2-F452-49DC-96B1-825313DB0816}" type="slidenum">
              <a:rPr b="0" lang="en-A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39640" y="1052640"/>
            <a:ext cx="80647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Black"/>
                <a:ea typeface="Arial Unicode MS"/>
              </a:rPr>
              <a:t>Discipleship and the Law</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Arial Unicode MS"/>
              </a:rPr>
              <a:t>Galatians 3:19-2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0"/>
            <a:ext cx="91440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Black"/>
                <a:ea typeface="新細明體"/>
              </a:rPr>
              <a:t>What, then, is the purpose of the laws given to Moses? They were added to identify what wrongdoing is. Moses' laws did this until the descendant to whom the </a:t>
            </a:r>
            <a:r>
              <a:rPr b="1" lang="en-AU" sz="3200" spc="-1" strike="noStrike">
                <a:solidFill>
                  <a:srgbClr val="ffffff"/>
                </a:solidFill>
                <a:latin typeface="Arial Black"/>
                <a:ea typeface="新細明體"/>
              </a:rPr>
              <a:t>promise</a:t>
            </a:r>
            <a:r>
              <a:rPr b="0" lang="en-AU" sz="3200" spc="-1" strike="noStrike">
                <a:solidFill>
                  <a:srgbClr val="ffffff"/>
                </a:solidFill>
                <a:latin typeface="Arial Black"/>
                <a:ea typeface="新細明體"/>
              </a:rPr>
              <a:t> was given came. It was put into effect through angels, using a mediator. A mediator is not used when there is only one person involved, and God has acted on his own. Does this mean, then, that the laws given to Moses contradict God's</a:t>
            </a:r>
            <a:r>
              <a:rPr b="1" lang="en-AU" sz="3200" spc="-1" strike="noStrike">
                <a:solidFill>
                  <a:srgbClr val="ffffff"/>
                </a:solidFill>
                <a:latin typeface="Arial Black"/>
                <a:ea typeface="新細明體"/>
              </a:rPr>
              <a:t> promises</a:t>
            </a:r>
            <a:r>
              <a:rPr b="0" lang="en-AU" sz="3200" spc="-1" strike="noStrike">
                <a:solidFill>
                  <a:srgbClr val="ffffff"/>
                </a:solidFill>
                <a:latin typeface="Arial Black"/>
                <a:ea typeface="新細明體"/>
              </a:rPr>
              <a:t>?</a:t>
            </a:r>
            <a:r>
              <a:rPr b="0" lang="en-AU" sz="3200" spc="-1" strike="noStrike">
                <a:solidFill>
                  <a:srgbClr val="ffffff"/>
                </a:solidFill>
                <a:latin typeface="Arial"/>
                <a:ea typeface="新細明體"/>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0" y="981000"/>
            <a:ext cx="91440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Black"/>
                <a:ea typeface="新細明體"/>
              </a:rPr>
              <a:t>That's unthinkable! If those laws could give us life, then certainly we would receive God's approval because we obeyed them. But Scripture states that the whole world is controlled by the power of sin. Therefore, a </a:t>
            </a:r>
            <a:r>
              <a:rPr b="1" lang="en-AU" sz="3200" spc="-1" strike="noStrike">
                <a:solidFill>
                  <a:srgbClr val="ffffff"/>
                </a:solidFill>
                <a:latin typeface="Arial Black"/>
                <a:ea typeface="新細明體"/>
              </a:rPr>
              <a:t>promise</a:t>
            </a:r>
            <a:r>
              <a:rPr b="0" lang="en-AU" sz="3200" spc="-1" strike="noStrike">
                <a:solidFill>
                  <a:srgbClr val="ffffff"/>
                </a:solidFill>
                <a:latin typeface="Arial Black"/>
                <a:ea typeface="新細明體"/>
              </a:rPr>
              <a:t> based on faith in Jesus Christ could be given to those who believe.</a:t>
            </a:r>
            <a:r>
              <a:rPr b="0" lang="en-AU" sz="3200" spc="-1" strike="noStrike">
                <a:solidFill>
                  <a:srgbClr val="ffffff"/>
                </a:solidFill>
                <a:latin typeface="Arial"/>
                <a:ea typeface="新細明體"/>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0" y="0"/>
            <a:ext cx="9144000" cy="533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1. </a:t>
            </a:r>
            <a:r>
              <a:rPr b="1" lang="en-US" sz="3200" spc="-1" strike="noStrike" u="sng">
                <a:solidFill>
                  <a:srgbClr val="ffff00"/>
                </a:solidFill>
                <a:uFillTx/>
                <a:latin typeface="Arial Black"/>
              </a:rPr>
              <a:t>WHY</a:t>
            </a:r>
            <a:r>
              <a:rPr b="1" lang="en-US" sz="3200" spc="-1" strike="noStrike">
                <a:solidFill>
                  <a:srgbClr val="ffffff"/>
                </a:solidFill>
                <a:latin typeface="Arial Black"/>
              </a:rPr>
              <a:t> the Law? (verse 19)</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
            </a:r>
            <a:r>
              <a:rPr b="0" lang="en-US" sz="2400" spc="-1" strike="noStrike">
                <a:solidFill>
                  <a:srgbClr val="ffffff"/>
                </a:solidFill>
                <a:latin typeface="Arial Black"/>
              </a:rPr>
              <a:t>The people of Israel tried to gain God's approval by obeying Moses' Teachings, but they did not reach their goal. Why? They didn't rely on faith to gain God's approval, but they relied on their own effort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Romans 9:31-32 GW</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ey don't understand how to receive God's approval. So they try to set up their own way to get it, and they have not accepted God's way for receiving his approval.”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Romans 10: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
                                            <p:txEl>
                                              <p:pRg st="3" end="3"/>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44">
                                            <p:txEl>
                                              <p:pRg st="4" end="4"/>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4">
                                            <p:txEl>
                                              <p:pRg st="7" end="7"/>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0" y="0"/>
            <a:ext cx="9144000" cy="5853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2. </a:t>
            </a:r>
            <a:r>
              <a:rPr b="1" lang="en-US" sz="3200" spc="-1" strike="noStrike" u="sng">
                <a:solidFill>
                  <a:srgbClr val="ffff00"/>
                </a:solidFill>
                <a:uFillTx/>
                <a:latin typeface="Arial Black"/>
              </a:rPr>
              <a:t>WHAT</a:t>
            </a:r>
            <a:r>
              <a:rPr b="1" lang="en-US" sz="3200" spc="-1" strike="noStrike">
                <a:solidFill>
                  <a:srgbClr val="ffffff"/>
                </a:solidFill>
                <a:latin typeface="Arial Black"/>
              </a:rPr>
              <a:t> does the Law reveal? (verses 20-21)</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a. The Law </a:t>
            </a:r>
            <a:r>
              <a:rPr b="1" lang="en-US" sz="2800" spc="-1" strike="noStrike" u="sng">
                <a:solidFill>
                  <a:srgbClr val="ffff00"/>
                </a:solidFill>
                <a:uFillTx/>
                <a:latin typeface="Arial Black"/>
              </a:rPr>
              <a:t>FLUSHES</a:t>
            </a:r>
            <a:r>
              <a:rPr b="1" lang="en-US" sz="2800" spc="-1" strike="noStrike">
                <a:solidFill>
                  <a:srgbClr val="ffffff"/>
                </a:solidFill>
                <a:latin typeface="Arial Black"/>
              </a:rPr>
              <a:t> sin into the open</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b. The Law </a:t>
            </a:r>
            <a:r>
              <a:rPr b="1" lang="en-US" sz="2800" spc="-1" strike="noStrike" u="sng">
                <a:solidFill>
                  <a:srgbClr val="ffff00"/>
                </a:solidFill>
                <a:uFillTx/>
                <a:latin typeface="Arial Black"/>
              </a:rPr>
              <a:t>STIRS</a:t>
            </a:r>
            <a:r>
              <a:rPr b="1" lang="en-US" sz="2800" spc="-1" strike="noStrike">
                <a:solidFill>
                  <a:srgbClr val="ffffff"/>
                </a:solidFill>
                <a:latin typeface="Arial Black"/>
              </a:rPr>
              <a:t> up more sin</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
            </a:r>
            <a:r>
              <a:rPr b="0" lang="en-US" sz="2400" spc="-1" strike="noStrike">
                <a:solidFill>
                  <a:srgbClr val="ffffff"/>
                </a:solidFill>
                <a:latin typeface="Arial Black"/>
              </a:rPr>
              <a:t>The Law came, so that the full power of sin could be seen. Yet where sin was powerful, God's kindness was even more powerful.”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Romans 5:20</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
            </a:r>
            <a:r>
              <a:rPr b="0" lang="en-US" sz="2400" spc="-1" strike="noStrike">
                <a:solidFill>
                  <a:srgbClr val="ffffff"/>
                </a:solidFill>
                <a:latin typeface="Arial Black"/>
              </a:rPr>
              <a:t>When we thought only of ourselves, the Law made us have sinful desires. It made every part of our bodies into slaves who are doomed to die.”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Romans 7: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5">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5">
                                            <p:txEl>
                                              <p:pRg st="4" end="4"/>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5">
                                            <p:txEl>
                                              <p:pRg st="6" end="6"/>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45">
                                            <p:txEl>
                                              <p:pRg st="7" end="7"/>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
                                            <p:txEl>
                                              <p:pRg st="9" end="9"/>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4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0" y="0"/>
            <a:ext cx="9144000" cy="707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3. </a:t>
            </a:r>
            <a:r>
              <a:rPr b="1" lang="en-US" sz="3200" spc="-1" strike="noStrike" u="sng">
                <a:solidFill>
                  <a:srgbClr val="ffff00"/>
                </a:solidFill>
                <a:uFillTx/>
                <a:latin typeface="Arial Black"/>
              </a:rPr>
              <a:t>WHERE</a:t>
            </a:r>
            <a:r>
              <a:rPr b="1" lang="en-US" sz="3200" spc="-1" strike="noStrike">
                <a:solidFill>
                  <a:srgbClr val="ffffff"/>
                </a:solidFill>
                <a:latin typeface="Arial Black"/>
              </a:rPr>
              <a:t> does the Law lead? (verse 22)</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The Lord your God will circumcise your heart . . . so that you will love the Lord your God with all your heart and with all your soul."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Black"/>
              </a:rPr>
              <a:t>Deuteronomy 30:6</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After those days, says the Lord, I will put my law within them, and I will write it upon their heart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Black"/>
              </a:rPr>
              <a:t>Jeremiah 31:33</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A new heart I will give you (says the Lord), and a new spirit I will put within you; and I will take out of your flesh the heart of stone and give you a heart of flesh. And I will put my spirit within you, and cause you to walk in my statutes and be careful to observe my ordinance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Black"/>
              </a:rPr>
              <a:t>Ezekiel 36:26</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6">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46">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46">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6">
                                            <p:txEl>
                                              <p:pRg st="8" end="8"/>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0" y="0"/>
            <a:ext cx="9144000" cy="6586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e soul that sinneth, it shall die …" </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rPr>
              <a:t>Ezekiel 18:20</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r>
              <a:rPr b="1" lang="en-AU" sz="2400" spc="-1" strike="noStrike">
                <a:solidFill>
                  <a:srgbClr val="ffffff"/>
                </a:solidFill>
                <a:latin typeface="Arial"/>
              </a:rPr>
              <a:t>But you must never eat from the tree of the knowledge of good and evil because when you eat from it, you will certainly die." “</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rPr>
              <a:t>Genesis 2:17 </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will by no means clear the guilty….". </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rPr>
              <a:t>Exodus 34:7</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the Law of Moses brought only the promise of death …" </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rPr>
              <a:t>2 Corinthians 3:7</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here sin abounded, grace much more abounded" </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rPr>
              <a:t>Romans 5:20</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47">
                                            <p:txEl>
                                              <p:pRg st="1" end="1"/>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7">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7">
                                            <p:txEl>
                                              <p:pRg st="4" end="4"/>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47">
                                            <p:txEl>
                                              <p:pRg st="5" end="5"/>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47">
                                            <p:txEl>
                                              <p:pRg st="7" end="7"/>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47">
                                            <p:txEl>
                                              <p:pRg st="8" end="8"/>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7">
                                            <p:txEl>
                                              <p:pRg st="10" end="10"/>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7">
                                            <p:txEl>
                                              <p:pRg st="11" end="1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47">
                                            <p:txEl>
                                              <p:pRg st="13" end="13"/>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47">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9T03:05:01Z</dcterms:created>
  <dc:creator>RogLang</dc:creator>
  <dc:description/>
  <dc:language>en-US</dc:language>
  <cp:lastModifiedBy>N Jarrrott</cp:lastModifiedBy>
  <dcterms:modified xsi:type="dcterms:W3CDTF">2010-07-04T09:28:30Z</dcterms:modified>
  <cp:revision>2</cp:revision>
  <dc:subject/>
  <dc:title>Slide 1</dc:title>
</cp:coreProperties>
</file>