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9C153-4EA3-477A-B29A-B487AD57B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1E4C0-0E3F-41B4-BFCB-D904F6D5E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10D87-CA24-4BBA-BAB3-1875ADC4A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1A925-9C9D-4DE7-9710-15240F691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F7708-A61A-49A3-9FDB-68E369319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4E80D-4F6B-4EA2-872D-3695981AD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EEE64-D4F6-449A-AF2C-538704CB3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5A7C6-8CA6-40C4-917D-FD63B095E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159AD-11AC-40B5-8AD0-3FC8BD596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F88C8-DAB0-45AC-97FE-AD12E2C9D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34172-013A-4B4A-8156-A09387818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90331-C88E-4FDA-873D-DAF0505D7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8674B-3E5D-421B-B042-F8E965C21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FF5D6-98D5-4E1D-9408-895B58223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F6758-36F1-4045-A376-58B73AAA7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A24D8-4974-4ED0-928C-40A124154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C8DED-E694-4B99-BCBD-C425EC8F2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6F173-0B9F-4CFD-B705-1396961D5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5F58-6951-4996-879D-35965B332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FF7FC-F9E4-49C4-A8EB-0F3976574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F2E36-DFA7-4C70-AC7F-D207C1CAE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13C5-3EF1-4C21-99CE-3AD08553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6171-3F85-4B16-8030-961DEC29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F75CB-EE1F-46E0-A3C0-E07416E16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7271-CE9C-4C5F-BF01-83C42F337050}" type="slidenum">
              <a:rPr b="0" lang="en-A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187E-F160-4CF9-A59B-2A2056652CB2}" type="slidenum">
              <a:rPr b="0" lang="en-AU"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907920"/>
            <a:ext cx="9144000" cy="356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ea typeface="Arial Unicode MS"/>
              </a:rPr>
              <a:t>Disciples are Heirs of Christ by Faith Alone</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Arial Unicode MS"/>
              </a:rPr>
              <a:t>Galatians 3:23-2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
          <p:cNvSpPr/>
          <p:nvPr/>
        </p:nvSpPr>
        <p:spPr>
          <a:xfrm>
            <a:off x="0" y="33336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Black"/>
                <a:ea typeface="新細明體"/>
              </a:rPr>
              <a:t>We were kept under control by Moses' laws until this faith came. We were under their control until this faith which was about to come would be revealed. Before Christ came, Moses' laws served as our guardian. Christ came so that we could receive God's approval by faith. But now that this faith has come, we are no longer under the control of a guardian.</a:t>
            </a:r>
            <a:r>
              <a:rPr b="0" lang="en-AU" sz="3600" spc="-1" strike="noStrike">
                <a:solidFill>
                  <a:srgbClr val="ffffff"/>
                </a:solidFill>
                <a:latin typeface="Arial Black"/>
                <a:ea typeface="新細明體"/>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
          <p:cNvSpPr/>
          <p:nvPr/>
        </p:nvSpPr>
        <p:spPr>
          <a:xfrm>
            <a:off x="0" y="33336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Black"/>
                <a:ea typeface="新細明體"/>
              </a:rPr>
              <a:t>You are all God's children by believing in Christ Jesus. Clearly, all of you who were baptized in Christ's name have clothed yourselves with Christ. There are neither Jews nor Greeks, slaves nor free people, males nor females. You are all the same in Christ Jesus. If you belong to Christ, then you are Abraham's descendants and heirs, as God promised.</a:t>
            </a:r>
            <a:r>
              <a:rPr b="0" lang="en-AU" sz="1800" spc="-1" strike="noStrike">
                <a:solidFill>
                  <a:srgbClr val="ffffff"/>
                </a:solidFill>
                <a:latin typeface="Tahoma"/>
                <a:ea typeface="新細明體"/>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
          <p:cNvSpPr/>
          <p:nvPr/>
        </p:nvSpPr>
        <p:spPr>
          <a:xfrm>
            <a:off x="0" y="620640"/>
            <a:ext cx="9144000" cy="451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1. Law </a:t>
            </a:r>
            <a:r>
              <a:rPr b="1" lang="en-US" sz="3200" spc="-1" strike="noStrike" u="sng">
                <a:solidFill>
                  <a:srgbClr val="ffff00"/>
                </a:solidFill>
                <a:uFillTx/>
                <a:latin typeface="Arial Black"/>
              </a:rPr>
              <a:t>ACTED</a:t>
            </a:r>
            <a:r>
              <a:rPr b="1" lang="en-US" sz="3200" spc="-1" strike="noStrike">
                <a:solidFill>
                  <a:srgbClr val="ffffff"/>
                </a:solidFill>
                <a:latin typeface="Arial Black"/>
              </a:rPr>
              <a:t> like a Guardian </a:t>
            </a:r>
            <a:r>
              <a:rPr b="1" lang="en-US" sz="3200" spc="-1" strike="noStrike" u="sng">
                <a:solidFill>
                  <a:srgbClr val="ffff00"/>
                </a:solidFill>
                <a:uFillTx/>
                <a:latin typeface="Arial Black"/>
              </a:rPr>
              <a:t>LEADING</a:t>
            </a:r>
            <a:r>
              <a:rPr b="1" lang="en-US" sz="3200" spc="-1" strike="noStrike">
                <a:solidFill>
                  <a:srgbClr val="ffffff"/>
                </a:solidFill>
                <a:latin typeface="Arial Black"/>
              </a:rPr>
              <a:t> to Faith (23-26)</a:t>
            </a:r>
            <a:r>
              <a:rPr b="1" lang="en-US" sz="2800" spc="-1" strike="noStrike">
                <a:solidFill>
                  <a:srgbClr val="ffffff"/>
                </a:solidFill>
                <a:latin typeface="Arial Black"/>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 law was like those Greek tutors, with which you are familiar, who escort children to school and protect them from danger or distraction, making sure the children will really get to the place they set out fo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Galatians 3:24-25 (MS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0" y="620640"/>
            <a:ext cx="9144000" cy="39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2. Faith </a:t>
            </a:r>
            <a:r>
              <a:rPr b="1" lang="en-US" sz="3200" spc="-1" strike="noStrike" u="sng">
                <a:solidFill>
                  <a:srgbClr val="ffff00"/>
                </a:solidFill>
                <a:uFillTx/>
                <a:latin typeface="Arial Black"/>
              </a:rPr>
              <a:t>MAKES</a:t>
            </a:r>
            <a:r>
              <a:rPr b="1" lang="en-US" sz="3200" spc="-1" strike="noStrike">
                <a:solidFill>
                  <a:srgbClr val="ffffff"/>
                </a:solidFill>
                <a:latin typeface="Arial Black"/>
              </a:rPr>
              <a:t> all who believe to </a:t>
            </a:r>
            <a:r>
              <a:rPr b="1" lang="en-US" sz="3200" spc="-1" strike="noStrike" u="sng">
                <a:solidFill>
                  <a:srgbClr val="ffff00"/>
                </a:solidFill>
                <a:uFillTx/>
                <a:latin typeface="Arial Black"/>
              </a:rPr>
              <a:t>BECOME</a:t>
            </a:r>
            <a:r>
              <a:rPr b="1" lang="en-US" sz="3200" spc="-1" strike="noStrike">
                <a:solidFill>
                  <a:srgbClr val="ffffff"/>
                </a:solidFill>
                <a:latin typeface="Arial Black"/>
              </a:rPr>
              <a:t> children of God (26-27)</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But as many as received Him, He gave to them authority to become the children of God, to those who believe on His nam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John 1: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
          <p:cNvSpPr/>
          <p:nvPr/>
        </p:nvSpPr>
        <p:spPr>
          <a:xfrm>
            <a:off x="0" y="620640"/>
            <a:ext cx="9144000" cy="46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3. Children of God </a:t>
            </a:r>
            <a:r>
              <a:rPr b="1" lang="en-US" sz="3200" spc="-1" strike="noStrike" u="sng">
                <a:solidFill>
                  <a:srgbClr val="ffff00"/>
                </a:solidFill>
                <a:uFillTx/>
                <a:latin typeface="Arial Black"/>
              </a:rPr>
              <a:t>INHERIT </a:t>
            </a:r>
            <a:r>
              <a:rPr b="1" lang="en-US" sz="3200" spc="-1" strike="noStrike">
                <a:solidFill>
                  <a:srgbClr val="ffffff"/>
                </a:solidFill>
                <a:latin typeface="Arial Black"/>
              </a:rPr>
              <a:t>the benefits of Faith (28-29)</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re is neither Jew nor Greek."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re are neither slaves nor free peo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re is neither male nor female."</a:t>
            </a:r>
            <a:r>
              <a:rPr b="0" lang="en-US" sz="1800" spc="-1" strike="noStrike">
                <a:solidFill>
                  <a:srgbClr val="ffffff"/>
                </a:solidFill>
                <a:latin typeface="Arial Black"/>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
          <p:cNvSpPr/>
          <p:nvPr/>
        </p:nvSpPr>
        <p:spPr>
          <a:xfrm>
            <a:off x="0" y="0"/>
            <a:ext cx="9144000" cy="569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ea typeface="新細明體"/>
              </a:rPr>
              <a:t>RESPONS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ea typeface="新細明體"/>
              </a:rPr>
              <a:t>And may God, the source of patience and encouragement, enable you to have the same point of view among yourselves by following the example of Christ Jesus, so that all of you together may praise with one voice the God and Father of our Lord Jesus Christ. Accept one another, then, for the glory of God, as Christ has accepted you.</a:t>
            </a:r>
            <a:r>
              <a:rPr b="0" lang="en-AU" sz="3600" spc="-1" strike="noStrike">
                <a:solidFill>
                  <a:srgbClr val="ffffff"/>
                </a:solidFill>
                <a:latin typeface="Arial Black"/>
                <a:ea typeface="新細明體"/>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p:nvPr/>
        </p:nvSpPr>
        <p:spPr>
          <a:xfrm>
            <a:off x="0" y="692280"/>
            <a:ext cx="9144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ea typeface="新細明體"/>
              </a:rPr>
              <a:t>For I tell you that Christ's life of service was on behalf of the Jews, to show that God is faithful, to make his promises to their ancestors come true, and to enable even the Gentiles to praise God for his mercy. As the scripture says, "And so I will praise you among the Gentiles; I will sing praises to you." Again it says, "Rejoice, Gentiles, with God's peop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
          <p:cNvSpPr/>
          <p:nvPr/>
        </p:nvSpPr>
        <p:spPr>
          <a:xfrm>
            <a:off x="0" y="69228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d again, "Praise the Lord, all Gentiles; praise him, all peoples!" And again, Isaiah says, "A descendant of Jesse will appear; he will come to rule the Gentiles, and they will put their hope in him." May God, the source of hope, fill you with all joy and peace by means of your faith in him, so that your hope will continue to grow by the power of the Holy Spiri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Romans 15:5-13 GN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04:37:55Z</dcterms:created>
  <dc:creator>RogLang</dc:creator>
  <dc:description/>
  <dc:language>en-US</dc:language>
  <cp:lastModifiedBy>RogLang</cp:lastModifiedBy>
  <dcterms:modified xsi:type="dcterms:W3CDTF">2010-07-10T06:30:34Z</dcterms:modified>
  <cp:revision>2</cp:revision>
  <dc:subject/>
  <dc:title>Slide 1</dc:title>
</cp:coreProperties>
</file>