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E08-C64F-4CE3-966E-B89B298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C38-34A6-4E03-BD21-C3FE9E71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4F5-1EC4-4AFD-AE6B-6260D486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101-C3FA-4815-8E8C-EF76BD2C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45C-3E88-4C71-BB87-8974092D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321-5DC2-4942-BC05-BB89414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885-8204-4E37-BC0C-009BE170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56A-09B2-4A11-AD38-F32A4F4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A97-0651-48FB-859D-746DA4D9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D1D-B421-457A-B642-72E8D9B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26E-D527-4DD5-9B39-4EDD4BF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4D8-C05C-4054-BE63-F5DB2C2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B56-B932-4B94-B3AE-770024F8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A four letter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773360"/>
            <a:ext cx="79916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ow can I get my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mind and heart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round this?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2565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rbel"/>
              </a:rPr>
              <a:t>GRACE Adventu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5084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www.graceadv.o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907920"/>
            <a:ext cx="820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seeking to be part of </a:t>
            </a: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od’s plan globally and locally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-  </a:t>
            </a: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evealing Jesus and His message to others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venture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ooperation and teamwork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terprise and innovation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36640"/>
            <a:ext cx="8064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an a four letter word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Love,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replac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nother four letter word –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Hat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692280"/>
            <a:ext cx="748836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r identity is not to be in any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osition,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ut in a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erson</a:t>
            </a:r>
            <a:r>
              <a:rPr b="0" lang="en-A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2924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ork is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orship</a:t>
            </a:r>
            <a:r>
              <a:rPr b="0" lang="en-A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5920"/>
            <a:ext cx="78483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ince work is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orship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 your work needs to be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Good Work</a:t>
            </a: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773360"/>
            <a:ext cx="74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r work needs proper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motivatio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f it is to be an act of wo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2349360"/>
            <a:ext cx="7490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Good work is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Gospel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driven</a:t>
            </a:r>
            <a:r>
              <a:rPr b="0" lang="en-A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20:11:40Z</dcterms:created>
  <dc:creator>Vinay Koshy</dc:creator>
  <dc:description/>
  <dc:language>en-US</dc:language>
  <cp:lastModifiedBy>Vinay Koshy</cp:lastModifiedBy>
  <dcterms:modified xsi:type="dcterms:W3CDTF">2010-08-07T01:03:52Z</dcterms:modified>
  <cp:revision>15</cp:revision>
  <dc:subject/>
  <dc:title>WORK</dc:title>
</cp:coreProperties>
</file>